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400" y="4433760"/>
            <a:ext cx="502776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18960" y="887400"/>
            <a:ext cx="4421160" cy="30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00600" y="11160"/>
            <a:ext cx="2989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00600" y="8848800"/>
            <a:ext cx="29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31680" y="8848800"/>
            <a:ext cx="298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1680" y="11160"/>
            <a:ext cx="29876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914400" y="4433760"/>
            <a:ext cx="50277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ldImg"/>
          </p:nvPr>
        </p:nvSpPr>
        <p:spPr>
          <a:xfrm>
            <a:off x="1219320" y="887400"/>
            <a:ext cx="4421160" cy="3060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15800" y="1298520"/>
            <a:ext cx="7250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15800" y="3816360"/>
            <a:ext cx="7250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15800" y="129852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30640" y="129852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15800" y="381636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30640" y="381636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15800" y="1298520"/>
            <a:ext cx="23342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040" y="1298520"/>
            <a:ext cx="23342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18640" y="1298520"/>
            <a:ext cx="23342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15800" y="3816360"/>
            <a:ext cx="23342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67040" y="3816360"/>
            <a:ext cx="23342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18640" y="3816360"/>
            <a:ext cx="23342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15800" y="1298520"/>
            <a:ext cx="72500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15800" y="1298520"/>
            <a:ext cx="72500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15800" y="1298520"/>
            <a:ext cx="35377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30640" y="1298520"/>
            <a:ext cx="35377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14360" y="414360"/>
            <a:ext cx="735156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15800" y="129852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0640" y="1298520"/>
            <a:ext cx="35377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15800" y="381636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15800" y="1298520"/>
            <a:ext cx="35377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0640" y="129852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0640" y="381636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15800" y="129852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0640" y="1298520"/>
            <a:ext cx="353772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15800" y="3816360"/>
            <a:ext cx="7250040" cy="22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14360" y="414360"/>
            <a:ext cx="735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8440" y="6675480"/>
            <a:ext cx="1180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ivision - Name - Date - Langua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5680" y="6238800"/>
            <a:ext cx="918684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15800" y="1298520"/>
            <a:ext cx="72500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1160">
              <a:spcBef>
                <a:spcPts val="451"/>
              </a:spcBef>
              <a:buClr>
                <a:srgbClr val="008000"/>
              </a:buClr>
              <a:buSzPct val="80000"/>
              <a:buFont typeface="Wingdings" charset="2"/>
              <a:buChar char="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263520">
              <a:spcBef>
                <a:spcPts val="451"/>
              </a:spcBef>
              <a:buClr>
                <a:srgbClr val="008000"/>
              </a:buClr>
              <a:buSzPct val="85000"/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90440"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190440"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8160" y="6686640"/>
            <a:ext cx="85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fld id="{C3AAAA7A-8CFC-4713-BAF1-707C6421B3D0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114800" y="6332400"/>
            <a:ext cx="1079640" cy="466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906120" cy="28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3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duct &amp; Technology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Quality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Excellence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44800" y="257040"/>
            <a:ext cx="194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000"/>
                </a:solidFill>
                <a:latin typeface="Arial"/>
              </a:rPr>
              <a:t>American Global Produc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32448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AGP-PMP_POS_00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3xxxxxx  P01  000       Version  00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1040" y="1752120"/>
            <a:ext cx="59734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5624"/>
              </a:spcAft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Zero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day, Tomorrow and Beyond</a:t>
            </a:r>
            <a:br>
              <a:rPr sz="2600"/>
            </a:br>
            <a:br>
              <a:rPr sz="2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5,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1840" y="5386320"/>
            <a:ext cx="3500640" cy="147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057480"/>
            <a:ext cx="2070000" cy="84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457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roduct &amp;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2057400"/>
            <a:ext cx="5486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1059" t="0" r="6814" b="0"/>
          <a:stretch/>
        </p:blipFill>
        <p:spPr>
          <a:xfrm>
            <a:off x="4114800" y="762120"/>
            <a:ext cx="5437080" cy="784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629400" y="3581280"/>
            <a:ext cx="215748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762120"/>
            <a:ext cx="631980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 – Recent Adv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 version 6 – basic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polar cli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K clicks/se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-through I0/I1 brid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immune rece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6 echo (p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7640" y="772920"/>
            <a:ext cx="7351560" cy="75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– Next Steps and 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25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 nodes/100 meters/100K cli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 – based on IE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– S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0 VAC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products – currently enga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/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yo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752480"/>
            <a:ext cx="7924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ady stream of new nodes (audio, light sensing, H-bridge, wire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N (routing in sensor networks) particip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d noise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5:11:41Z</dcterms:created>
  <dc:creator/>
  <dc:description/>
  <cp:keywords/>
  <dc:language>en-US</dc:language>
  <cp:lastModifiedBy>David Kopp</cp:lastModifiedBy>
  <cp:lastPrinted>2006-05-24T15:12:51Z</cp:lastPrinted>
  <dcterms:modified xsi:type="dcterms:W3CDTF">2007-05-25T02:57:17Z</dcterms:modified>
  <cp:revision>616</cp:revision>
  <dc:subject/>
  <dc:title>AGP-PMP Project Opening Sheet</dc:title>
</cp:coreProperties>
</file>