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9960" y="8609040"/>
            <a:ext cx="44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240" y="8785080"/>
            <a:ext cx="26193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50040" bIns="50040" anchor="t">
            <a:spAutoFit/>
          </a:bodyPr>
          <a:p>
            <a:pPr>
              <a:tabLst>
                <a:tab algn="l" pos="0"/>
                <a:tab algn="l" pos="2387520"/>
                <a:tab algn="l" pos="48308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© 2006, Cisco Systems, Inc. All rights reserved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87520"/>
                <a:tab algn="l" pos="48308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EL 06.10.12.sc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8799480"/>
            <a:ext cx="665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Num" idx="1"/>
          </p:nvPr>
        </p:nvSpPr>
        <p:spPr>
          <a:xfrm>
            <a:off x="5929200" y="8679960"/>
            <a:ext cx="812880" cy="287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73783D3A-CDA9-4AF2-9F42-F29FB27DDF2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marL="112680" indent="-112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in a few years, sensors and other devices will predominate 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 zero holds the promise of IP  of “IP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c0c0c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c0c0c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c0c0c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c0c0c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59b7d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83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KEL 06.10.12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70DFD82-FC3A-403B-8AEC-2945F4262FBF}" type="slidenum">
              <a:rPr b="0" lang="en-US" sz="1000" spc="-1" strike="noStrike">
                <a:solidFill>
                  <a:srgbClr val="8e8e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59b7d9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83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e8e95"/>
                </a:solidFill>
                <a:latin typeface="Arial"/>
              </a:rPr>
              <a:t>KEL 06.10.12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24239AD-EEC1-465D-8495-DDD9F447589A}" type="slidenum">
              <a:rPr b="0" lang="en-US" sz="1000" spc="-1" strike="noStrike">
                <a:solidFill>
                  <a:srgbClr val="8e8e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920"/>
            <a:chOff x="609480" y="528480"/>
            <a:chExt cx="1444680" cy="763920"/>
          </a:xfrm>
        </p:grpSpPr>
        <p:sp>
          <p:nvSpPr>
            <p:cNvPr id="50" name=""/>
            <p:cNvSpPr/>
            <p:nvPr/>
          </p:nvSpPr>
          <p:spPr>
            <a:xfrm>
              <a:off x="1015920" y="1035000"/>
              <a:ext cx="6660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040" y="1028880"/>
              <a:ext cx="190800" cy="26352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1240" y="1028880"/>
              <a:ext cx="190800" cy="26352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680" y="1028880"/>
              <a:ext cx="261720" cy="26352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6760" y="1028880"/>
              <a:ext cx="171360" cy="26352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3320"/>
              <a:ext cx="61920" cy="1285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4080" y="646200"/>
              <a:ext cx="61920" cy="21564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000" y="528480"/>
              <a:ext cx="61920" cy="39528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600" y="646200"/>
              <a:ext cx="61920" cy="21564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3320"/>
              <a:ext cx="66600" cy="12852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3120" y="646200"/>
              <a:ext cx="61920" cy="21564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3360" cy="39528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640" y="646200"/>
              <a:ext cx="61920" cy="21564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0800" y="733320"/>
              <a:ext cx="63360" cy="1285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69252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3440" y="1630440"/>
            <a:ext cx="457056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c0c0c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c0c0c4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1828800"/>
            <a:ext cx="9144000" cy="2743200"/>
            <a:chOff x="0" y="1828800"/>
            <a:chExt cx="9144000" cy="274320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rcRect l="0" t="0" r="-36" b="0"/>
            <a:stretch/>
          </p:blipFill>
          <p:spPr>
            <a:xfrm>
              <a:off x="5029200" y="1830600"/>
              <a:ext cx="411480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0" y="1828800"/>
              <a:ext cx="5038560" cy="2743200"/>
            </a:xfrm>
            <a:prstGeom prst="rect">
              <a:avLst/>
            </a:prstGeom>
            <a:solidFill>
              <a:srgbClr val="018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69252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net 0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gress Re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c0c0c4"/>
                </a:solidFill>
                <a:latin typeface="Arial"/>
              </a:rPr>
              <a:t>Kerry Lynn, Cisco Technology Center</a:t>
            </a:r>
            <a:endParaRPr b="1" lang="en-US" sz="2000" spc="-1" strike="noStrike">
              <a:solidFill>
                <a:srgbClr val="c0c0c4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59b7d9"/>
                </a:solidFill>
                <a:latin typeface="Arial"/>
              </a:rPr>
              <a:t>Evolution in Both Directions</a:t>
            </a: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733920" y="3124080"/>
            <a:ext cx="1904760" cy="1791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119400" cy="2021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657600" y="5028120"/>
            <a:ext cx="17064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b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400" spc="-1" strike="noStrike">
                <a:solidFill>
                  <a:srgbClr val="efb525"/>
                </a:solidFill>
                <a:latin typeface="Arial"/>
              </a:rPr>
              <a:t>ARPANET c. 196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38440" y="3886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59b7d9"/>
          </a:solidFill>
          <a:ln w="9360">
            <a:solidFill>
              <a:srgbClr val="59b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296040" y="33670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59b7d9"/>
          </a:solidFill>
          <a:ln w="9360">
            <a:solidFill>
              <a:srgbClr val="59b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3732840"/>
            <a:ext cx="17067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b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400" spc="-1" strike="noStrike">
                <a:solidFill>
                  <a:srgbClr val="efb525"/>
                </a:solidFill>
                <a:latin typeface="Arial"/>
              </a:rPr>
              <a:t>Internet 1, 2, ..., 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505480" y="4775040"/>
            <a:ext cx="2419200" cy="1816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867280" y="6561720"/>
            <a:ext cx="17067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b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400" spc="-1" strike="noStrike">
                <a:solidFill>
                  <a:srgbClr val="efb525"/>
                </a:solidFill>
                <a:latin typeface="Arial"/>
              </a:rPr>
              <a:t>internet 0 c.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59b7d9"/>
                </a:solidFill>
                <a:latin typeface="Arial"/>
              </a:rPr>
              <a:t>Demo: Interop with Existing Standards</a:t>
            </a:r>
            <a:endParaRPr b="1" lang="en-US" sz="3200" spc="-1" strike="noStrike">
              <a:solidFill>
                <a:srgbClr val="59b7d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59b7d9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0 integrated into a $70 Linksys WRT54GL running OpenW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59b7d9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hernet / 802.11 / i0 interconne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59b7d9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0 interfaced via RS232 + SL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59b7d9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cpdump runs on SLIP 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59b7d9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 (over TCP) to TFTP (over UDP)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5560" y="1305000"/>
            <a:ext cx="69408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5932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8:44:57Z</dcterms:created>
  <dc:creator>Kerry Lynn</dc:creator>
  <dc:description/>
  <cp:keywords/>
  <dc:language>en-US</dc:language>
  <cp:lastModifiedBy>Cisco Systems, Inc.</cp:lastModifiedBy>
  <cp:lastPrinted>1999-01-27T00:54:54Z</cp:lastPrinted>
  <dcterms:modified xsi:type="dcterms:W3CDTF">2007-05-24T19:54:39Z</dcterms:modified>
  <cp:revision>16</cp:revision>
  <dc:subject>Guide for Creating Powerpoint Presentations</dc:subject>
  <dc:title>Before You Begin: Assign Information Class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