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3.wmf" ContentType="image/x-wmf"/>
  <Override PartName="/ppt/media/image8.wmf" ContentType="image/x-wmf"/>
  <Override PartName="/ppt/media/image10.wmf" ContentType="image/x-wmf"/>
  <Override PartName="/ppt/media/image4.jpeg" ContentType="image/jpeg"/>
  <Override PartName="/ppt/media/image18.jpeg" ContentType="image/jpeg"/>
  <Override PartName="/ppt/media/image6.wmf" ContentType="image/x-wmf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11.wmf" ContentType="image/x-wmf"/>
  <Override PartName="/ppt/media/image17.jpeg" ContentType="image/jpeg"/>
  <Override PartName="/ppt/media/image7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4A1D-CA16-408F-9501-5BA052778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we are taking a differential measurement between two electrodes, a person passing under the lamp should result in a time-domain waveform that starts at the nulled voltage, deviates in one direction, then the other and finally returns to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ve are plots of real data taken from a person walking under the lamp at 6 and 10 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10 ft. is the current limit for our detection range, we can see random noise variations on that pl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063E-EB1F-4428-8BBE-26D8FC127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92CF-8567-4D4B-8835-B3139311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8A1A-F14F-4AFE-BDC2-C9851F955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6EE2-B1BF-400F-90E9-03BB8F1A8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DB46-F3F3-40EF-82A2-FB48A2B6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9627-BB13-488B-9877-E8EFB108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4623-64B6-4F5B-8855-59040D35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4C35-656E-4147-B6B1-B07A73ED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C8BB-3AAB-4448-8DF5-701102AC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89A8-72AC-42C9-8D77-50258841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C6C6-67B3-4D58-BBF1-AFA6E577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3358-D1CD-459F-850D-C0DA442B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62D5-CE15-4624-83E4-92F197961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1.xml"/><Relationship Id="rId7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57440" y="274320"/>
            <a:ext cx="350532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lligent Infrastructure for Energy Efficiency Building Energy Use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es Norf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648320" cy="3017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" y="3505320"/>
            <a:ext cx="4578480" cy="3155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34120" y="2286000"/>
            <a:ext cx="3124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esidenti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orms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ting domin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needed to avoid overhe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267080"/>
            <a:ext cx="2362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ommerc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ing domin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space heat due to internal g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4038480" y="251460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267080" y="4495680"/>
            <a:ext cx="10670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Potential for wasted energy: simultaneous (same instant, same day) heating and coo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1371600"/>
            <a:ext cx="2361960" cy="2362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1905120"/>
            <a:ext cx="129564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971800" y="2057400"/>
            <a:ext cx="838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1981080"/>
            <a:ext cx="4496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ld weather: perimeter may need heat in early morning, cooling in afternoon (like hou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86000" y="3048120"/>
            <a:ext cx="1447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70560" y="4495680"/>
            <a:ext cx="291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2895480"/>
            <a:ext cx="461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ear-round: core needs cooling constantly, even when perimeter must be h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14479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imeter 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2286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4114800"/>
            <a:ext cx="3505320" cy="2317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962520" y="3962520"/>
            <a:ext cx="472428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3 kWh/m2 y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 transp bld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h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office bld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1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office bld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 office bld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 office bld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 office bld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wer-energy buildings all recover heat from the building 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14800" y="12952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pen windows are another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99"/>
                </a:solidFill>
                <a:latin typeface="Arial"/>
              </a:rPr>
              <a:t>Energy Waste Associated with Ventilation in a UK offi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28195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le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% mechanical condit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+ year of monitoring and mo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2284" t="6647" r="0" b="4734"/>
          <a:stretch/>
        </p:blipFill>
        <p:spPr>
          <a:xfrm>
            <a:off x="2590920" y="838080"/>
            <a:ext cx="3657600" cy="2027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400800" y="83808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0" y="3048120"/>
            <a:ext cx="4114800" cy="2643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267080" y="3200400"/>
            <a:ext cx="464832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40 L/s-per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About four times code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One-half expected occupa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Conference rooms controlled design but CO2 levels were typically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Heat-recovery system bro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EUI:  318 kWh/m</a:t>
            </a:r>
            <a:r>
              <a:rPr b="0" lang="en-US" sz="1600" spc="-1" strike="noStrike" baseline="30000">
                <a:solidFill>
                  <a:srgbClr val="333399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 as bui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        </a:t>
            </a: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260 – est. with fixed heat reco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        </a:t>
            </a: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228 -  est. with heat recovery and               </a:t>
            </a: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lower venti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99"/>
                </a:solidFill>
                <a:latin typeface="Arial"/>
              </a:rPr>
              <a:t>Night cooling a California Courthou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3504960" cy="262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3886200" y="990720"/>
          <a:ext cx="4997520" cy="374796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990720"/>
                    <a:ext cx="499752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4648320" y="1447920"/>
            <a:ext cx="10666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5880" y="1905120"/>
            <a:ext cx="99072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4724280"/>
            <a:ext cx="47242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based on short-term tests and year-long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% whole-building electricity cost sav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rier: sensors and re-programming the HVAC contro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-speed measurement of electrical power for control and fault det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3581640" cy="2684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914400"/>
            <a:ext cx="3505320" cy="2627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04920" y="358128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ower profile of a commercial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35812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nset of chiller evaporator vacuum l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4038480"/>
            <a:ext cx="2971800" cy="2227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819520" y="4038480"/>
            <a:ext cx="3028680" cy="2281320"/>
          </a:xfrm>
          <a:prstGeom prst="rect">
            <a:avLst/>
          </a:prstGeom>
          <a:ln w="0">
            <a:noFill/>
          </a:ln>
        </p:spPr>
      </p:pic>
      <p:pic>
        <p:nvPicPr>
          <p:cNvPr id="88" name="sfrframp_1109" descr=""/>
          <p:cNvPicPr/>
          <p:nvPr/>
        </p:nvPicPr>
        <p:blipFill>
          <a:blip r:embed="rId5"/>
          <a:stretch/>
        </p:blipFill>
        <p:spPr>
          <a:xfrm>
            <a:off x="5638680" y="4038480"/>
            <a:ext cx="3132360" cy="23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luorescent lamps as proximity detector –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ighting and airflow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04920" y="3124080"/>
            <a:ext cx="4647960" cy="2757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943600" y="9907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80880" y="990720"/>
            <a:ext cx="2438640" cy="1828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600200" y="266688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438280" y="2743200"/>
            <a:ext cx="1828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742840" y="2666880"/>
            <a:ext cx="380988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124080" y="99072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5562720" y="3124080"/>
            <a:ext cx="2952720" cy="3459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4T16:24:36Z</dcterms:created>
  <dc:creator>Les Norford</dc:creator>
  <dc:description/>
  <dc:language>en-US</dc:language>
  <cp:lastModifiedBy>Les Norford</cp:lastModifiedBy>
  <dcterms:modified xsi:type="dcterms:W3CDTF">2007-05-24T22:02:23Z</dcterms:modified>
  <cp:revision>20</cp:revision>
  <dc:subject/>
  <dc:title>Intelligent Infrastructure for Energy Efficiency Building Energy Use</dc:title>
</cp:coreProperties>
</file>