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png" ContentType="image/png"/>
  <Override PartName="/ppt/media/image22.png" ContentType="image/png"/>
  <Override PartName="/ppt/media/image21.png" ContentType="image/png"/>
  <Override PartName="/ppt/media/image20.png" ContentType="image/png"/>
  <Override PartName="/ppt/media/image2.jpeg" ContentType="image/jpeg"/>
  <Override PartName="/ppt/media/image7.png" ContentType="image/png"/>
  <Override PartName="/ppt/media/image6.jpeg" ContentType="image/jpeg"/>
  <Override PartName="/ppt/media/image33.jpeg" ContentType="image/jpeg"/>
  <Override PartName="/ppt/media/image1.jpeg" ContentType="image/jpeg"/>
  <Override PartName="/ppt/media/image10.png" ContentType="image/png"/>
  <Override PartName="/ppt/media/image27.jpeg" ContentType="image/jpeg"/>
  <Override PartName="/ppt/media/image13.png" ContentType="image/png"/>
  <Override PartName="/ppt/media/image29.jpeg" ContentType="image/jpeg"/>
  <Override PartName="/ppt/media/image28.png" ContentType="image/png"/>
  <Override PartName="/ppt/media/image8.jpeg" ContentType="image/jpeg"/>
  <Override PartName="/ppt/media/image30.png" ContentType="image/png"/>
  <Override PartName="/ppt/media/image19.jpeg" ContentType="image/jpeg"/>
  <Override PartName="/ppt/media/image9.jpeg" ContentType="image/jpeg"/>
  <Override PartName="/ppt/media/image11.png" ContentType="image/png"/>
  <Override PartName="/ppt/media/image31.jpeg" ContentType="image/jpeg"/>
  <Override PartName="/ppt/media/image4.jpeg" ContentType="image/jpeg"/>
  <Override PartName="/ppt/media/image32.png" ContentType="image/png"/>
  <Override PartName="/ppt/media/image25.jpeg" ContentType="image/jpeg"/>
  <Override PartName="/ppt/media/image34.wmf" ContentType="image/x-wmf"/>
  <Override PartName="/ppt/media/image14.png" ContentType="image/png"/>
  <Override PartName="/ppt/media/image5.jpeg" ContentType="image/jpeg"/>
  <Override PartName="/ppt/media/image26.jpeg" ContentType="image/jpeg"/>
  <Override PartName="/ppt/media/image3.png" ContentType="image/png"/>
  <Override PartName="/ppt/media/image17.jpeg" ContentType="image/jpeg"/>
  <Override PartName="/ppt/media/image12.png" ContentType="image/png"/>
  <Override PartName="/ppt/media/image23.jpeg" ContentType="image/jpeg"/>
  <Override PartName="/ppt/media/image16.wmf" ContentType="image/x-wmf"/>
  <Override PartName="/ppt/media/image15.png" ContentType="image/png"/>
  <Override PartName="/ppt/media/image18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5FB1B-AF0A-4BFD-AA1D-0DA434C1E8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00 nL, compared to microliters for standard synth; order of magnitude+ reduction in sample volu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nefits of HA?  Why is this automation goo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D1D04-87D1-459E-B75A-8ADA75DE8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9B173-D37B-46F4-AB32-7D1E70D01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08107-B343-4F86-AB13-1E0F05754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274BD-316E-4549-AFCB-B2F977630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B4B01-CE3A-433E-9943-B6BA2E5D5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50B50-6DF6-48A3-8E56-FFF255BAF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7AEDD-6A2F-413A-8D1C-058EF3695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F339A-5BF5-4BCA-B635-694A86DBD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481B0-A9CE-4D04-8631-EF8495291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75CA2-E0A7-4DDC-97DA-BC6622C59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FACD7-ED4C-478C-92EA-73CA3735C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9711E-3FF6-4E43-8313-59E739DD9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857E4-82A2-41F5-A097-3B65047933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3.pn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image" Target="../media/image21.png"/><Relationship Id="rId7" Type="http://schemas.openxmlformats.org/officeDocument/2006/relationships/image" Target="../media/image6.jpeg"/><Relationship Id="rId8" Type="http://schemas.openxmlformats.org/officeDocument/2006/relationships/image" Target="../media/image22.png"/><Relationship Id="rId9" Type="http://schemas.openxmlformats.org/officeDocument/2006/relationships/image" Target="../media/image20.png"/><Relationship Id="rId1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image" Target="../media/image21.png"/><Relationship Id="rId7" Type="http://schemas.openxmlformats.org/officeDocument/2006/relationships/image" Target="../media/image6.jpeg"/><Relationship Id="rId8" Type="http://schemas.openxmlformats.org/officeDocument/2006/relationships/image" Target="../media/image22.png"/><Relationship Id="rId9" Type="http://schemas.openxmlformats.org/officeDocument/2006/relationships/image" Target="../media/image19.jpeg"/><Relationship Id="rId10" Type="http://schemas.openxmlformats.org/officeDocument/2006/relationships/image" Target="../media/image20.png"/><Relationship Id="rId1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image" Target="../media/image21.png"/><Relationship Id="rId7" Type="http://schemas.openxmlformats.org/officeDocument/2006/relationships/image" Target="../media/image6.jpeg"/><Relationship Id="rId8" Type="http://schemas.openxmlformats.org/officeDocument/2006/relationships/image" Target="../media/image22.png"/><Relationship Id="rId9" Type="http://schemas.openxmlformats.org/officeDocument/2006/relationships/image" Target="../media/image7.png"/><Relationship Id="rId10" Type="http://schemas.openxmlformats.org/officeDocument/2006/relationships/image" Target="../media/image20.png"/><Relationship Id="rId1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image" Target="../media/image21.png"/><Relationship Id="rId7" Type="http://schemas.openxmlformats.org/officeDocument/2006/relationships/image" Target="../media/image6.jpeg"/><Relationship Id="rId8" Type="http://schemas.openxmlformats.org/officeDocument/2006/relationships/image" Target="../media/image22.png"/><Relationship Id="rId9" Type="http://schemas.openxmlformats.org/officeDocument/2006/relationships/image" Target="../media/image6.jpeg"/><Relationship Id="rId10" Type="http://schemas.openxmlformats.org/officeDocument/2006/relationships/image" Target="../media/image20.png"/><Relationship Id="rId1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34.wmf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8120" y="2540160"/>
            <a:ext cx="2590560" cy="18795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715000" y="2540160"/>
            <a:ext cx="3200400" cy="187956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9320" y="533160"/>
            <a:ext cx="8305560" cy="1066680"/>
          </a:xfrm>
          <a:prstGeom prst="rect">
            <a:avLst/>
          </a:prstGeom>
          <a:blipFill rotWithShape="0">
            <a:blip r:embed="rId3">
              <a:alphaModFix amt="10000"/>
            </a:blip>
            <a:tile tx="0" ty="0" sx="100000" sy="100000" algn="ctr"/>
          </a:blipFill>
          <a:ln w="25560">
            <a:solidFill>
              <a:srgbClr val="66cc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Microfluidics for Gene Fabric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5791320" y="5842080"/>
            <a:ext cx="2590560" cy="711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04920" y="5772240"/>
            <a:ext cx="3533760" cy="1191240"/>
          </a:xfrm>
          <a:prstGeom prst="rect">
            <a:avLst/>
          </a:prstGeom>
          <a:blipFill rotWithShape="0">
            <a:blip r:embed="rId5">
              <a:alphaModFix amt="10000"/>
            </a:blip>
            <a:srcRect/>
            <a:tile tx="0" ty="0" sx="100000" sy="100000" algn="ctr"/>
          </a:blipFill>
          <a:ln w="1908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Peter Carr &amp; David Ko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MIT Media Laborat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6"/>
          <a:stretch/>
        </p:blipFill>
        <p:spPr>
          <a:xfrm>
            <a:off x="152280" y="2498760"/>
            <a:ext cx="2819520" cy="19969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28600" y="4572000"/>
            <a:ext cx="8686800" cy="0"/>
          </a:xfrm>
          <a:prstGeom prst="line">
            <a:avLst/>
          </a:prstGeom>
          <a:ln w="190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28600" y="2362320"/>
            <a:ext cx="8686800" cy="0"/>
          </a:xfrm>
          <a:prstGeom prst="line">
            <a:avLst/>
          </a:prstGeom>
          <a:ln w="190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Making it Fast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&amp;</a:t>
            </a: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 Cheap: </a:t>
            </a:r>
            <a:r>
              <a:rPr b="0" i="1" lang="en-US" sz="3600" spc="-1" strike="noStrike">
                <a:solidFill>
                  <a:srgbClr val="000000"/>
                </a:solidFill>
                <a:latin typeface="Trebuchet MS"/>
              </a:rPr>
              <a:t>Challeng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28440">
            <a:solidFill>
              <a:srgbClr val="00cc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Harnessing the full potential of oligo microarra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minute amounts of material: amplific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assembly: erratic behaviors of increasingly complex mix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Minimizing expensive reagents (polymerases, error correction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High throughput parallel sample hand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Process integ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"/>
          <p:cNvSpPr/>
          <p:nvPr/>
        </p:nvSpPr>
        <p:spPr>
          <a:xfrm>
            <a:off x="1676520" y="2209680"/>
            <a:ext cx="5600520" cy="28958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5" name=""/>
          <p:cNvGrpSpPr/>
          <p:nvPr/>
        </p:nvGrpSpPr>
        <p:grpSpPr>
          <a:xfrm>
            <a:off x="7238880" y="1219320"/>
            <a:ext cx="1905120" cy="5105160"/>
            <a:chOff x="7238880" y="1219320"/>
            <a:chExt cx="1905120" cy="5105160"/>
          </a:xfrm>
        </p:grpSpPr>
        <p:sp>
          <p:nvSpPr>
            <p:cNvPr id="836" name=""/>
            <p:cNvSpPr/>
            <p:nvPr/>
          </p:nvSpPr>
          <p:spPr>
            <a:xfrm>
              <a:off x="7286760" y="1219320"/>
              <a:ext cx="1857240" cy="510516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7238880" y="2220840"/>
              <a:ext cx="76320" cy="287964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8" name=""/>
          <p:cNvGrpSpPr/>
          <p:nvPr/>
        </p:nvGrpSpPr>
        <p:grpSpPr>
          <a:xfrm>
            <a:off x="153000" y="3220920"/>
            <a:ext cx="1297800" cy="1537920"/>
            <a:chOff x="153000" y="3220920"/>
            <a:chExt cx="1297800" cy="1537920"/>
          </a:xfrm>
        </p:grpSpPr>
        <p:pic>
          <p:nvPicPr>
            <p:cNvPr id="839" name="" descr=""/>
            <p:cNvPicPr/>
            <p:nvPr/>
          </p:nvPicPr>
          <p:blipFill>
            <a:blip r:embed="rId1"/>
            <a:stretch/>
          </p:blipFill>
          <p:spPr>
            <a:xfrm>
              <a:off x="154080" y="3220920"/>
              <a:ext cx="1295280" cy="97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0" name=""/>
            <p:cNvSpPr/>
            <p:nvPr/>
          </p:nvSpPr>
          <p:spPr>
            <a:xfrm>
              <a:off x="153000" y="4238640"/>
              <a:ext cx="12978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rebuchet MS"/>
                </a:rPr>
                <a:t>user design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rebuchet MS"/>
                </a:rPr>
                <a:t>DN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1" name=""/>
          <p:cNvSpPr/>
          <p:nvPr/>
        </p:nvSpPr>
        <p:spPr>
          <a:xfrm>
            <a:off x="0" y="7632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rebuchet MS"/>
              </a:rPr>
              <a:t>Microfluidic Gene Synthesis:</a:t>
            </a:r>
            <a:br>
              <a:rPr sz="3400"/>
            </a:br>
            <a:r>
              <a:rPr b="0" i="1" lang="en-US" sz="3200" spc="-1" strike="noStrike">
                <a:solidFill>
                  <a:srgbClr val="0099ff"/>
                </a:solidFill>
                <a:latin typeface="Trebuchet MS"/>
              </a:rPr>
              <a:t>Integration Road M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2" name=""/>
          <p:cNvGrpSpPr/>
          <p:nvPr/>
        </p:nvGrpSpPr>
        <p:grpSpPr>
          <a:xfrm>
            <a:off x="1382760" y="2541600"/>
            <a:ext cx="1473120" cy="1649520"/>
            <a:chOff x="1382760" y="2541600"/>
            <a:chExt cx="1473120" cy="1649520"/>
          </a:xfrm>
        </p:grpSpPr>
        <p:pic>
          <p:nvPicPr>
            <p:cNvPr id="843" name="" descr=""/>
            <p:cNvPicPr/>
            <p:nvPr/>
          </p:nvPicPr>
          <p:blipFill>
            <a:blip r:embed="rId2"/>
            <a:stretch/>
          </p:blipFill>
          <p:spPr>
            <a:xfrm>
              <a:off x="1811160" y="3276720"/>
              <a:ext cx="91440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4" name=""/>
            <p:cNvSpPr/>
            <p:nvPr/>
          </p:nvSpPr>
          <p:spPr>
            <a:xfrm>
              <a:off x="1683000" y="2541600"/>
              <a:ext cx="11728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rebuchet MS"/>
                </a:rPr>
                <a:t>olig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rebuchet MS"/>
                </a:rPr>
                <a:t>microarra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rebuchet MS"/>
                </a:rPr>
                <a:t>synthesi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1382760" y="3581280"/>
              <a:ext cx="503280" cy="304920"/>
            </a:xfrm>
            <a:prstGeom prst="rightArrow">
              <a:avLst>
                <a:gd name="adj1" fmla="val 50000"/>
                <a:gd name="adj2" fmla="val 41263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6" name=""/>
          <p:cNvGrpSpPr/>
          <p:nvPr/>
        </p:nvGrpSpPr>
        <p:grpSpPr>
          <a:xfrm>
            <a:off x="2670120" y="2895480"/>
            <a:ext cx="1668960" cy="2034720"/>
            <a:chOff x="2670120" y="2895480"/>
            <a:chExt cx="1668960" cy="2034720"/>
          </a:xfrm>
        </p:grpSpPr>
        <p:pic>
          <p:nvPicPr>
            <p:cNvPr id="847" name="" descr=""/>
            <p:cNvPicPr/>
            <p:nvPr/>
          </p:nvPicPr>
          <p:blipFill>
            <a:blip r:embed="rId3"/>
            <a:stretch/>
          </p:blipFill>
          <p:spPr>
            <a:xfrm>
              <a:off x="3108240" y="2895480"/>
              <a:ext cx="903240" cy="152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8" name=""/>
            <p:cNvSpPr/>
            <p:nvPr/>
          </p:nvSpPr>
          <p:spPr>
            <a:xfrm>
              <a:off x="2771640" y="4410000"/>
              <a:ext cx="15674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rebuchet MS"/>
                </a:rPr>
                <a:t>assemb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rebuchet MS"/>
                </a:rPr>
                <a:t>DNA construc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2670120" y="3581280"/>
              <a:ext cx="503280" cy="304920"/>
            </a:xfrm>
            <a:prstGeom prst="rightArrow">
              <a:avLst>
                <a:gd name="adj1" fmla="val 50000"/>
                <a:gd name="adj2" fmla="val 41263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0" name=""/>
          <p:cNvGrpSpPr/>
          <p:nvPr/>
        </p:nvGrpSpPr>
        <p:grpSpPr>
          <a:xfrm>
            <a:off x="3946680" y="2657520"/>
            <a:ext cx="1535040" cy="1609560"/>
            <a:chOff x="3946680" y="2657520"/>
            <a:chExt cx="1535040" cy="1609560"/>
          </a:xfrm>
        </p:grpSpPr>
        <p:grpSp>
          <p:nvGrpSpPr>
            <p:cNvPr id="851" name=""/>
            <p:cNvGrpSpPr/>
            <p:nvPr/>
          </p:nvGrpSpPr>
          <p:grpSpPr>
            <a:xfrm>
              <a:off x="4384800" y="3200400"/>
              <a:ext cx="1096920" cy="1066680"/>
              <a:chOff x="4384800" y="3200400"/>
              <a:chExt cx="1096920" cy="1066680"/>
            </a:xfrm>
          </p:grpSpPr>
          <p:sp>
            <p:nvSpPr>
              <p:cNvPr id="852" name=""/>
              <p:cNvSpPr/>
              <p:nvPr/>
            </p:nvSpPr>
            <p:spPr>
              <a:xfrm>
                <a:off x="4384800" y="3200400"/>
                <a:ext cx="1096920" cy="1066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53" name=""/>
              <p:cNvGrpSpPr/>
              <p:nvPr/>
            </p:nvGrpSpPr>
            <p:grpSpPr>
              <a:xfrm>
                <a:off x="4514760" y="3363840"/>
                <a:ext cx="838440" cy="739440"/>
                <a:chOff x="4514760" y="3363840"/>
                <a:chExt cx="838440" cy="739440"/>
              </a:xfrm>
            </p:grpSpPr>
            <p:sp>
              <p:nvSpPr>
                <p:cNvPr id="854" name=""/>
                <p:cNvSpPr/>
                <p:nvPr/>
              </p:nvSpPr>
              <p:spPr>
                <a:xfrm>
                  <a:off x="4673880" y="3363840"/>
                  <a:ext cx="198360" cy="457200"/>
                </a:xfrm>
                <a:custGeom>
                  <a:avLst/>
                  <a:gdLst>
                    <a:gd name="textAreaLeft" fmla="*/ 22680 w 198360"/>
                    <a:gd name="textAreaRight" fmla="*/ 175680 w 198360"/>
                    <a:gd name="textAreaTop" fmla="*/ 22680 h 457200"/>
                    <a:gd name="textAreaBottom" fmla="*/ 434520 h 457200"/>
                  </a:gdLst>
                  <a:ahLst/>
                  <a:rect l="textAreaLeft" t="textAreaTop" r="textAreaRight" b="textAreaBottom"/>
                  <a:pathLst>
                    <a:path w="21600" h="49735">
                      <a:moveTo>
                        <a:pt x="8550" y="0"/>
                      </a:moveTo>
                      <a:arcTo wR="8550" hR="8550" stAng="16200000" swAng="-5400000"/>
                      <a:lnTo>
                        <a:pt x="0" y="41185"/>
                      </a:lnTo>
                      <a:arcTo wR="8550" hR="8550" stAng="10800000" swAng="-5400000"/>
                      <a:lnTo>
                        <a:pt x="13050" y="49735"/>
                      </a:lnTo>
                      <a:arcTo wR="8550" hR="8550" stAng="5400000" swAng="-5400000"/>
                      <a:lnTo>
                        <a:pt x="21600" y="8550"/>
                      </a:lnTo>
                      <a:arcTo wR="8550" hR="8550" stAng="0" swAng="-5400000"/>
                      <a:close/>
                    </a:path>
                  </a:pathLst>
                </a:custGeom>
                <a:solidFill>
                  <a:srgbClr val="8ffd75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55" name=""/>
                <p:cNvGrpSpPr/>
                <p:nvPr/>
              </p:nvGrpSpPr>
              <p:grpSpPr>
                <a:xfrm>
                  <a:off x="4514760" y="3451320"/>
                  <a:ext cx="838440" cy="651960"/>
                  <a:chOff x="4514760" y="3451320"/>
                  <a:chExt cx="838440" cy="651960"/>
                </a:xfrm>
              </p:grpSpPr>
              <p:grpSp>
                <p:nvGrpSpPr>
                  <p:cNvPr id="856" name=""/>
                  <p:cNvGrpSpPr/>
                  <p:nvPr/>
                </p:nvGrpSpPr>
                <p:grpSpPr>
                  <a:xfrm>
                    <a:off x="4518000" y="3567240"/>
                    <a:ext cx="835200" cy="107640"/>
                    <a:chOff x="4518000" y="3567240"/>
                    <a:chExt cx="835200" cy="107640"/>
                  </a:xfrm>
                </p:grpSpPr>
                <p:sp>
                  <p:nvSpPr>
                    <p:cNvPr id="857" name=""/>
                    <p:cNvSpPr/>
                    <p:nvPr/>
                  </p:nvSpPr>
                  <p:spPr>
                    <a:xfrm>
                      <a:off x="4518360" y="3567240"/>
                      <a:ext cx="834840" cy="0"/>
                    </a:xfrm>
                    <a:prstGeom prst="line">
                      <a:avLst/>
                    </a:prstGeom>
                    <a:ln w="19080">
                      <a:solidFill>
                        <a:srgbClr val="0000ff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58" name=""/>
                    <p:cNvSpPr/>
                    <p:nvPr/>
                  </p:nvSpPr>
                  <p:spPr>
                    <a:xfrm flipH="1">
                      <a:off x="4518000" y="3674880"/>
                      <a:ext cx="834840" cy="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859" name=""/>
                  <p:cNvGrpSpPr/>
                  <p:nvPr/>
                </p:nvGrpSpPr>
                <p:grpSpPr>
                  <a:xfrm>
                    <a:off x="4514760" y="3995640"/>
                    <a:ext cx="835200" cy="107640"/>
                    <a:chOff x="4514760" y="3995640"/>
                    <a:chExt cx="835200" cy="107640"/>
                  </a:xfrm>
                </p:grpSpPr>
                <p:sp>
                  <p:nvSpPr>
                    <p:cNvPr id="860" name=""/>
                    <p:cNvSpPr/>
                    <p:nvPr/>
                  </p:nvSpPr>
                  <p:spPr>
                    <a:xfrm>
                      <a:off x="4515120" y="3995640"/>
                      <a:ext cx="834840" cy="0"/>
                    </a:xfrm>
                    <a:prstGeom prst="line">
                      <a:avLst/>
                    </a:prstGeom>
                    <a:ln w="19080">
                      <a:solidFill>
                        <a:srgbClr val="0000ff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61" name=""/>
                    <p:cNvSpPr/>
                    <p:nvPr/>
                  </p:nvSpPr>
                  <p:spPr>
                    <a:xfrm flipH="1">
                      <a:off x="4514760" y="4103280"/>
                      <a:ext cx="834840" cy="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862" name=""/>
                  <p:cNvSpPr/>
                  <p:nvPr/>
                </p:nvSpPr>
                <p:spPr>
                  <a:xfrm>
                    <a:off x="4746960" y="3451320"/>
                    <a:ext cx="56880" cy="10944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0000ff"/>
                  </a:solidFill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080" bIns="-10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863" name=""/>
            <p:cNvSpPr/>
            <p:nvPr/>
          </p:nvSpPr>
          <p:spPr>
            <a:xfrm>
              <a:off x="4374000" y="2657520"/>
              <a:ext cx="10998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rebuchet MS"/>
                </a:rPr>
                <a:t>DNA err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rebuchet MS"/>
                </a:rPr>
                <a:t>correc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3946680" y="3581280"/>
              <a:ext cx="502920" cy="304920"/>
            </a:xfrm>
            <a:prstGeom prst="rightArrow">
              <a:avLst>
                <a:gd name="adj1" fmla="val 50000"/>
                <a:gd name="adj2" fmla="val 41234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5" name=""/>
          <p:cNvGrpSpPr/>
          <p:nvPr/>
        </p:nvGrpSpPr>
        <p:grpSpPr>
          <a:xfrm>
            <a:off x="5416560" y="3081240"/>
            <a:ext cx="1684080" cy="1834920"/>
            <a:chOff x="5416560" y="3081240"/>
            <a:chExt cx="1684080" cy="1834920"/>
          </a:xfrm>
        </p:grpSpPr>
        <p:pic>
          <p:nvPicPr>
            <p:cNvPr id="866" name="" descr=""/>
            <p:cNvPicPr/>
            <p:nvPr/>
          </p:nvPicPr>
          <p:blipFill>
            <a:blip r:embed="rId4"/>
            <a:srcRect l="0" t="2645" r="48869" b="65632"/>
            <a:stretch/>
          </p:blipFill>
          <p:spPr>
            <a:xfrm>
              <a:off x="5854680" y="3081240"/>
              <a:ext cx="1241280" cy="12956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867" name=""/>
            <p:cNvSpPr/>
            <p:nvPr/>
          </p:nvSpPr>
          <p:spPr>
            <a:xfrm>
              <a:off x="5883480" y="4395960"/>
              <a:ext cx="12171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rebuchet MS"/>
                </a:rPr>
                <a:t>larger sca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rebuchet MS"/>
                </a:rPr>
                <a:t>assembl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5416560" y="3581280"/>
              <a:ext cx="503280" cy="304920"/>
            </a:xfrm>
            <a:prstGeom prst="rightArrow">
              <a:avLst>
                <a:gd name="adj1" fmla="val 50000"/>
                <a:gd name="adj2" fmla="val 41263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9" name=""/>
          <p:cNvGrpSpPr/>
          <p:nvPr/>
        </p:nvGrpSpPr>
        <p:grpSpPr>
          <a:xfrm>
            <a:off x="6922440" y="1554120"/>
            <a:ext cx="2131200" cy="1663560"/>
            <a:chOff x="6922440" y="1554120"/>
            <a:chExt cx="2131200" cy="1663560"/>
          </a:xfrm>
        </p:grpSpPr>
        <p:pic>
          <p:nvPicPr>
            <p:cNvPr id="870" name="" descr=""/>
            <p:cNvPicPr/>
            <p:nvPr/>
          </p:nvPicPr>
          <p:blipFill>
            <a:blip r:embed="rId5"/>
            <a:stretch/>
          </p:blipFill>
          <p:spPr>
            <a:xfrm>
              <a:off x="7542360" y="1554120"/>
              <a:ext cx="1511280" cy="11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1" name=""/>
            <p:cNvSpPr/>
            <p:nvPr/>
          </p:nvSpPr>
          <p:spPr>
            <a:xfrm>
              <a:off x="7923240" y="2757600"/>
              <a:ext cx="659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rebuchet MS"/>
                </a:rPr>
                <a:t>c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 rot="18328200">
              <a:off x="6886440" y="2666520"/>
              <a:ext cx="762120" cy="304920"/>
            </a:xfrm>
            <a:prstGeom prst="rightArrow">
              <a:avLst>
                <a:gd name="adj1" fmla="val 50000"/>
                <a:gd name="adj2" fmla="val 62485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3" name=""/>
          <p:cNvGrpSpPr/>
          <p:nvPr/>
        </p:nvGrpSpPr>
        <p:grpSpPr>
          <a:xfrm>
            <a:off x="7031160" y="3311640"/>
            <a:ext cx="2036520" cy="1033920"/>
            <a:chOff x="7031160" y="3311640"/>
            <a:chExt cx="2036520" cy="1033920"/>
          </a:xfrm>
        </p:grpSpPr>
        <p:pic>
          <p:nvPicPr>
            <p:cNvPr id="874" name="" descr=""/>
            <p:cNvPicPr/>
            <p:nvPr/>
          </p:nvPicPr>
          <p:blipFill>
            <a:blip r:embed="rId6"/>
            <a:srcRect l="32866" t="0" r="8392" b="52606"/>
            <a:stretch/>
          </p:blipFill>
          <p:spPr>
            <a:xfrm>
              <a:off x="7467480" y="3311640"/>
              <a:ext cx="1600200" cy="7268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875" name=""/>
            <p:cNvSpPr/>
            <p:nvPr/>
          </p:nvSpPr>
          <p:spPr>
            <a:xfrm>
              <a:off x="7591680" y="4038480"/>
              <a:ext cx="1352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rebuchet MS"/>
                </a:rPr>
                <a:t>sequence/Q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031160" y="3581280"/>
              <a:ext cx="503280" cy="304920"/>
            </a:xfrm>
            <a:prstGeom prst="rightArrow">
              <a:avLst>
                <a:gd name="adj1" fmla="val 50000"/>
                <a:gd name="adj2" fmla="val 41263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7" name=""/>
          <p:cNvGrpSpPr/>
          <p:nvPr/>
        </p:nvGrpSpPr>
        <p:grpSpPr>
          <a:xfrm>
            <a:off x="6913080" y="4235040"/>
            <a:ext cx="2010240" cy="2015640"/>
            <a:chOff x="6913080" y="4235040"/>
            <a:chExt cx="2010240" cy="2015640"/>
          </a:xfrm>
        </p:grpSpPr>
        <p:grpSp>
          <p:nvGrpSpPr>
            <p:cNvPr id="878" name=""/>
            <p:cNvGrpSpPr/>
            <p:nvPr/>
          </p:nvGrpSpPr>
          <p:grpSpPr>
            <a:xfrm>
              <a:off x="7489800" y="4454640"/>
              <a:ext cx="1433520" cy="1796040"/>
              <a:chOff x="7489800" y="4454640"/>
              <a:chExt cx="1433520" cy="1796040"/>
            </a:xfrm>
          </p:grpSpPr>
          <p:pic>
            <p:nvPicPr>
              <p:cNvPr id="879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7642080" y="4454640"/>
                <a:ext cx="1128960" cy="144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0" name=""/>
              <p:cNvSpPr/>
              <p:nvPr/>
            </p:nvSpPr>
            <p:spPr>
              <a:xfrm>
                <a:off x="7489800" y="5943600"/>
                <a:ext cx="1433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rebuchet MS"/>
                  </a:rPr>
                  <a:t>express/assay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1" name=""/>
            <p:cNvSpPr/>
            <p:nvPr/>
          </p:nvSpPr>
          <p:spPr>
            <a:xfrm flipV="1" rot="3271800">
              <a:off x="6877080" y="4480560"/>
              <a:ext cx="761760" cy="304920"/>
            </a:xfrm>
            <a:prstGeom prst="rightArrow">
              <a:avLst>
                <a:gd name="adj1" fmla="val 50000"/>
                <a:gd name="adj2" fmla="val 62456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2" name=""/>
          <p:cNvGrpSpPr/>
          <p:nvPr/>
        </p:nvGrpSpPr>
        <p:grpSpPr>
          <a:xfrm>
            <a:off x="458640" y="6445080"/>
            <a:ext cx="8141400" cy="337320"/>
            <a:chOff x="458640" y="6445080"/>
            <a:chExt cx="8141400" cy="337320"/>
          </a:xfrm>
        </p:grpSpPr>
        <p:sp>
          <p:nvSpPr>
            <p:cNvPr id="883" name=""/>
            <p:cNvSpPr/>
            <p:nvPr/>
          </p:nvSpPr>
          <p:spPr>
            <a:xfrm>
              <a:off x="458640" y="6445080"/>
              <a:ext cx="743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3770280" y="6445080"/>
              <a:ext cx="1587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(MOLECULES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927200" y="6461280"/>
              <a:ext cx="672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1265400" y="6613560"/>
              <a:ext cx="2438280" cy="0"/>
            </a:xfrm>
            <a:prstGeom prst="line">
              <a:avLst/>
            </a:prstGeom>
            <a:ln w="38160">
              <a:solidFill>
                <a:srgbClr val="5f5f5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5423040" y="6613560"/>
              <a:ext cx="2438280" cy="0"/>
            </a:xfrm>
            <a:prstGeom prst="line">
              <a:avLst/>
            </a:prstGeom>
            <a:ln w="38160">
              <a:solidFill>
                <a:srgbClr val="5f5f5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8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blipFill rotWithShape="0">
            <a:blip r:embed="rId8">
              <a:alphaModFix amt="67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9" name=""/>
          <p:cNvGrpSpPr/>
          <p:nvPr/>
        </p:nvGrpSpPr>
        <p:grpSpPr>
          <a:xfrm>
            <a:off x="2743200" y="2666880"/>
            <a:ext cx="1600200" cy="2438640"/>
            <a:chOff x="2743200" y="2666880"/>
            <a:chExt cx="1600200" cy="2438640"/>
          </a:xfrm>
        </p:grpSpPr>
        <p:sp>
          <p:nvSpPr>
            <p:cNvPr id="890" name=""/>
            <p:cNvSpPr/>
            <p:nvPr/>
          </p:nvSpPr>
          <p:spPr>
            <a:xfrm>
              <a:off x="2743200" y="2666880"/>
              <a:ext cx="1600200" cy="2438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91" name="" descr=""/>
            <p:cNvPicPr/>
            <p:nvPr/>
          </p:nvPicPr>
          <p:blipFill>
            <a:blip r:embed="rId9"/>
            <a:stretch/>
          </p:blipFill>
          <p:spPr>
            <a:xfrm>
              <a:off x="3105000" y="2895480"/>
              <a:ext cx="903600" cy="152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2" name=""/>
            <p:cNvSpPr/>
            <p:nvPr/>
          </p:nvSpPr>
          <p:spPr>
            <a:xfrm>
              <a:off x="2768400" y="4410000"/>
              <a:ext cx="15674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rebuchet MS"/>
                </a:rPr>
                <a:t>assemb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rebuchet MS"/>
                </a:rPr>
                <a:t>DNA construc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3" name="" descr=""/>
          <p:cNvPicPr/>
          <p:nvPr/>
        </p:nvPicPr>
        <p:blipFill>
          <a:blip r:embed="rId1"/>
          <a:stretch/>
        </p:blipFill>
        <p:spPr>
          <a:xfrm>
            <a:off x="3352680" y="1143000"/>
            <a:ext cx="5410440" cy="4835520"/>
          </a:xfrm>
          <a:prstGeom prst="rect">
            <a:avLst/>
          </a:prstGeom>
          <a:ln w="0">
            <a:noFill/>
          </a:ln>
        </p:spPr>
      </p:pic>
      <p:sp>
        <p:nvSpPr>
          <p:cNvPr id="894" name=""/>
          <p:cNvSpPr/>
          <p:nvPr/>
        </p:nvSpPr>
        <p:spPr>
          <a:xfrm>
            <a:off x="3200400" y="1447920"/>
            <a:ext cx="0" cy="4647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3809880" y="6060960"/>
            <a:ext cx="4419720" cy="322200"/>
          </a:xfrm>
          <a:prstGeom prst="rect">
            <a:avLst/>
          </a:prstGeom>
          <a:noFill/>
          <a:ln w="1908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our parallel 500-nL reactor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0" y="7632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rebuchet MS"/>
              </a:rPr>
              <a:t>Parallel microfluidic gene synthesi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7" name=""/>
          <p:cNvGrpSpPr/>
          <p:nvPr/>
        </p:nvGrpSpPr>
        <p:grpSpPr>
          <a:xfrm>
            <a:off x="349200" y="4038480"/>
            <a:ext cx="2773080" cy="2057400"/>
            <a:chOff x="349200" y="4038480"/>
            <a:chExt cx="2773080" cy="2057400"/>
          </a:xfrm>
        </p:grpSpPr>
        <p:sp>
          <p:nvSpPr>
            <p:cNvPr id="898" name=""/>
            <p:cNvSpPr/>
            <p:nvPr/>
          </p:nvSpPr>
          <p:spPr>
            <a:xfrm>
              <a:off x="2408040" y="5089680"/>
              <a:ext cx="71424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YTOP,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ralyne,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99" name=""/>
            <p:cNvGrpSpPr/>
            <p:nvPr/>
          </p:nvGrpSpPr>
          <p:grpSpPr>
            <a:xfrm>
              <a:off x="349200" y="4038480"/>
              <a:ext cx="2133360" cy="533520"/>
              <a:chOff x="349200" y="4038480"/>
              <a:chExt cx="2133360" cy="533520"/>
            </a:xfrm>
          </p:grpSpPr>
          <p:sp>
            <p:nvSpPr>
              <p:cNvPr id="900" name=""/>
              <p:cNvSpPr/>
              <p:nvPr/>
            </p:nvSpPr>
            <p:spPr>
              <a:xfrm>
                <a:off x="349200" y="4038480"/>
                <a:ext cx="2133360" cy="533520"/>
              </a:xfrm>
              <a:prstGeom prst="rect">
                <a:avLst/>
              </a:pr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902160" y="4419720"/>
                <a:ext cx="78984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1613520" y="4038480"/>
                <a:ext cx="78480" cy="381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03" name=""/>
            <p:cNvSpPr/>
            <p:nvPr/>
          </p:nvSpPr>
          <p:spPr>
            <a:xfrm>
              <a:off x="349200" y="4572000"/>
              <a:ext cx="2133720" cy="22860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981000" y="4648320"/>
              <a:ext cx="631800" cy="3045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349200" y="5867280"/>
              <a:ext cx="2133720" cy="7632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349200" y="5943600"/>
              <a:ext cx="21337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349200" y="5791320"/>
              <a:ext cx="2133720" cy="759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349200" y="4800600"/>
              <a:ext cx="213372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200" y="4800600"/>
              <a:ext cx="2133720" cy="763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1035000" y="4724280"/>
              <a:ext cx="555840" cy="304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11" name=""/>
            <p:cNvGrpSpPr/>
            <p:nvPr/>
          </p:nvGrpSpPr>
          <p:grpSpPr>
            <a:xfrm>
              <a:off x="501480" y="5257800"/>
              <a:ext cx="1828800" cy="228600"/>
              <a:chOff x="501480" y="5257800"/>
              <a:chExt cx="1828800" cy="228600"/>
            </a:xfrm>
          </p:grpSpPr>
          <p:sp>
            <p:nvSpPr>
              <p:cNvPr id="912" name=""/>
              <p:cNvSpPr/>
              <p:nvPr/>
            </p:nvSpPr>
            <p:spPr>
              <a:xfrm>
                <a:off x="501480" y="5257800"/>
                <a:ext cx="0" cy="228600"/>
              </a:xfrm>
              <a:prstGeom prst="line">
                <a:avLst/>
              </a:prstGeom>
              <a:ln w="9360">
                <a:solidFill>
                  <a:srgbClr val="808080"/>
                </a:solidFill>
                <a:prstDash val="sysDot"/>
                <a:miter/>
                <a:headEnd len="med" type="stealth" w="med"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806400" y="5257800"/>
                <a:ext cx="0" cy="228600"/>
              </a:xfrm>
              <a:prstGeom prst="line">
                <a:avLst/>
              </a:prstGeom>
              <a:ln w="9360">
                <a:solidFill>
                  <a:srgbClr val="808080"/>
                </a:solidFill>
                <a:prstDash val="sysDot"/>
                <a:miter/>
                <a:headEnd len="med" type="stealth" w="med"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1111320" y="5257800"/>
                <a:ext cx="0" cy="228600"/>
              </a:xfrm>
              <a:prstGeom prst="line">
                <a:avLst/>
              </a:prstGeom>
              <a:ln w="9360">
                <a:solidFill>
                  <a:srgbClr val="808080"/>
                </a:solidFill>
                <a:prstDash val="sysDot"/>
                <a:miter/>
                <a:headEnd len="med" type="stealth" w="med"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1415880" y="5257800"/>
                <a:ext cx="0" cy="228600"/>
              </a:xfrm>
              <a:prstGeom prst="line">
                <a:avLst/>
              </a:prstGeom>
              <a:ln w="9360">
                <a:solidFill>
                  <a:srgbClr val="808080"/>
                </a:solidFill>
                <a:prstDash val="sysDot"/>
                <a:miter/>
                <a:headEnd len="med" type="stealth" w="med"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1720800" y="5257800"/>
                <a:ext cx="0" cy="228600"/>
              </a:xfrm>
              <a:prstGeom prst="line">
                <a:avLst/>
              </a:prstGeom>
              <a:ln w="9360">
                <a:solidFill>
                  <a:srgbClr val="808080"/>
                </a:solidFill>
                <a:prstDash val="sysDot"/>
                <a:miter/>
                <a:headEnd len="med" type="stealth" w="med"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2025720" y="5257800"/>
                <a:ext cx="0" cy="228600"/>
              </a:xfrm>
              <a:prstGeom prst="line">
                <a:avLst/>
              </a:prstGeom>
              <a:ln w="9360">
                <a:solidFill>
                  <a:srgbClr val="808080"/>
                </a:solidFill>
                <a:prstDash val="sysDot"/>
                <a:miter/>
                <a:headEnd len="med" type="stealth" w="med"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2330280" y="5257800"/>
                <a:ext cx="0" cy="228600"/>
              </a:xfrm>
              <a:prstGeom prst="line">
                <a:avLst/>
              </a:prstGeom>
              <a:ln w="9360">
                <a:solidFill>
                  <a:srgbClr val="808080"/>
                </a:solidFill>
                <a:prstDash val="sysDot"/>
                <a:miter/>
                <a:headEnd len="med" type="stealth" w="med"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19" name=""/>
            <p:cNvSpPr/>
            <p:nvPr/>
          </p:nvSpPr>
          <p:spPr>
            <a:xfrm flipH="1" flipV="1">
              <a:off x="2329920" y="4876560"/>
              <a:ext cx="2286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 flipH="1">
              <a:off x="2329920" y="556272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1" name=""/>
          <p:cNvGrpSpPr/>
          <p:nvPr/>
        </p:nvGrpSpPr>
        <p:grpSpPr>
          <a:xfrm>
            <a:off x="304920" y="1279440"/>
            <a:ext cx="2816280" cy="2225880"/>
            <a:chOff x="304920" y="1279440"/>
            <a:chExt cx="2816280" cy="2225880"/>
          </a:xfrm>
        </p:grpSpPr>
        <p:grpSp>
          <p:nvGrpSpPr>
            <p:cNvPr id="922" name=""/>
            <p:cNvGrpSpPr/>
            <p:nvPr/>
          </p:nvGrpSpPr>
          <p:grpSpPr>
            <a:xfrm>
              <a:off x="369720" y="1828800"/>
              <a:ext cx="2133360" cy="533520"/>
              <a:chOff x="369720" y="1828800"/>
              <a:chExt cx="2133360" cy="533520"/>
            </a:xfrm>
          </p:grpSpPr>
          <p:sp>
            <p:nvSpPr>
              <p:cNvPr id="923" name=""/>
              <p:cNvSpPr/>
              <p:nvPr/>
            </p:nvSpPr>
            <p:spPr>
              <a:xfrm>
                <a:off x="369720" y="1828800"/>
                <a:ext cx="2133360" cy="533520"/>
              </a:xfrm>
              <a:prstGeom prst="rect">
                <a:avLst/>
              </a:pr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922680" y="2210040"/>
                <a:ext cx="78984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1634040" y="1828800"/>
                <a:ext cx="78480" cy="381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6" name=""/>
            <p:cNvGrpSpPr/>
            <p:nvPr/>
          </p:nvGrpSpPr>
          <p:grpSpPr>
            <a:xfrm>
              <a:off x="369720" y="2590920"/>
              <a:ext cx="2133360" cy="380880"/>
              <a:chOff x="369720" y="2590920"/>
              <a:chExt cx="2133360" cy="380880"/>
            </a:xfrm>
          </p:grpSpPr>
          <p:sp>
            <p:nvSpPr>
              <p:cNvPr id="927" name=""/>
              <p:cNvSpPr/>
              <p:nvPr/>
            </p:nvSpPr>
            <p:spPr>
              <a:xfrm>
                <a:off x="369720" y="2590920"/>
                <a:ext cx="2133360" cy="228600"/>
              </a:xfrm>
              <a:prstGeom prst="rect">
                <a:avLst/>
              </a:pr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1001520" y="2667240"/>
                <a:ext cx="632160" cy="3045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29" name=""/>
            <p:cNvSpPr/>
            <p:nvPr/>
          </p:nvSpPr>
          <p:spPr>
            <a:xfrm>
              <a:off x="369720" y="3048120"/>
              <a:ext cx="2133720" cy="7596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369720" y="3352680"/>
              <a:ext cx="2133720" cy="1526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31" name=""/>
            <p:cNvGrpSpPr/>
            <p:nvPr/>
          </p:nvGrpSpPr>
          <p:grpSpPr>
            <a:xfrm>
              <a:off x="522360" y="2362320"/>
              <a:ext cx="1828800" cy="228600"/>
              <a:chOff x="522360" y="2362320"/>
              <a:chExt cx="1828800" cy="228600"/>
            </a:xfrm>
          </p:grpSpPr>
          <p:sp>
            <p:nvSpPr>
              <p:cNvPr id="932" name=""/>
              <p:cNvSpPr/>
              <p:nvPr/>
            </p:nvSpPr>
            <p:spPr>
              <a:xfrm>
                <a:off x="522360" y="2362320"/>
                <a:ext cx="0" cy="228600"/>
              </a:xfrm>
              <a:prstGeom prst="line">
                <a:avLst/>
              </a:prstGeom>
              <a:ln w="9360">
                <a:solidFill>
                  <a:srgbClr val="808080"/>
                </a:solidFill>
                <a:prstDash val="sysDot"/>
                <a:miter/>
                <a:headEnd len="med" type="stealth" w="med"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827280" y="2362320"/>
                <a:ext cx="0" cy="228600"/>
              </a:xfrm>
              <a:prstGeom prst="line">
                <a:avLst/>
              </a:prstGeom>
              <a:ln w="9360">
                <a:solidFill>
                  <a:srgbClr val="808080"/>
                </a:solidFill>
                <a:prstDash val="sysDot"/>
                <a:miter/>
                <a:headEnd len="med" type="stealth" w="med"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1132200" y="2362320"/>
                <a:ext cx="0" cy="228600"/>
              </a:xfrm>
              <a:prstGeom prst="line">
                <a:avLst/>
              </a:prstGeom>
              <a:ln w="9360">
                <a:solidFill>
                  <a:srgbClr val="808080"/>
                </a:solidFill>
                <a:prstDash val="sysDot"/>
                <a:miter/>
                <a:headEnd len="med" type="stealth" w="med"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1436760" y="2362320"/>
                <a:ext cx="0" cy="228600"/>
              </a:xfrm>
              <a:prstGeom prst="line">
                <a:avLst/>
              </a:prstGeom>
              <a:ln w="9360">
                <a:solidFill>
                  <a:srgbClr val="808080"/>
                </a:solidFill>
                <a:prstDash val="sysDot"/>
                <a:miter/>
                <a:headEnd len="med" type="stealth" w="med"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1741680" y="2362320"/>
                <a:ext cx="0" cy="228600"/>
              </a:xfrm>
              <a:prstGeom prst="line">
                <a:avLst/>
              </a:prstGeom>
              <a:ln w="9360">
                <a:solidFill>
                  <a:srgbClr val="808080"/>
                </a:solidFill>
                <a:prstDash val="sysDot"/>
                <a:miter/>
                <a:headEnd len="med" type="stealth" w="med"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2046600" y="2362320"/>
                <a:ext cx="0" cy="228600"/>
              </a:xfrm>
              <a:prstGeom prst="line">
                <a:avLst/>
              </a:prstGeom>
              <a:ln w="9360">
                <a:solidFill>
                  <a:srgbClr val="808080"/>
                </a:solidFill>
                <a:prstDash val="sysDot"/>
                <a:miter/>
                <a:headEnd len="med" type="stealth" w="med"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2351160" y="2362320"/>
                <a:ext cx="0" cy="228600"/>
              </a:xfrm>
              <a:prstGeom prst="line">
                <a:avLst/>
              </a:prstGeom>
              <a:ln w="9360">
                <a:solidFill>
                  <a:srgbClr val="808080"/>
                </a:solidFill>
                <a:prstDash val="sysDot"/>
                <a:miter/>
                <a:headEnd len="med" type="stealth" w="med"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9" name=""/>
            <p:cNvGrpSpPr/>
            <p:nvPr/>
          </p:nvGrpSpPr>
          <p:grpSpPr>
            <a:xfrm>
              <a:off x="522360" y="2819520"/>
              <a:ext cx="1828800" cy="228600"/>
              <a:chOff x="522360" y="2819520"/>
              <a:chExt cx="1828800" cy="228600"/>
            </a:xfrm>
          </p:grpSpPr>
          <p:sp>
            <p:nvSpPr>
              <p:cNvPr id="940" name=""/>
              <p:cNvSpPr/>
              <p:nvPr/>
            </p:nvSpPr>
            <p:spPr>
              <a:xfrm>
                <a:off x="522360" y="2819520"/>
                <a:ext cx="0" cy="228600"/>
              </a:xfrm>
              <a:prstGeom prst="line">
                <a:avLst/>
              </a:prstGeom>
              <a:ln w="9360">
                <a:solidFill>
                  <a:srgbClr val="808080"/>
                </a:solidFill>
                <a:prstDash val="sysDot"/>
                <a:miter/>
                <a:headEnd len="med" type="stealth" w="med"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827280" y="2819520"/>
                <a:ext cx="0" cy="228600"/>
              </a:xfrm>
              <a:prstGeom prst="line">
                <a:avLst/>
              </a:prstGeom>
              <a:ln w="9360">
                <a:solidFill>
                  <a:srgbClr val="808080"/>
                </a:solidFill>
                <a:prstDash val="sysDot"/>
                <a:miter/>
                <a:headEnd len="med" type="stealth" w="med"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1132200" y="2819520"/>
                <a:ext cx="0" cy="228600"/>
              </a:xfrm>
              <a:prstGeom prst="line">
                <a:avLst/>
              </a:prstGeom>
              <a:ln w="9360">
                <a:solidFill>
                  <a:srgbClr val="808080"/>
                </a:solidFill>
                <a:prstDash val="sysDot"/>
                <a:miter/>
                <a:headEnd len="med" type="stealth" w="med"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1436760" y="2819520"/>
                <a:ext cx="0" cy="228600"/>
              </a:xfrm>
              <a:prstGeom prst="line">
                <a:avLst/>
              </a:prstGeom>
              <a:ln w="9360">
                <a:solidFill>
                  <a:srgbClr val="808080"/>
                </a:solidFill>
                <a:prstDash val="sysDot"/>
                <a:miter/>
                <a:headEnd len="med" type="stealth" w="med"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1741680" y="2819520"/>
                <a:ext cx="0" cy="228600"/>
              </a:xfrm>
              <a:prstGeom prst="line">
                <a:avLst/>
              </a:prstGeom>
              <a:ln w="9360">
                <a:solidFill>
                  <a:srgbClr val="808080"/>
                </a:solidFill>
                <a:prstDash val="sysDot"/>
                <a:miter/>
                <a:headEnd len="med" type="stealth" w="med"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2046600" y="2819520"/>
                <a:ext cx="0" cy="228600"/>
              </a:xfrm>
              <a:prstGeom prst="line">
                <a:avLst/>
              </a:prstGeom>
              <a:ln w="9360">
                <a:solidFill>
                  <a:srgbClr val="808080"/>
                </a:solidFill>
                <a:prstDash val="sysDot"/>
                <a:miter/>
                <a:headEnd len="med" type="stealth" w="med"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2351160" y="2819520"/>
                <a:ext cx="0" cy="228600"/>
              </a:xfrm>
              <a:prstGeom prst="line">
                <a:avLst/>
              </a:prstGeom>
              <a:ln w="9360">
                <a:solidFill>
                  <a:srgbClr val="808080"/>
                </a:solidFill>
                <a:prstDash val="sysDot"/>
                <a:miter/>
                <a:headEnd len="med" type="stealth" w="med"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7" name=""/>
            <p:cNvGrpSpPr/>
            <p:nvPr/>
          </p:nvGrpSpPr>
          <p:grpSpPr>
            <a:xfrm>
              <a:off x="522360" y="3124080"/>
              <a:ext cx="1828800" cy="228600"/>
              <a:chOff x="522360" y="3124080"/>
              <a:chExt cx="1828800" cy="228600"/>
            </a:xfrm>
          </p:grpSpPr>
          <p:sp>
            <p:nvSpPr>
              <p:cNvPr id="948" name=""/>
              <p:cNvSpPr/>
              <p:nvPr/>
            </p:nvSpPr>
            <p:spPr>
              <a:xfrm>
                <a:off x="522360" y="3124080"/>
                <a:ext cx="0" cy="228600"/>
              </a:xfrm>
              <a:prstGeom prst="line">
                <a:avLst/>
              </a:prstGeom>
              <a:ln w="9360">
                <a:solidFill>
                  <a:srgbClr val="808080"/>
                </a:solidFill>
                <a:prstDash val="sysDot"/>
                <a:miter/>
                <a:headEnd len="med" type="stealth" w="med"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827280" y="3124080"/>
                <a:ext cx="0" cy="228600"/>
              </a:xfrm>
              <a:prstGeom prst="line">
                <a:avLst/>
              </a:prstGeom>
              <a:ln w="9360">
                <a:solidFill>
                  <a:srgbClr val="808080"/>
                </a:solidFill>
                <a:prstDash val="sysDot"/>
                <a:miter/>
                <a:headEnd len="med" type="stealth" w="med"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1132200" y="3124080"/>
                <a:ext cx="0" cy="228600"/>
              </a:xfrm>
              <a:prstGeom prst="line">
                <a:avLst/>
              </a:prstGeom>
              <a:ln w="9360">
                <a:solidFill>
                  <a:srgbClr val="808080"/>
                </a:solidFill>
                <a:prstDash val="sysDot"/>
                <a:miter/>
                <a:headEnd len="med" type="stealth" w="med"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1436760" y="3124080"/>
                <a:ext cx="0" cy="228600"/>
              </a:xfrm>
              <a:prstGeom prst="line">
                <a:avLst/>
              </a:prstGeom>
              <a:ln w="9360">
                <a:solidFill>
                  <a:srgbClr val="808080"/>
                </a:solidFill>
                <a:prstDash val="sysDot"/>
                <a:miter/>
                <a:headEnd len="med" type="stealth" w="med"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1741680" y="3124080"/>
                <a:ext cx="0" cy="228600"/>
              </a:xfrm>
              <a:prstGeom prst="line">
                <a:avLst/>
              </a:prstGeom>
              <a:ln w="9360">
                <a:solidFill>
                  <a:srgbClr val="808080"/>
                </a:solidFill>
                <a:prstDash val="sysDot"/>
                <a:miter/>
                <a:headEnd len="med" type="stealth" w="med"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2046600" y="3124080"/>
                <a:ext cx="0" cy="228600"/>
              </a:xfrm>
              <a:prstGeom prst="line">
                <a:avLst/>
              </a:prstGeom>
              <a:ln w="9360">
                <a:solidFill>
                  <a:srgbClr val="808080"/>
                </a:solidFill>
                <a:prstDash val="sysDot"/>
                <a:miter/>
                <a:headEnd len="med" type="stealth" w="med"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2351160" y="3124080"/>
                <a:ext cx="0" cy="228600"/>
              </a:xfrm>
              <a:prstGeom prst="line">
                <a:avLst/>
              </a:prstGeom>
              <a:ln w="9360">
                <a:solidFill>
                  <a:srgbClr val="808080"/>
                </a:solidFill>
                <a:prstDash val="sysDot"/>
                <a:miter/>
                <a:headEnd len="med" type="stealth" w="med"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5" name=""/>
            <p:cNvSpPr/>
            <p:nvPr/>
          </p:nvSpPr>
          <p:spPr>
            <a:xfrm>
              <a:off x="2505960" y="1965240"/>
              <a:ext cx="61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DMS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2505960" y="2590920"/>
              <a:ext cx="61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DMS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2505960" y="2971800"/>
              <a:ext cx="61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DMS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304920" y="1279440"/>
              <a:ext cx="243828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 u="sng">
                  <a:solidFill>
                    <a:srgbClr val="000000"/>
                  </a:solidFill>
                  <a:uFillTx/>
                  <a:latin typeface="Arial"/>
                </a:rPr>
                <a:t>Fabrication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9" name="" descr=""/>
          <p:cNvPicPr/>
          <p:nvPr/>
        </p:nvPicPr>
        <p:blipFill>
          <a:blip r:embed="rId1"/>
          <a:stretch/>
        </p:blipFill>
        <p:spPr>
          <a:xfrm>
            <a:off x="685800" y="1295280"/>
            <a:ext cx="2057400" cy="1839960"/>
          </a:xfrm>
          <a:prstGeom prst="rect">
            <a:avLst/>
          </a:prstGeom>
          <a:ln w="0">
            <a:noFill/>
          </a:ln>
        </p:spPr>
      </p:pic>
      <p:sp>
        <p:nvSpPr>
          <p:cNvPr id="960" name=""/>
          <p:cNvSpPr/>
          <p:nvPr/>
        </p:nvSpPr>
        <p:spPr>
          <a:xfrm>
            <a:off x="2879640" y="6507000"/>
            <a:ext cx="299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ng et al. Nucleic Acids Research, 20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0" y="7632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rebuchet MS"/>
              </a:rPr>
              <a:t>Parallel microfluidic gene synthesi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2" name=""/>
          <p:cNvGraphicFramePr/>
          <p:nvPr/>
        </p:nvGraphicFramePr>
        <p:xfrm>
          <a:off x="3546360" y="1262160"/>
          <a:ext cx="4149720" cy="2014560"/>
        </p:xfrm>
        <a:graphic>
          <a:graphicData uri="http://schemas.openxmlformats.org/drawingml/2006/table">
            <a:tbl>
              <a:tblPr/>
              <a:tblGrid>
                <a:gridCol w="824040"/>
                <a:gridCol w="547560"/>
                <a:gridCol w="685800"/>
                <a:gridCol w="1067040"/>
                <a:gridCol w="1025280"/>
              </a:tblGrid>
              <a:tr h="550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en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otal size (nt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umber of olig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struction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ligo size (nt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mplifying Primer sizes (nt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b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2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5, 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j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5, 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6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1, 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sR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5, 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R128-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4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1, 3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F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9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9, 2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963" name=""/>
          <p:cNvGrpSpPr/>
          <p:nvPr/>
        </p:nvGrpSpPr>
        <p:grpSpPr>
          <a:xfrm>
            <a:off x="228600" y="3303720"/>
            <a:ext cx="8534520" cy="3097080"/>
            <a:chOff x="228600" y="3303720"/>
            <a:chExt cx="8534520" cy="3097080"/>
          </a:xfrm>
        </p:grpSpPr>
        <p:pic>
          <p:nvPicPr>
            <p:cNvPr id="964" name="" descr=""/>
            <p:cNvPicPr/>
            <p:nvPr/>
          </p:nvPicPr>
          <p:blipFill>
            <a:blip r:embed="rId2"/>
            <a:srcRect l="41335" t="0" r="0" b="0"/>
            <a:stretch/>
          </p:blipFill>
          <p:spPr>
            <a:xfrm>
              <a:off x="6438960" y="3303720"/>
              <a:ext cx="2324160" cy="309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5" name="" descr=""/>
            <p:cNvPicPr/>
            <p:nvPr/>
          </p:nvPicPr>
          <p:blipFill>
            <a:blip r:embed="rId3"/>
            <a:stretch/>
          </p:blipFill>
          <p:spPr>
            <a:xfrm>
              <a:off x="228600" y="3863880"/>
              <a:ext cx="2819520" cy="230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6" name="" descr=""/>
            <p:cNvPicPr/>
            <p:nvPr/>
          </p:nvPicPr>
          <p:blipFill>
            <a:blip r:embed="rId4"/>
            <a:stretch/>
          </p:blipFill>
          <p:spPr>
            <a:xfrm>
              <a:off x="3095640" y="3884760"/>
              <a:ext cx="3152880" cy="236376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67" name=""/>
          <p:cNvGraphicFramePr/>
          <p:nvPr/>
        </p:nvGraphicFramePr>
        <p:xfrm>
          <a:off x="533520" y="2013120"/>
          <a:ext cx="4419360" cy="4082760"/>
        </p:xfrm>
        <a:graphic>
          <a:graphicData uri="http://schemas.openxmlformats.org/drawingml/2006/table">
            <a:tbl>
              <a:tblPr/>
              <a:tblGrid>
                <a:gridCol w="1195200"/>
                <a:gridCol w="1197000"/>
                <a:gridCol w="1036800"/>
                <a:gridCol w="990360"/>
              </a:tblGrid>
              <a:tr h="6415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Error Typ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Microfluidi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Devi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PCR tub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Dele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Single-ba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1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Dele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Multiple-ba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Transi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G/C to A/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Transi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A/T to G/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Transvers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G/C to C/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Transvers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G/C to T/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Transvers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A/T to C/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4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Transvers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A/T to T/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20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Total Errors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20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Bases Sequenced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16,2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13,38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41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Error Rate (per base)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0.00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0.00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68" name=""/>
          <p:cNvSpPr/>
          <p:nvPr/>
        </p:nvSpPr>
        <p:spPr>
          <a:xfrm>
            <a:off x="5410080" y="4648320"/>
            <a:ext cx="308952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-verified identity of each gene by sequencing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5410080" y="5408640"/>
            <a:ext cx="352116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-12.5% of clones were error-free in agreement with theoretical prediction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0" name=""/>
          <p:cNvGrpSpPr/>
          <p:nvPr/>
        </p:nvGrpSpPr>
        <p:grpSpPr>
          <a:xfrm>
            <a:off x="5238720" y="1143000"/>
            <a:ext cx="3828960" cy="2923920"/>
            <a:chOff x="5238720" y="1143000"/>
            <a:chExt cx="3828960" cy="2923920"/>
          </a:xfrm>
        </p:grpSpPr>
        <p:pic>
          <p:nvPicPr>
            <p:cNvPr id="971" name="" descr=""/>
            <p:cNvPicPr/>
            <p:nvPr/>
          </p:nvPicPr>
          <p:blipFill>
            <a:blip r:embed="rId1"/>
            <a:srcRect l="48857" t="0" r="0" b="0"/>
            <a:stretch/>
          </p:blipFill>
          <p:spPr>
            <a:xfrm>
              <a:off x="5238720" y="1143000"/>
              <a:ext cx="3828960" cy="292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2" name=""/>
            <p:cNvSpPr/>
            <p:nvPr/>
          </p:nvSpPr>
          <p:spPr>
            <a:xfrm>
              <a:off x="6684840" y="1552320"/>
              <a:ext cx="628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 in 6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7468920" y="2009520"/>
              <a:ext cx="698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 in 14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7925760" y="2771640"/>
              <a:ext cx="734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 in 10,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5" name=""/>
          <p:cNvSpPr/>
          <p:nvPr/>
        </p:nvSpPr>
        <p:spPr>
          <a:xfrm>
            <a:off x="2879640" y="6507000"/>
            <a:ext cx="299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ng et al. Nucleic Acids Research, 20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6075360" y="4038480"/>
            <a:ext cx="2457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rr et al. Nucleic Acids Research, 20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1608840" y="1376280"/>
            <a:ext cx="2119320" cy="368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quencing resul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0" y="7632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rebuchet MS"/>
              </a:rPr>
              <a:t>Parallel microfluidic gene synthesi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"/>
          <p:cNvSpPr/>
          <p:nvPr/>
        </p:nvSpPr>
        <p:spPr>
          <a:xfrm>
            <a:off x="1676520" y="2209680"/>
            <a:ext cx="5600520" cy="28958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0" name=""/>
          <p:cNvGrpSpPr/>
          <p:nvPr/>
        </p:nvGrpSpPr>
        <p:grpSpPr>
          <a:xfrm>
            <a:off x="7238880" y="1219320"/>
            <a:ext cx="1905120" cy="5105160"/>
            <a:chOff x="7238880" y="1219320"/>
            <a:chExt cx="1905120" cy="5105160"/>
          </a:xfrm>
        </p:grpSpPr>
        <p:sp>
          <p:nvSpPr>
            <p:cNvPr id="981" name=""/>
            <p:cNvSpPr/>
            <p:nvPr/>
          </p:nvSpPr>
          <p:spPr>
            <a:xfrm>
              <a:off x="7286760" y="1219320"/>
              <a:ext cx="1857240" cy="510516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7238880" y="2220840"/>
              <a:ext cx="76320" cy="287964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3" name=""/>
          <p:cNvGrpSpPr/>
          <p:nvPr/>
        </p:nvGrpSpPr>
        <p:grpSpPr>
          <a:xfrm>
            <a:off x="153000" y="3220920"/>
            <a:ext cx="1297800" cy="1537920"/>
            <a:chOff x="153000" y="3220920"/>
            <a:chExt cx="1297800" cy="1537920"/>
          </a:xfrm>
        </p:grpSpPr>
        <p:pic>
          <p:nvPicPr>
            <p:cNvPr id="984" name="" descr=""/>
            <p:cNvPicPr/>
            <p:nvPr/>
          </p:nvPicPr>
          <p:blipFill>
            <a:blip r:embed="rId1"/>
            <a:stretch/>
          </p:blipFill>
          <p:spPr>
            <a:xfrm>
              <a:off x="154080" y="3220920"/>
              <a:ext cx="1295280" cy="97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5" name=""/>
            <p:cNvSpPr/>
            <p:nvPr/>
          </p:nvSpPr>
          <p:spPr>
            <a:xfrm>
              <a:off x="153000" y="4238640"/>
              <a:ext cx="12978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rebuchet MS"/>
                </a:rPr>
                <a:t>user design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rebuchet MS"/>
                </a:rPr>
                <a:t>DN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6" name=""/>
          <p:cNvSpPr/>
          <p:nvPr/>
        </p:nvSpPr>
        <p:spPr>
          <a:xfrm>
            <a:off x="0" y="7632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rebuchet MS"/>
              </a:rPr>
              <a:t>Microfluidic Gene Synthesis:</a:t>
            </a:r>
            <a:br>
              <a:rPr sz="3400"/>
            </a:br>
            <a:r>
              <a:rPr b="0" i="1" lang="en-US" sz="3200" spc="-1" strike="noStrike">
                <a:solidFill>
                  <a:srgbClr val="0099ff"/>
                </a:solidFill>
                <a:latin typeface="Trebuchet MS"/>
              </a:rPr>
              <a:t>Integration Road M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7" name=""/>
          <p:cNvGrpSpPr/>
          <p:nvPr/>
        </p:nvGrpSpPr>
        <p:grpSpPr>
          <a:xfrm>
            <a:off x="1382760" y="2541600"/>
            <a:ext cx="1473120" cy="1649520"/>
            <a:chOff x="1382760" y="2541600"/>
            <a:chExt cx="1473120" cy="1649520"/>
          </a:xfrm>
        </p:grpSpPr>
        <p:pic>
          <p:nvPicPr>
            <p:cNvPr id="988" name="" descr=""/>
            <p:cNvPicPr/>
            <p:nvPr/>
          </p:nvPicPr>
          <p:blipFill>
            <a:blip r:embed="rId2"/>
            <a:stretch/>
          </p:blipFill>
          <p:spPr>
            <a:xfrm>
              <a:off x="1811160" y="3276720"/>
              <a:ext cx="91440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9" name=""/>
            <p:cNvSpPr/>
            <p:nvPr/>
          </p:nvSpPr>
          <p:spPr>
            <a:xfrm>
              <a:off x="1683000" y="2541600"/>
              <a:ext cx="11728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rebuchet MS"/>
                </a:rPr>
                <a:t>olig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rebuchet MS"/>
                </a:rPr>
                <a:t>microarra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rebuchet MS"/>
                </a:rPr>
                <a:t>synthesi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1382760" y="3581280"/>
              <a:ext cx="503280" cy="304920"/>
            </a:xfrm>
            <a:prstGeom prst="rightArrow">
              <a:avLst>
                <a:gd name="adj1" fmla="val 50000"/>
                <a:gd name="adj2" fmla="val 41263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1" name=""/>
          <p:cNvGrpSpPr/>
          <p:nvPr/>
        </p:nvGrpSpPr>
        <p:grpSpPr>
          <a:xfrm>
            <a:off x="2670120" y="2895480"/>
            <a:ext cx="1668960" cy="2034720"/>
            <a:chOff x="2670120" y="2895480"/>
            <a:chExt cx="1668960" cy="2034720"/>
          </a:xfrm>
        </p:grpSpPr>
        <p:pic>
          <p:nvPicPr>
            <p:cNvPr id="992" name="" descr=""/>
            <p:cNvPicPr/>
            <p:nvPr/>
          </p:nvPicPr>
          <p:blipFill>
            <a:blip r:embed="rId3"/>
            <a:stretch/>
          </p:blipFill>
          <p:spPr>
            <a:xfrm>
              <a:off x="3108240" y="2895480"/>
              <a:ext cx="903240" cy="152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3" name=""/>
            <p:cNvSpPr/>
            <p:nvPr/>
          </p:nvSpPr>
          <p:spPr>
            <a:xfrm>
              <a:off x="2771640" y="4410000"/>
              <a:ext cx="15674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rebuchet MS"/>
                </a:rPr>
                <a:t>assemb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rebuchet MS"/>
                </a:rPr>
                <a:t>DNA construc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2670120" y="3581280"/>
              <a:ext cx="503280" cy="304920"/>
            </a:xfrm>
            <a:prstGeom prst="rightArrow">
              <a:avLst>
                <a:gd name="adj1" fmla="val 50000"/>
                <a:gd name="adj2" fmla="val 41263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5" name=""/>
          <p:cNvGrpSpPr/>
          <p:nvPr/>
        </p:nvGrpSpPr>
        <p:grpSpPr>
          <a:xfrm>
            <a:off x="3946680" y="2657520"/>
            <a:ext cx="1535040" cy="1609560"/>
            <a:chOff x="3946680" y="2657520"/>
            <a:chExt cx="1535040" cy="1609560"/>
          </a:xfrm>
        </p:grpSpPr>
        <p:grpSp>
          <p:nvGrpSpPr>
            <p:cNvPr id="996" name=""/>
            <p:cNvGrpSpPr/>
            <p:nvPr/>
          </p:nvGrpSpPr>
          <p:grpSpPr>
            <a:xfrm>
              <a:off x="4384800" y="3200400"/>
              <a:ext cx="1096920" cy="1066680"/>
              <a:chOff x="4384800" y="3200400"/>
              <a:chExt cx="1096920" cy="1066680"/>
            </a:xfrm>
          </p:grpSpPr>
          <p:sp>
            <p:nvSpPr>
              <p:cNvPr id="997" name=""/>
              <p:cNvSpPr/>
              <p:nvPr/>
            </p:nvSpPr>
            <p:spPr>
              <a:xfrm>
                <a:off x="4384800" y="3200400"/>
                <a:ext cx="1096920" cy="1066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98" name=""/>
              <p:cNvGrpSpPr/>
              <p:nvPr/>
            </p:nvGrpSpPr>
            <p:grpSpPr>
              <a:xfrm>
                <a:off x="4514760" y="3363840"/>
                <a:ext cx="838440" cy="739440"/>
                <a:chOff x="4514760" y="3363840"/>
                <a:chExt cx="838440" cy="739440"/>
              </a:xfrm>
            </p:grpSpPr>
            <p:sp>
              <p:nvSpPr>
                <p:cNvPr id="999" name=""/>
                <p:cNvSpPr/>
                <p:nvPr/>
              </p:nvSpPr>
              <p:spPr>
                <a:xfrm>
                  <a:off x="4673880" y="3363840"/>
                  <a:ext cx="198360" cy="457200"/>
                </a:xfrm>
                <a:custGeom>
                  <a:avLst/>
                  <a:gdLst>
                    <a:gd name="textAreaLeft" fmla="*/ 22680 w 198360"/>
                    <a:gd name="textAreaRight" fmla="*/ 175680 w 198360"/>
                    <a:gd name="textAreaTop" fmla="*/ 22680 h 457200"/>
                    <a:gd name="textAreaBottom" fmla="*/ 434520 h 457200"/>
                  </a:gdLst>
                  <a:ahLst/>
                  <a:rect l="textAreaLeft" t="textAreaTop" r="textAreaRight" b="textAreaBottom"/>
                  <a:pathLst>
                    <a:path w="21600" h="49735">
                      <a:moveTo>
                        <a:pt x="8550" y="0"/>
                      </a:moveTo>
                      <a:arcTo wR="8550" hR="8550" stAng="16200000" swAng="-5400000"/>
                      <a:lnTo>
                        <a:pt x="0" y="41185"/>
                      </a:lnTo>
                      <a:arcTo wR="8550" hR="8550" stAng="10800000" swAng="-5400000"/>
                      <a:lnTo>
                        <a:pt x="13050" y="49735"/>
                      </a:lnTo>
                      <a:arcTo wR="8550" hR="8550" stAng="5400000" swAng="-5400000"/>
                      <a:lnTo>
                        <a:pt x="21600" y="8550"/>
                      </a:lnTo>
                      <a:arcTo wR="8550" hR="8550" stAng="0" swAng="-5400000"/>
                      <a:close/>
                    </a:path>
                  </a:pathLst>
                </a:custGeom>
                <a:solidFill>
                  <a:srgbClr val="8ffd75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00" name=""/>
                <p:cNvGrpSpPr/>
                <p:nvPr/>
              </p:nvGrpSpPr>
              <p:grpSpPr>
                <a:xfrm>
                  <a:off x="4514760" y="3451320"/>
                  <a:ext cx="838440" cy="651960"/>
                  <a:chOff x="4514760" y="3451320"/>
                  <a:chExt cx="838440" cy="651960"/>
                </a:xfrm>
              </p:grpSpPr>
              <p:grpSp>
                <p:nvGrpSpPr>
                  <p:cNvPr id="1001" name=""/>
                  <p:cNvGrpSpPr/>
                  <p:nvPr/>
                </p:nvGrpSpPr>
                <p:grpSpPr>
                  <a:xfrm>
                    <a:off x="4518000" y="3567240"/>
                    <a:ext cx="835200" cy="107640"/>
                    <a:chOff x="4518000" y="3567240"/>
                    <a:chExt cx="835200" cy="107640"/>
                  </a:xfrm>
                </p:grpSpPr>
                <p:sp>
                  <p:nvSpPr>
                    <p:cNvPr id="1002" name=""/>
                    <p:cNvSpPr/>
                    <p:nvPr/>
                  </p:nvSpPr>
                  <p:spPr>
                    <a:xfrm>
                      <a:off x="4518360" y="3567240"/>
                      <a:ext cx="834840" cy="0"/>
                    </a:xfrm>
                    <a:prstGeom prst="line">
                      <a:avLst/>
                    </a:prstGeom>
                    <a:ln w="19080">
                      <a:solidFill>
                        <a:srgbClr val="0000ff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03" name=""/>
                    <p:cNvSpPr/>
                    <p:nvPr/>
                  </p:nvSpPr>
                  <p:spPr>
                    <a:xfrm flipH="1">
                      <a:off x="4518000" y="3674880"/>
                      <a:ext cx="834840" cy="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004" name=""/>
                  <p:cNvGrpSpPr/>
                  <p:nvPr/>
                </p:nvGrpSpPr>
                <p:grpSpPr>
                  <a:xfrm>
                    <a:off x="4514760" y="3995640"/>
                    <a:ext cx="835200" cy="107640"/>
                    <a:chOff x="4514760" y="3995640"/>
                    <a:chExt cx="835200" cy="107640"/>
                  </a:xfrm>
                </p:grpSpPr>
                <p:sp>
                  <p:nvSpPr>
                    <p:cNvPr id="1005" name=""/>
                    <p:cNvSpPr/>
                    <p:nvPr/>
                  </p:nvSpPr>
                  <p:spPr>
                    <a:xfrm>
                      <a:off x="4515120" y="3995640"/>
                      <a:ext cx="834840" cy="0"/>
                    </a:xfrm>
                    <a:prstGeom prst="line">
                      <a:avLst/>
                    </a:prstGeom>
                    <a:ln w="19080">
                      <a:solidFill>
                        <a:srgbClr val="0000ff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06" name=""/>
                    <p:cNvSpPr/>
                    <p:nvPr/>
                  </p:nvSpPr>
                  <p:spPr>
                    <a:xfrm flipH="1">
                      <a:off x="4514760" y="4103280"/>
                      <a:ext cx="834840" cy="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007" name=""/>
                  <p:cNvSpPr/>
                  <p:nvPr/>
                </p:nvSpPr>
                <p:spPr>
                  <a:xfrm>
                    <a:off x="4746960" y="3451320"/>
                    <a:ext cx="56880" cy="10944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0000ff"/>
                  </a:solidFill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080" bIns="-10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1008" name=""/>
            <p:cNvSpPr/>
            <p:nvPr/>
          </p:nvSpPr>
          <p:spPr>
            <a:xfrm>
              <a:off x="4374000" y="2657520"/>
              <a:ext cx="10998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rebuchet MS"/>
                </a:rPr>
                <a:t>DNA err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rebuchet MS"/>
                </a:rPr>
                <a:t>correc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3946680" y="3581280"/>
              <a:ext cx="502920" cy="304920"/>
            </a:xfrm>
            <a:prstGeom prst="rightArrow">
              <a:avLst>
                <a:gd name="adj1" fmla="val 50000"/>
                <a:gd name="adj2" fmla="val 41234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0" name=""/>
          <p:cNvGrpSpPr/>
          <p:nvPr/>
        </p:nvGrpSpPr>
        <p:grpSpPr>
          <a:xfrm>
            <a:off x="5416560" y="3081240"/>
            <a:ext cx="1684080" cy="1834920"/>
            <a:chOff x="5416560" y="3081240"/>
            <a:chExt cx="1684080" cy="1834920"/>
          </a:xfrm>
        </p:grpSpPr>
        <p:pic>
          <p:nvPicPr>
            <p:cNvPr id="1011" name="" descr=""/>
            <p:cNvPicPr/>
            <p:nvPr/>
          </p:nvPicPr>
          <p:blipFill>
            <a:blip r:embed="rId4"/>
            <a:srcRect l="0" t="2645" r="48869" b="65632"/>
            <a:stretch/>
          </p:blipFill>
          <p:spPr>
            <a:xfrm>
              <a:off x="5854680" y="3081240"/>
              <a:ext cx="1241280" cy="12956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1012" name=""/>
            <p:cNvSpPr/>
            <p:nvPr/>
          </p:nvSpPr>
          <p:spPr>
            <a:xfrm>
              <a:off x="5883480" y="4395960"/>
              <a:ext cx="12171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rebuchet MS"/>
                </a:rPr>
                <a:t>larger sca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rebuchet MS"/>
                </a:rPr>
                <a:t>assembl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5416560" y="3581280"/>
              <a:ext cx="503280" cy="304920"/>
            </a:xfrm>
            <a:prstGeom prst="rightArrow">
              <a:avLst>
                <a:gd name="adj1" fmla="val 50000"/>
                <a:gd name="adj2" fmla="val 41263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4" name=""/>
          <p:cNvGrpSpPr/>
          <p:nvPr/>
        </p:nvGrpSpPr>
        <p:grpSpPr>
          <a:xfrm>
            <a:off x="6922440" y="1554120"/>
            <a:ext cx="2131200" cy="1663560"/>
            <a:chOff x="6922440" y="1554120"/>
            <a:chExt cx="2131200" cy="1663560"/>
          </a:xfrm>
        </p:grpSpPr>
        <p:pic>
          <p:nvPicPr>
            <p:cNvPr id="1015" name="" descr=""/>
            <p:cNvPicPr/>
            <p:nvPr/>
          </p:nvPicPr>
          <p:blipFill>
            <a:blip r:embed="rId5"/>
            <a:stretch/>
          </p:blipFill>
          <p:spPr>
            <a:xfrm>
              <a:off x="7542360" y="1554120"/>
              <a:ext cx="1511280" cy="11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6" name=""/>
            <p:cNvSpPr/>
            <p:nvPr/>
          </p:nvSpPr>
          <p:spPr>
            <a:xfrm>
              <a:off x="7923240" y="2757600"/>
              <a:ext cx="659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rebuchet MS"/>
                </a:rPr>
                <a:t>c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 rot="18328200">
              <a:off x="6886440" y="2666520"/>
              <a:ext cx="762120" cy="304920"/>
            </a:xfrm>
            <a:prstGeom prst="rightArrow">
              <a:avLst>
                <a:gd name="adj1" fmla="val 50000"/>
                <a:gd name="adj2" fmla="val 62485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8" name=""/>
          <p:cNvGrpSpPr/>
          <p:nvPr/>
        </p:nvGrpSpPr>
        <p:grpSpPr>
          <a:xfrm>
            <a:off x="7031160" y="3311640"/>
            <a:ext cx="2036520" cy="1033920"/>
            <a:chOff x="7031160" y="3311640"/>
            <a:chExt cx="2036520" cy="1033920"/>
          </a:xfrm>
        </p:grpSpPr>
        <p:pic>
          <p:nvPicPr>
            <p:cNvPr id="1019" name="" descr=""/>
            <p:cNvPicPr/>
            <p:nvPr/>
          </p:nvPicPr>
          <p:blipFill>
            <a:blip r:embed="rId6"/>
            <a:srcRect l="32866" t="0" r="8392" b="52606"/>
            <a:stretch/>
          </p:blipFill>
          <p:spPr>
            <a:xfrm>
              <a:off x="7467480" y="3311640"/>
              <a:ext cx="1600200" cy="7268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1020" name=""/>
            <p:cNvSpPr/>
            <p:nvPr/>
          </p:nvSpPr>
          <p:spPr>
            <a:xfrm>
              <a:off x="7591680" y="4038480"/>
              <a:ext cx="1352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rebuchet MS"/>
                </a:rPr>
                <a:t>sequence/Q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7031160" y="3581280"/>
              <a:ext cx="503280" cy="304920"/>
            </a:xfrm>
            <a:prstGeom prst="rightArrow">
              <a:avLst>
                <a:gd name="adj1" fmla="val 50000"/>
                <a:gd name="adj2" fmla="val 41263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2" name=""/>
          <p:cNvGrpSpPr/>
          <p:nvPr/>
        </p:nvGrpSpPr>
        <p:grpSpPr>
          <a:xfrm>
            <a:off x="6913080" y="4235040"/>
            <a:ext cx="2010240" cy="2015640"/>
            <a:chOff x="6913080" y="4235040"/>
            <a:chExt cx="2010240" cy="2015640"/>
          </a:xfrm>
        </p:grpSpPr>
        <p:grpSp>
          <p:nvGrpSpPr>
            <p:cNvPr id="1023" name=""/>
            <p:cNvGrpSpPr/>
            <p:nvPr/>
          </p:nvGrpSpPr>
          <p:grpSpPr>
            <a:xfrm>
              <a:off x="7489800" y="4454640"/>
              <a:ext cx="1433520" cy="1796040"/>
              <a:chOff x="7489800" y="4454640"/>
              <a:chExt cx="1433520" cy="1796040"/>
            </a:xfrm>
          </p:grpSpPr>
          <p:pic>
            <p:nvPicPr>
              <p:cNvPr id="1024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7642080" y="4454640"/>
                <a:ext cx="1128960" cy="144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25" name=""/>
              <p:cNvSpPr/>
              <p:nvPr/>
            </p:nvSpPr>
            <p:spPr>
              <a:xfrm>
                <a:off x="7489800" y="5943600"/>
                <a:ext cx="1433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rebuchet MS"/>
                  </a:rPr>
                  <a:t>express/assay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26" name=""/>
            <p:cNvSpPr/>
            <p:nvPr/>
          </p:nvSpPr>
          <p:spPr>
            <a:xfrm flipV="1" rot="3271800">
              <a:off x="6877080" y="4480560"/>
              <a:ext cx="761760" cy="304920"/>
            </a:xfrm>
            <a:prstGeom prst="rightArrow">
              <a:avLst>
                <a:gd name="adj1" fmla="val 50000"/>
                <a:gd name="adj2" fmla="val 62456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7" name=""/>
          <p:cNvGrpSpPr/>
          <p:nvPr/>
        </p:nvGrpSpPr>
        <p:grpSpPr>
          <a:xfrm>
            <a:off x="458640" y="6445080"/>
            <a:ext cx="8141400" cy="337320"/>
            <a:chOff x="458640" y="6445080"/>
            <a:chExt cx="8141400" cy="337320"/>
          </a:xfrm>
        </p:grpSpPr>
        <p:sp>
          <p:nvSpPr>
            <p:cNvPr id="1028" name=""/>
            <p:cNvSpPr/>
            <p:nvPr/>
          </p:nvSpPr>
          <p:spPr>
            <a:xfrm>
              <a:off x="458640" y="6445080"/>
              <a:ext cx="743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3770280" y="6445080"/>
              <a:ext cx="1587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(MOLECULES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7927200" y="6461280"/>
              <a:ext cx="672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1265400" y="6613560"/>
              <a:ext cx="2438280" cy="0"/>
            </a:xfrm>
            <a:prstGeom prst="line">
              <a:avLst/>
            </a:prstGeom>
            <a:ln w="38160">
              <a:solidFill>
                <a:srgbClr val="5f5f5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5423040" y="6613560"/>
              <a:ext cx="2438280" cy="0"/>
            </a:xfrm>
            <a:prstGeom prst="line">
              <a:avLst/>
            </a:prstGeom>
            <a:ln w="38160">
              <a:solidFill>
                <a:srgbClr val="5f5f5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3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blipFill rotWithShape="0">
            <a:blip r:embed="rId8">
              <a:alphaModFix amt="67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4" name=""/>
          <p:cNvGrpSpPr/>
          <p:nvPr/>
        </p:nvGrpSpPr>
        <p:grpSpPr>
          <a:xfrm>
            <a:off x="1600200" y="2514600"/>
            <a:ext cx="2743200" cy="2438280"/>
            <a:chOff x="1600200" y="2514600"/>
            <a:chExt cx="2743200" cy="2438280"/>
          </a:xfrm>
        </p:grpSpPr>
        <p:sp>
          <p:nvSpPr>
            <p:cNvPr id="1035" name=""/>
            <p:cNvSpPr/>
            <p:nvPr/>
          </p:nvSpPr>
          <p:spPr>
            <a:xfrm>
              <a:off x="1600200" y="2514600"/>
              <a:ext cx="2743200" cy="24382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36" name="" descr=""/>
            <p:cNvPicPr/>
            <p:nvPr/>
          </p:nvPicPr>
          <p:blipFill>
            <a:blip r:embed="rId9"/>
            <a:stretch/>
          </p:blipFill>
          <p:spPr>
            <a:xfrm>
              <a:off x="1808280" y="3276720"/>
              <a:ext cx="91440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7" name=""/>
            <p:cNvSpPr/>
            <p:nvPr/>
          </p:nvSpPr>
          <p:spPr>
            <a:xfrm>
              <a:off x="1679760" y="2541600"/>
              <a:ext cx="11728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rebuchet MS"/>
                </a:rPr>
                <a:t>olig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rebuchet MS"/>
                </a:rPr>
                <a:t>microarra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rebuchet MS"/>
                </a:rPr>
                <a:t>synthesi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38" name="" descr=""/>
            <p:cNvPicPr/>
            <p:nvPr/>
          </p:nvPicPr>
          <p:blipFill>
            <a:blip r:embed="rId10"/>
            <a:stretch/>
          </p:blipFill>
          <p:spPr>
            <a:xfrm>
              <a:off x="3105000" y="2895480"/>
              <a:ext cx="903600" cy="152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9" name=""/>
            <p:cNvSpPr/>
            <p:nvPr/>
          </p:nvSpPr>
          <p:spPr>
            <a:xfrm>
              <a:off x="2768400" y="4410000"/>
              <a:ext cx="15674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rebuchet MS"/>
                </a:rPr>
                <a:t>assemb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rebuchet MS"/>
                </a:rPr>
                <a:t>DNA construc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"/>
          <p:cNvSpPr/>
          <p:nvPr/>
        </p:nvSpPr>
        <p:spPr>
          <a:xfrm>
            <a:off x="2971800" y="2685960"/>
            <a:ext cx="16002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2971800" y="2685960"/>
            <a:ext cx="16002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2" name="" descr=""/>
          <p:cNvPicPr/>
          <p:nvPr/>
        </p:nvPicPr>
        <p:blipFill>
          <a:blip r:embed="rId1"/>
          <a:stretch/>
        </p:blipFill>
        <p:spPr>
          <a:xfrm>
            <a:off x="457200" y="1162080"/>
            <a:ext cx="3124080" cy="2266920"/>
          </a:xfrm>
          <a:prstGeom prst="rect">
            <a:avLst/>
          </a:prstGeom>
          <a:ln w="0">
            <a:noFill/>
          </a:ln>
        </p:spPr>
      </p:pic>
      <p:sp>
        <p:nvSpPr>
          <p:cNvPr id="1043" name=""/>
          <p:cNvSpPr/>
          <p:nvPr/>
        </p:nvSpPr>
        <p:spPr>
          <a:xfrm>
            <a:off x="3886200" y="1143000"/>
            <a:ext cx="4892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Perform synthesis without pre-assembly amplif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Enables increased utilization of high-density DNA microarrays b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reducing pool complex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limiting undesired oligo inte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maintaining reagent concentration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 desired lev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0" y="7632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rebuchet MS"/>
              </a:rPr>
              <a:t>Integrated Microarray-Microfluidics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45" name=""/>
          <p:cNvGraphicFramePr/>
          <p:nvPr/>
        </p:nvGraphicFramePr>
        <p:xfrm>
          <a:off x="1371600" y="3733920"/>
          <a:ext cx="6318360" cy="2457360"/>
        </p:xfrm>
        <a:graphic>
          <a:graphicData uri="http://schemas.openxmlformats.org/drawingml/2006/table">
            <a:tbl>
              <a:tblPr/>
              <a:tblGrid>
                <a:gridCol w="3218040"/>
                <a:gridCol w="1550880"/>
                <a:gridCol w="1549440"/>
              </a:tblGrid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gil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imblegen (MA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ligo spot feature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5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rea of spo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4x10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56 x10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ligo dens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1 picomole/mm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1 picomole/mm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aximum expected yield per spo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4 femtomo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256 femtomo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imensions of spot spac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2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 by 188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5 μm by 25 μ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inimal footprint of 16 oligo spo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.4x10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x10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inimal chamber volume (10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 height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.4 nanolite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 picolite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stimated concentration of each olig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20 n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56 n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46" name=""/>
          <p:cNvGraphicFramePr/>
          <p:nvPr/>
        </p:nvGraphicFramePr>
        <p:xfrm>
          <a:off x="1371600" y="3733920"/>
          <a:ext cx="6318000" cy="2457360"/>
        </p:xfrm>
        <a:graphic>
          <a:graphicData uri="http://schemas.openxmlformats.org/drawingml/2006/table">
            <a:tbl>
              <a:tblPr/>
              <a:tblGrid>
                <a:gridCol w="3217680"/>
                <a:gridCol w="1550880"/>
                <a:gridCol w="1549440"/>
              </a:tblGrid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gil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imblegen (MA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00">
                        <a:alpha val="50000"/>
                      </a:srgbClr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ligo spot feature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5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00">
                        <a:alpha val="50000"/>
                      </a:srgbClr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rea of spo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4x10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56 x10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00">
                        <a:alpha val="50000"/>
                      </a:srgbClr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ligo dens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1 picomole/mm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1 picomole/mm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00">
                        <a:alpha val="50000"/>
                      </a:srgbClr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aximum expected yield per spo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4 femtomo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256 femtomo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imensions of spot spac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2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 by 188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5 μm by 25 μ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00">
                        <a:alpha val="50000"/>
                      </a:srgbClr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inimal footprint of 16 oligo spo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.4x10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x10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00">
                        <a:alpha val="50000"/>
                      </a:srgbClr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inimal chamber volume (10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 height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.4 nanolite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 picolite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00">
                        <a:alpha val="50000"/>
                      </a:srgbClr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stimated concentration of each olig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20 n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56 n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"/>
          <p:cNvSpPr/>
          <p:nvPr/>
        </p:nvSpPr>
        <p:spPr>
          <a:xfrm>
            <a:off x="1676520" y="2209680"/>
            <a:ext cx="5600520" cy="28958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8" name=""/>
          <p:cNvGrpSpPr/>
          <p:nvPr/>
        </p:nvGrpSpPr>
        <p:grpSpPr>
          <a:xfrm>
            <a:off x="7238880" y="1219320"/>
            <a:ext cx="1905120" cy="5105160"/>
            <a:chOff x="7238880" y="1219320"/>
            <a:chExt cx="1905120" cy="5105160"/>
          </a:xfrm>
        </p:grpSpPr>
        <p:sp>
          <p:nvSpPr>
            <p:cNvPr id="1049" name=""/>
            <p:cNvSpPr/>
            <p:nvPr/>
          </p:nvSpPr>
          <p:spPr>
            <a:xfrm>
              <a:off x="7286760" y="1219320"/>
              <a:ext cx="1857240" cy="510516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7238880" y="2220840"/>
              <a:ext cx="76320" cy="287964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1" name=""/>
          <p:cNvGrpSpPr/>
          <p:nvPr/>
        </p:nvGrpSpPr>
        <p:grpSpPr>
          <a:xfrm>
            <a:off x="153000" y="3220920"/>
            <a:ext cx="1297800" cy="1537920"/>
            <a:chOff x="153000" y="3220920"/>
            <a:chExt cx="1297800" cy="1537920"/>
          </a:xfrm>
        </p:grpSpPr>
        <p:pic>
          <p:nvPicPr>
            <p:cNvPr id="1052" name="" descr=""/>
            <p:cNvPicPr/>
            <p:nvPr/>
          </p:nvPicPr>
          <p:blipFill>
            <a:blip r:embed="rId1"/>
            <a:stretch/>
          </p:blipFill>
          <p:spPr>
            <a:xfrm>
              <a:off x="154080" y="3220920"/>
              <a:ext cx="1295280" cy="97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3" name=""/>
            <p:cNvSpPr/>
            <p:nvPr/>
          </p:nvSpPr>
          <p:spPr>
            <a:xfrm>
              <a:off x="153000" y="4238640"/>
              <a:ext cx="12978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rebuchet MS"/>
                </a:rPr>
                <a:t>user design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rebuchet MS"/>
                </a:rPr>
                <a:t>DN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4" name=""/>
          <p:cNvGrpSpPr/>
          <p:nvPr/>
        </p:nvGrpSpPr>
        <p:grpSpPr>
          <a:xfrm>
            <a:off x="1382760" y="2541600"/>
            <a:ext cx="1473120" cy="1649520"/>
            <a:chOff x="1382760" y="2541600"/>
            <a:chExt cx="1473120" cy="1649520"/>
          </a:xfrm>
        </p:grpSpPr>
        <p:pic>
          <p:nvPicPr>
            <p:cNvPr id="1055" name="" descr=""/>
            <p:cNvPicPr/>
            <p:nvPr/>
          </p:nvPicPr>
          <p:blipFill>
            <a:blip r:embed="rId2"/>
            <a:stretch/>
          </p:blipFill>
          <p:spPr>
            <a:xfrm>
              <a:off x="1811160" y="3276720"/>
              <a:ext cx="91440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6" name=""/>
            <p:cNvSpPr/>
            <p:nvPr/>
          </p:nvSpPr>
          <p:spPr>
            <a:xfrm>
              <a:off x="1683000" y="2541600"/>
              <a:ext cx="11728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rebuchet MS"/>
                </a:rPr>
                <a:t>olig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rebuchet MS"/>
                </a:rPr>
                <a:t>microarra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rebuchet MS"/>
                </a:rPr>
                <a:t>synthesi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1382760" y="3581280"/>
              <a:ext cx="503280" cy="304920"/>
            </a:xfrm>
            <a:prstGeom prst="rightArrow">
              <a:avLst>
                <a:gd name="adj1" fmla="val 50000"/>
                <a:gd name="adj2" fmla="val 41263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8" name=""/>
          <p:cNvGrpSpPr/>
          <p:nvPr/>
        </p:nvGrpSpPr>
        <p:grpSpPr>
          <a:xfrm>
            <a:off x="2670120" y="2895480"/>
            <a:ext cx="1668960" cy="2034720"/>
            <a:chOff x="2670120" y="2895480"/>
            <a:chExt cx="1668960" cy="2034720"/>
          </a:xfrm>
        </p:grpSpPr>
        <p:pic>
          <p:nvPicPr>
            <p:cNvPr id="1059" name="" descr=""/>
            <p:cNvPicPr/>
            <p:nvPr/>
          </p:nvPicPr>
          <p:blipFill>
            <a:blip r:embed="rId3"/>
            <a:stretch/>
          </p:blipFill>
          <p:spPr>
            <a:xfrm>
              <a:off x="3108240" y="2895480"/>
              <a:ext cx="903240" cy="152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0" name=""/>
            <p:cNvSpPr/>
            <p:nvPr/>
          </p:nvSpPr>
          <p:spPr>
            <a:xfrm>
              <a:off x="2771640" y="4410000"/>
              <a:ext cx="15674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rebuchet MS"/>
                </a:rPr>
                <a:t>assemb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rebuchet MS"/>
                </a:rPr>
                <a:t>DNA construc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2670120" y="3581280"/>
              <a:ext cx="503280" cy="304920"/>
            </a:xfrm>
            <a:prstGeom prst="rightArrow">
              <a:avLst>
                <a:gd name="adj1" fmla="val 50000"/>
                <a:gd name="adj2" fmla="val 41263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2" name=""/>
          <p:cNvGrpSpPr/>
          <p:nvPr/>
        </p:nvGrpSpPr>
        <p:grpSpPr>
          <a:xfrm>
            <a:off x="3946680" y="2657520"/>
            <a:ext cx="1535040" cy="1609560"/>
            <a:chOff x="3946680" y="2657520"/>
            <a:chExt cx="1535040" cy="1609560"/>
          </a:xfrm>
        </p:grpSpPr>
        <p:grpSp>
          <p:nvGrpSpPr>
            <p:cNvPr id="1063" name=""/>
            <p:cNvGrpSpPr/>
            <p:nvPr/>
          </p:nvGrpSpPr>
          <p:grpSpPr>
            <a:xfrm>
              <a:off x="4384800" y="3200400"/>
              <a:ext cx="1096920" cy="1066680"/>
              <a:chOff x="4384800" y="3200400"/>
              <a:chExt cx="1096920" cy="1066680"/>
            </a:xfrm>
          </p:grpSpPr>
          <p:sp>
            <p:nvSpPr>
              <p:cNvPr id="1064" name=""/>
              <p:cNvSpPr/>
              <p:nvPr/>
            </p:nvSpPr>
            <p:spPr>
              <a:xfrm>
                <a:off x="4384800" y="3200400"/>
                <a:ext cx="1096920" cy="1066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65" name=""/>
              <p:cNvGrpSpPr/>
              <p:nvPr/>
            </p:nvGrpSpPr>
            <p:grpSpPr>
              <a:xfrm>
                <a:off x="4514760" y="3363840"/>
                <a:ext cx="838440" cy="739440"/>
                <a:chOff x="4514760" y="3363840"/>
                <a:chExt cx="838440" cy="739440"/>
              </a:xfrm>
            </p:grpSpPr>
            <p:sp>
              <p:nvSpPr>
                <p:cNvPr id="1066" name=""/>
                <p:cNvSpPr/>
                <p:nvPr/>
              </p:nvSpPr>
              <p:spPr>
                <a:xfrm>
                  <a:off x="4673880" y="3363840"/>
                  <a:ext cx="198360" cy="457200"/>
                </a:xfrm>
                <a:custGeom>
                  <a:avLst/>
                  <a:gdLst>
                    <a:gd name="textAreaLeft" fmla="*/ 22680 w 198360"/>
                    <a:gd name="textAreaRight" fmla="*/ 175680 w 198360"/>
                    <a:gd name="textAreaTop" fmla="*/ 22680 h 457200"/>
                    <a:gd name="textAreaBottom" fmla="*/ 434520 h 457200"/>
                  </a:gdLst>
                  <a:ahLst/>
                  <a:rect l="textAreaLeft" t="textAreaTop" r="textAreaRight" b="textAreaBottom"/>
                  <a:pathLst>
                    <a:path w="21600" h="49735">
                      <a:moveTo>
                        <a:pt x="8550" y="0"/>
                      </a:moveTo>
                      <a:arcTo wR="8550" hR="8550" stAng="16200000" swAng="-5400000"/>
                      <a:lnTo>
                        <a:pt x="0" y="41185"/>
                      </a:lnTo>
                      <a:arcTo wR="8550" hR="8550" stAng="10800000" swAng="-5400000"/>
                      <a:lnTo>
                        <a:pt x="13050" y="49735"/>
                      </a:lnTo>
                      <a:arcTo wR="8550" hR="8550" stAng="5400000" swAng="-5400000"/>
                      <a:lnTo>
                        <a:pt x="21600" y="8550"/>
                      </a:lnTo>
                      <a:arcTo wR="8550" hR="8550" stAng="0" swAng="-5400000"/>
                      <a:close/>
                    </a:path>
                  </a:pathLst>
                </a:custGeom>
                <a:solidFill>
                  <a:srgbClr val="8ffd75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67" name=""/>
                <p:cNvGrpSpPr/>
                <p:nvPr/>
              </p:nvGrpSpPr>
              <p:grpSpPr>
                <a:xfrm>
                  <a:off x="4514760" y="3451320"/>
                  <a:ext cx="838440" cy="651960"/>
                  <a:chOff x="4514760" y="3451320"/>
                  <a:chExt cx="838440" cy="651960"/>
                </a:xfrm>
              </p:grpSpPr>
              <p:grpSp>
                <p:nvGrpSpPr>
                  <p:cNvPr id="1068" name=""/>
                  <p:cNvGrpSpPr/>
                  <p:nvPr/>
                </p:nvGrpSpPr>
                <p:grpSpPr>
                  <a:xfrm>
                    <a:off x="4518000" y="3567240"/>
                    <a:ext cx="835200" cy="107640"/>
                    <a:chOff x="4518000" y="3567240"/>
                    <a:chExt cx="835200" cy="107640"/>
                  </a:xfrm>
                </p:grpSpPr>
                <p:sp>
                  <p:nvSpPr>
                    <p:cNvPr id="1069" name=""/>
                    <p:cNvSpPr/>
                    <p:nvPr/>
                  </p:nvSpPr>
                  <p:spPr>
                    <a:xfrm>
                      <a:off x="4518360" y="3567240"/>
                      <a:ext cx="834840" cy="0"/>
                    </a:xfrm>
                    <a:prstGeom prst="line">
                      <a:avLst/>
                    </a:prstGeom>
                    <a:ln w="19080">
                      <a:solidFill>
                        <a:srgbClr val="0000ff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70" name=""/>
                    <p:cNvSpPr/>
                    <p:nvPr/>
                  </p:nvSpPr>
                  <p:spPr>
                    <a:xfrm flipH="1">
                      <a:off x="4518000" y="3674880"/>
                      <a:ext cx="834840" cy="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071" name=""/>
                  <p:cNvGrpSpPr/>
                  <p:nvPr/>
                </p:nvGrpSpPr>
                <p:grpSpPr>
                  <a:xfrm>
                    <a:off x="4514760" y="3995640"/>
                    <a:ext cx="835200" cy="107640"/>
                    <a:chOff x="4514760" y="3995640"/>
                    <a:chExt cx="835200" cy="107640"/>
                  </a:xfrm>
                </p:grpSpPr>
                <p:sp>
                  <p:nvSpPr>
                    <p:cNvPr id="1072" name=""/>
                    <p:cNvSpPr/>
                    <p:nvPr/>
                  </p:nvSpPr>
                  <p:spPr>
                    <a:xfrm>
                      <a:off x="4515120" y="3995640"/>
                      <a:ext cx="834840" cy="0"/>
                    </a:xfrm>
                    <a:prstGeom prst="line">
                      <a:avLst/>
                    </a:prstGeom>
                    <a:ln w="19080">
                      <a:solidFill>
                        <a:srgbClr val="0000ff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73" name=""/>
                    <p:cNvSpPr/>
                    <p:nvPr/>
                  </p:nvSpPr>
                  <p:spPr>
                    <a:xfrm flipH="1">
                      <a:off x="4514760" y="4103280"/>
                      <a:ext cx="834840" cy="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074" name=""/>
                  <p:cNvSpPr/>
                  <p:nvPr/>
                </p:nvSpPr>
                <p:spPr>
                  <a:xfrm>
                    <a:off x="4746960" y="3451320"/>
                    <a:ext cx="56880" cy="10944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0000ff"/>
                  </a:solidFill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080" bIns="-10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1075" name=""/>
            <p:cNvSpPr/>
            <p:nvPr/>
          </p:nvSpPr>
          <p:spPr>
            <a:xfrm>
              <a:off x="4374000" y="2657520"/>
              <a:ext cx="10998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rebuchet MS"/>
                </a:rPr>
                <a:t>DNA err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rebuchet MS"/>
                </a:rPr>
                <a:t>correc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3946680" y="3581280"/>
              <a:ext cx="502920" cy="304920"/>
            </a:xfrm>
            <a:prstGeom prst="rightArrow">
              <a:avLst>
                <a:gd name="adj1" fmla="val 50000"/>
                <a:gd name="adj2" fmla="val 41234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7" name=""/>
          <p:cNvGrpSpPr/>
          <p:nvPr/>
        </p:nvGrpSpPr>
        <p:grpSpPr>
          <a:xfrm>
            <a:off x="5416560" y="3081240"/>
            <a:ext cx="1684080" cy="1834920"/>
            <a:chOff x="5416560" y="3081240"/>
            <a:chExt cx="1684080" cy="1834920"/>
          </a:xfrm>
        </p:grpSpPr>
        <p:pic>
          <p:nvPicPr>
            <p:cNvPr id="1078" name="" descr=""/>
            <p:cNvPicPr/>
            <p:nvPr/>
          </p:nvPicPr>
          <p:blipFill>
            <a:blip r:embed="rId4"/>
            <a:srcRect l="0" t="2645" r="48869" b="65632"/>
            <a:stretch/>
          </p:blipFill>
          <p:spPr>
            <a:xfrm>
              <a:off x="5854680" y="3081240"/>
              <a:ext cx="1241280" cy="12956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1079" name=""/>
            <p:cNvSpPr/>
            <p:nvPr/>
          </p:nvSpPr>
          <p:spPr>
            <a:xfrm>
              <a:off x="5883480" y="4395960"/>
              <a:ext cx="12171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rebuchet MS"/>
                </a:rPr>
                <a:t>larger sca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rebuchet MS"/>
                </a:rPr>
                <a:t>assembl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5416560" y="3581280"/>
              <a:ext cx="503280" cy="304920"/>
            </a:xfrm>
            <a:prstGeom prst="rightArrow">
              <a:avLst>
                <a:gd name="adj1" fmla="val 50000"/>
                <a:gd name="adj2" fmla="val 41263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1" name=""/>
          <p:cNvGrpSpPr/>
          <p:nvPr/>
        </p:nvGrpSpPr>
        <p:grpSpPr>
          <a:xfrm>
            <a:off x="6922440" y="1554120"/>
            <a:ext cx="2131200" cy="1663560"/>
            <a:chOff x="6922440" y="1554120"/>
            <a:chExt cx="2131200" cy="1663560"/>
          </a:xfrm>
        </p:grpSpPr>
        <p:pic>
          <p:nvPicPr>
            <p:cNvPr id="1082" name="" descr=""/>
            <p:cNvPicPr/>
            <p:nvPr/>
          </p:nvPicPr>
          <p:blipFill>
            <a:blip r:embed="rId5"/>
            <a:stretch/>
          </p:blipFill>
          <p:spPr>
            <a:xfrm>
              <a:off x="7542360" y="1554120"/>
              <a:ext cx="1511280" cy="11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3" name=""/>
            <p:cNvSpPr/>
            <p:nvPr/>
          </p:nvSpPr>
          <p:spPr>
            <a:xfrm>
              <a:off x="7923240" y="2757600"/>
              <a:ext cx="659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rebuchet MS"/>
                </a:rPr>
                <a:t>c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 rot="18328200">
              <a:off x="6886440" y="2666520"/>
              <a:ext cx="762120" cy="304920"/>
            </a:xfrm>
            <a:prstGeom prst="rightArrow">
              <a:avLst>
                <a:gd name="adj1" fmla="val 50000"/>
                <a:gd name="adj2" fmla="val 62485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5" name=""/>
          <p:cNvGrpSpPr/>
          <p:nvPr/>
        </p:nvGrpSpPr>
        <p:grpSpPr>
          <a:xfrm>
            <a:off x="7031160" y="3311640"/>
            <a:ext cx="2036520" cy="1033920"/>
            <a:chOff x="7031160" y="3311640"/>
            <a:chExt cx="2036520" cy="1033920"/>
          </a:xfrm>
        </p:grpSpPr>
        <p:pic>
          <p:nvPicPr>
            <p:cNvPr id="1086" name="" descr=""/>
            <p:cNvPicPr/>
            <p:nvPr/>
          </p:nvPicPr>
          <p:blipFill>
            <a:blip r:embed="rId6"/>
            <a:srcRect l="32866" t="0" r="8392" b="52606"/>
            <a:stretch/>
          </p:blipFill>
          <p:spPr>
            <a:xfrm>
              <a:off x="7467480" y="3311640"/>
              <a:ext cx="1600200" cy="7268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1087" name=""/>
            <p:cNvSpPr/>
            <p:nvPr/>
          </p:nvSpPr>
          <p:spPr>
            <a:xfrm>
              <a:off x="7591680" y="4038480"/>
              <a:ext cx="1352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rebuchet MS"/>
                </a:rPr>
                <a:t>sequence/Q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7031160" y="3581280"/>
              <a:ext cx="503280" cy="304920"/>
            </a:xfrm>
            <a:prstGeom prst="rightArrow">
              <a:avLst>
                <a:gd name="adj1" fmla="val 50000"/>
                <a:gd name="adj2" fmla="val 41263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9" name=""/>
          <p:cNvGrpSpPr/>
          <p:nvPr/>
        </p:nvGrpSpPr>
        <p:grpSpPr>
          <a:xfrm>
            <a:off x="6913080" y="4235040"/>
            <a:ext cx="2010240" cy="2015640"/>
            <a:chOff x="6913080" y="4235040"/>
            <a:chExt cx="2010240" cy="2015640"/>
          </a:xfrm>
        </p:grpSpPr>
        <p:grpSp>
          <p:nvGrpSpPr>
            <p:cNvPr id="1090" name=""/>
            <p:cNvGrpSpPr/>
            <p:nvPr/>
          </p:nvGrpSpPr>
          <p:grpSpPr>
            <a:xfrm>
              <a:off x="7489800" y="4454640"/>
              <a:ext cx="1433520" cy="1796040"/>
              <a:chOff x="7489800" y="4454640"/>
              <a:chExt cx="1433520" cy="1796040"/>
            </a:xfrm>
          </p:grpSpPr>
          <p:pic>
            <p:nvPicPr>
              <p:cNvPr id="1091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7642080" y="4454640"/>
                <a:ext cx="1128960" cy="144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92" name=""/>
              <p:cNvSpPr/>
              <p:nvPr/>
            </p:nvSpPr>
            <p:spPr>
              <a:xfrm>
                <a:off x="7489800" y="5943600"/>
                <a:ext cx="1433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rebuchet MS"/>
                  </a:rPr>
                  <a:t>express/assay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93" name=""/>
            <p:cNvSpPr/>
            <p:nvPr/>
          </p:nvSpPr>
          <p:spPr>
            <a:xfrm flipV="1" rot="3271800">
              <a:off x="6877080" y="4480560"/>
              <a:ext cx="761760" cy="304920"/>
            </a:xfrm>
            <a:prstGeom prst="rightArrow">
              <a:avLst>
                <a:gd name="adj1" fmla="val 50000"/>
                <a:gd name="adj2" fmla="val 62456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4" name=""/>
          <p:cNvGrpSpPr/>
          <p:nvPr/>
        </p:nvGrpSpPr>
        <p:grpSpPr>
          <a:xfrm>
            <a:off x="458640" y="6445080"/>
            <a:ext cx="8141400" cy="337320"/>
            <a:chOff x="458640" y="6445080"/>
            <a:chExt cx="8141400" cy="337320"/>
          </a:xfrm>
        </p:grpSpPr>
        <p:sp>
          <p:nvSpPr>
            <p:cNvPr id="1095" name=""/>
            <p:cNvSpPr/>
            <p:nvPr/>
          </p:nvSpPr>
          <p:spPr>
            <a:xfrm>
              <a:off x="458640" y="6445080"/>
              <a:ext cx="743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3770280" y="6445080"/>
              <a:ext cx="1587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(MOLECULES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7927200" y="6461280"/>
              <a:ext cx="672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1265400" y="6613560"/>
              <a:ext cx="2438280" cy="0"/>
            </a:xfrm>
            <a:prstGeom prst="line">
              <a:avLst/>
            </a:prstGeom>
            <a:ln w="38160">
              <a:solidFill>
                <a:srgbClr val="5f5f5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5423040" y="6613560"/>
              <a:ext cx="2438280" cy="0"/>
            </a:xfrm>
            <a:prstGeom prst="line">
              <a:avLst/>
            </a:prstGeom>
            <a:ln w="38160">
              <a:solidFill>
                <a:srgbClr val="5f5f5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0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blipFill rotWithShape="0">
            <a:blip r:embed="rId8">
              <a:alphaModFix amt="67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1" name=""/>
          <p:cNvGrpSpPr/>
          <p:nvPr/>
        </p:nvGrpSpPr>
        <p:grpSpPr>
          <a:xfrm>
            <a:off x="2743200" y="2666880"/>
            <a:ext cx="4572000" cy="2438640"/>
            <a:chOff x="2743200" y="2666880"/>
            <a:chExt cx="4572000" cy="2438640"/>
          </a:xfrm>
        </p:grpSpPr>
        <p:grpSp>
          <p:nvGrpSpPr>
            <p:cNvPr id="1102" name=""/>
            <p:cNvGrpSpPr/>
            <p:nvPr/>
          </p:nvGrpSpPr>
          <p:grpSpPr>
            <a:xfrm>
              <a:off x="5638680" y="2743200"/>
              <a:ext cx="1676520" cy="2362320"/>
              <a:chOff x="5638680" y="2743200"/>
              <a:chExt cx="1676520" cy="2362320"/>
            </a:xfrm>
          </p:grpSpPr>
          <p:sp>
            <p:nvSpPr>
              <p:cNvPr id="1103" name=""/>
              <p:cNvSpPr/>
              <p:nvPr/>
            </p:nvSpPr>
            <p:spPr>
              <a:xfrm>
                <a:off x="5638680" y="2743200"/>
                <a:ext cx="1676520" cy="236232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104" name="" descr=""/>
              <p:cNvPicPr/>
              <p:nvPr/>
            </p:nvPicPr>
            <p:blipFill>
              <a:blip r:embed="rId9"/>
              <a:srcRect l="0" t="2645" r="48869" b="65632"/>
              <a:stretch/>
            </p:blipFill>
            <p:spPr>
              <a:xfrm>
                <a:off x="5854680" y="3081240"/>
                <a:ext cx="1241280" cy="129564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sp>
            <p:nvSpPr>
              <p:cNvPr id="1105" name=""/>
              <p:cNvSpPr/>
              <p:nvPr/>
            </p:nvSpPr>
            <p:spPr>
              <a:xfrm>
                <a:off x="5883480" y="4395960"/>
                <a:ext cx="121716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rebuchet MS"/>
                  </a:rPr>
                  <a:t>larger scal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rebuchet MS"/>
                  </a:rPr>
                  <a:t>assembly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06" name=""/>
            <p:cNvGrpSpPr/>
            <p:nvPr/>
          </p:nvGrpSpPr>
          <p:grpSpPr>
            <a:xfrm>
              <a:off x="2743200" y="2666880"/>
              <a:ext cx="1600200" cy="2438640"/>
              <a:chOff x="2743200" y="2666880"/>
              <a:chExt cx="1600200" cy="2438640"/>
            </a:xfrm>
          </p:grpSpPr>
          <p:sp>
            <p:nvSpPr>
              <p:cNvPr id="1107" name=""/>
              <p:cNvSpPr/>
              <p:nvPr/>
            </p:nvSpPr>
            <p:spPr>
              <a:xfrm>
                <a:off x="2743200" y="2666880"/>
                <a:ext cx="1600200" cy="24386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108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3105000" y="2895480"/>
                <a:ext cx="903600" cy="1524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9" name=""/>
              <p:cNvSpPr/>
              <p:nvPr/>
            </p:nvSpPr>
            <p:spPr>
              <a:xfrm>
                <a:off x="2768400" y="4410000"/>
                <a:ext cx="156744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rebuchet MS"/>
                  </a:rPr>
                  <a:t>assembl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rebuchet MS"/>
                  </a:rPr>
                  <a:t>DNA construct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10" name=""/>
          <p:cNvSpPr/>
          <p:nvPr/>
        </p:nvSpPr>
        <p:spPr>
          <a:xfrm>
            <a:off x="0" y="7632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rebuchet MS"/>
              </a:rPr>
              <a:t>Microfluidic Gene Synthesis:</a:t>
            </a:r>
            <a:br>
              <a:rPr sz="3400"/>
            </a:br>
            <a:r>
              <a:rPr b="0" i="1" lang="en-US" sz="3200" spc="-1" strike="noStrike">
                <a:solidFill>
                  <a:srgbClr val="0099ff"/>
                </a:solidFill>
                <a:latin typeface="Trebuchet MS"/>
              </a:rPr>
              <a:t>Integration Road M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1" name="" descr=""/>
          <p:cNvPicPr/>
          <p:nvPr/>
        </p:nvPicPr>
        <p:blipFill>
          <a:blip r:embed="rId1"/>
          <a:stretch/>
        </p:blipFill>
        <p:spPr>
          <a:xfrm>
            <a:off x="304920" y="1701720"/>
            <a:ext cx="8486640" cy="4089600"/>
          </a:xfrm>
          <a:prstGeom prst="rect">
            <a:avLst/>
          </a:prstGeom>
          <a:ln w="0">
            <a:noFill/>
          </a:ln>
        </p:spPr>
      </p:pic>
      <p:sp>
        <p:nvSpPr>
          <p:cNvPr id="1112" name=""/>
          <p:cNvSpPr/>
          <p:nvPr/>
        </p:nvSpPr>
        <p:spPr>
          <a:xfrm>
            <a:off x="0" y="7632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rebuchet MS"/>
              </a:rPr>
              <a:t>Hierarchical gene synthesis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"/>
          <p:cNvSpPr/>
          <p:nvPr/>
        </p:nvSpPr>
        <p:spPr>
          <a:xfrm>
            <a:off x="76320" y="76320"/>
            <a:ext cx="8915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rebuchet MS"/>
              </a:rPr>
              <a:t>Hierarchical gene synthesis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4" name="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2514600" cy="1488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115" name=""/>
          <p:cNvSpPr/>
          <p:nvPr/>
        </p:nvSpPr>
        <p:spPr>
          <a:xfrm>
            <a:off x="1119240" y="2362320"/>
            <a:ext cx="25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6" name=""/>
          <p:cNvGrpSpPr/>
          <p:nvPr/>
        </p:nvGrpSpPr>
        <p:grpSpPr>
          <a:xfrm>
            <a:off x="4572000" y="1143000"/>
            <a:ext cx="4267080" cy="5103720"/>
            <a:chOff x="4572000" y="1143000"/>
            <a:chExt cx="4267080" cy="5103720"/>
          </a:xfrm>
        </p:grpSpPr>
        <p:pic>
          <p:nvPicPr>
            <p:cNvPr id="1117" name="" descr=""/>
            <p:cNvPicPr/>
            <p:nvPr/>
          </p:nvPicPr>
          <p:blipFill>
            <a:blip r:embed="rId2"/>
            <a:stretch/>
          </p:blipFill>
          <p:spPr>
            <a:xfrm>
              <a:off x="4572000" y="1143000"/>
              <a:ext cx="3657600" cy="166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8" name=""/>
            <p:cNvSpPr/>
            <p:nvPr/>
          </p:nvSpPr>
          <p:spPr>
            <a:xfrm>
              <a:off x="5943600" y="3135240"/>
              <a:ext cx="2895480" cy="311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cccc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00 nL reactor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cccc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cccc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n-chip mixing of synthesized fragments A, B, with a “rejuvenating mixture” of dNTPs, polymerase, and amplifying primer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cccc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cccc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ragment A, B, and E sample collec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9" name=""/>
          <p:cNvSpPr/>
          <p:nvPr/>
        </p:nvSpPr>
        <p:spPr>
          <a:xfrm>
            <a:off x="3733920" y="2057400"/>
            <a:ext cx="609480" cy="0"/>
          </a:xfrm>
          <a:prstGeom prst="line">
            <a:avLst/>
          </a:prstGeom>
          <a:ln w="1015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685800" y="2971800"/>
            <a:ext cx="7772400" cy="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1" name=""/>
          <p:cNvGrpSpPr/>
          <p:nvPr/>
        </p:nvGrpSpPr>
        <p:grpSpPr>
          <a:xfrm>
            <a:off x="762120" y="3124080"/>
            <a:ext cx="4800600" cy="3573720"/>
            <a:chOff x="762120" y="3124080"/>
            <a:chExt cx="4800600" cy="3573720"/>
          </a:xfrm>
        </p:grpSpPr>
        <p:sp>
          <p:nvSpPr>
            <p:cNvPr id="1122" name=""/>
            <p:cNvSpPr/>
            <p:nvPr/>
          </p:nvSpPr>
          <p:spPr>
            <a:xfrm>
              <a:off x="2820240" y="6421320"/>
              <a:ext cx="866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real time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23" name="" descr=""/>
            <p:cNvPicPr/>
            <p:nvPr/>
          </p:nvPicPr>
          <p:blipFill>
            <a:blip r:embed="rId3"/>
            <a:stretch/>
          </p:blipFill>
          <p:spPr>
            <a:xfrm>
              <a:off x="762120" y="3124080"/>
              <a:ext cx="4800600" cy="32734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Uses for DNA On-Deman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62120" y="3581280"/>
            <a:ext cx="1600200" cy="45720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80008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360" y="3544920"/>
            <a:ext cx="607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i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362320" y="3581280"/>
            <a:ext cx="1600200" cy="45720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100000">
                <a:srgbClr val="0000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962520" y="3581280"/>
            <a:ext cx="1600200" cy="4572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ff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562720" y="3581280"/>
            <a:ext cx="1600200" cy="45720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ffff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162920" y="3581280"/>
            <a:ext cx="1600200" cy="45720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66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491760" y="4114800"/>
            <a:ext cx="8566560" cy="459720"/>
            <a:chOff x="491760" y="4114800"/>
            <a:chExt cx="8566560" cy="459720"/>
          </a:xfrm>
        </p:grpSpPr>
        <p:sp>
          <p:nvSpPr>
            <p:cNvPr id="64" name=""/>
            <p:cNvSpPr/>
            <p:nvPr/>
          </p:nvSpPr>
          <p:spPr>
            <a:xfrm>
              <a:off x="491760" y="4114800"/>
              <a:ext cx="61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440200" y="4114800"/>
              <a:ext cx="61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260680" y="4114800"/>
              <a:ext cx="61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669840" y="4114800"/>
              <a:ext cx="61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080800" y="4114800"/>
              <a:ext cx="61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849720" y="4114800"/>
              <a:ext cx="61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914400" y="1130400"/>
            <a:ext cx="4343400" cy="2222280"/>
            <a:chOff x="914400" y="1130400"/>
            <a:chExt cx="4343400" cy="2222280"/>
          </a:xfrm>
        </p:grpSpPr>
        <p:pic>
          <p:nvPicPr>
            <p:cNvPr id="71" name="" descr=""/>
            <p:cNvPicPr/>
            <p:nvPr/>
          </p:nvPicPr>
          <p:blipFill>
            <a:blip r:embed="rId1"/>
            <a:stretch/>
          </p:blipFill>
          <p:spPr>
            <a:xfrm>
              <a:off x="1612800" y="1130400"/>
              <a:ext cx="1397160" cy="179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"/>
            <p:cNvSpPr/>
            <p:nvPr/>
          </p:nvSpPr>
          <p:spPr>
            <a:xfrm>
              <a:off x="1604160" y="2895480"/>
              <a:ext cx="154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ingle genes*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914400" y="3352680"/>
              <a:ext cx="4343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2514600" y="4681440"/>
            <a:ext cx="3200400" cy="2243160"/>
            <a:chOff x="2514600" y="4681440"/>
            <a:chExt cx="3200400" cy="2243160"/>
          </a:xfrm>
        </p:grpSpPr>
        <p:pic>
          <p:nvPicPr>
            <p:cNvPr id="75" name="" descr=""/>
            <p:cNvPicPr/>
            <p:nvPr/>
          </p:nvPicPr>
          <p:blipFill>
            <a:blip r:embed="rId2"/>
            <a:srcRect l="0" t="2645" r="48869" b="65632"/>
            <a:stretch/>
          </p:blipFill>
          <p:spPr>
            <a:xfrm>
              <a:off x="3238560" y="5095800"/>
              <a:ext cx="1752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"/>
            <p:cNvSpPr/>
            <p:nvPr/>
          </p:nvSpPr>
          <p:spPr>
            <a:xfrm>
              <a:off x="3269880" y="4703760"/>
              <a:ext cx="168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genetic circui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514600" y="4681440"/>
              <a:ext cx="3200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" name=""/>
          <p:cNvGrpSpPr/>
          <p:nvPr/>
        </p:nvGrpSpPr>
        <p:grpSpPr>
          <a:xfrm>
            <a:off x="6781680" y="4681440"/>
            <a:ext cx="2133720" cy="1949400"/>
            <a:chOff x="6781680" y="4681440"/>
            <a:chExt cx="2133720" cy="1949400"/>
          </a:xfrm>
        </p:grpSpPr>
        <p:pic>
          <p:nvPicPr>
            <p:cNvPr id="79" name="" descr=""/>
            <p:cNvPicPr/>
            <p:nvPr/>
          </p:nvPicPr>
          <p:blipFill>
            <a:blip r:embed="rId3"/>
            <a:stretch/>
          </p:blipFill>
          <p:spPr>
            <a:xfrm>
              <a:off x="6946920" y="5148360"/>
              <a:ext cx="1892160" cy="148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"/>
            <p:cNvSpPr/>
            <p:nvPr/>
          </p:nvSpPr>
          <p:spPr>
            <a:xfrm>
              <a:off x="7000920" y="4703760"/>
              <a:ext cx="175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genome rewri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781680" y="4681440"/>
              <a:ext cx="2133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5181480" y="1166760"/>
            <a:ext cx="1909800" cy="2185920"/>
            <a:chOff x="5181480" y="1166760"/>
            <a:chExt cx="1909800" cy="2185920"/>
          </a:xfrm>
        </p:grpSpPr>
        <p:sp>
          <p:nvSpPr>
            <p:cNvPr id="83" name=""/>
            <p:cNvSpPr/>
            <p:nvPr/>
          </p:nvSpPr>
          <p:spPr>
            <a:xfrm>
              <a:off x="5562720" y="3352680"/>
              <a:ext cx="1218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483160" y="2922480"/>
              <a:ext cx="132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inimal lif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5" name="" descr=""/>
            <p:cNvPicPr/>
            <p:nvPr/>
          </p:nvPicPr>
          <p:blipFill>
            <a:blip r:embed="rId4"/>
            <a:stretch/>
          </p:blipFill>
          <p:spPr>
            <a:xfrm>
              <a:off x="5181480" y="1166760"/>
              <a:ext cx="1909800" cy="172872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"/>
          <p:cNvSpPr/>
          <p:nvPr/>
        </p:nvSpPr>
        <p:spPr>
          <a:xfrm>
            <a:off x="1676520" y="2209680"/>
            <a:ext cx="5600520" cy="28958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5" name=""/>
          <p:cNvGrpSpPr/>
          <p:nvPr/>
        </p:nvGrpSpPr>
        <p:grpSpPr>
          <a:xfrm>
            <a:off x="7238880" y="1219320"/>
            <a:ext cx="1905120" cy="5105160"/>
            <a:chOff x="7238880" y="1219320"/>
            <a:chExt cx="1905120" cy="5105160"/>
          </a:xfrm>
        </p:grpSpPr>
        <p:sp>
          <p:nvSpPr>
            <p:cNvPr id="1126" name=""/>
            <p:cNvSpPr/>
            <p:nvPr/>
          </p:nvSpPr>
          <p:spPr>
            <a:xfrm>
              <a:off x="7286760" y="1219320"/>
              <a:ext cx="1857240" cy="510516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7238880" y="2220840"/>
              <a:ext cx="76320" cy="287964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8" name=""/>
          <p:cNvGrpSpPr/>
          <p:nvPr/>
        </p:nvGrpSpPr>
        <p:grpSpPr>
          <a:xfrm>
            <a:off x="153000" y="3220920"/>
            <a:ext cx="1297800" cy="1537920"/>
            <a:chOff x="153000" y="3220920"/>
            <a:chExt cx="1297800" cy="1537920"/>
          </a:xfrm>
        </p:grpSpPr>
        <p:pic>
          <p:nvPicPr>
            <p:cNvPr id="1129" name="" descr=""/>
            <p:cNvPicPr/>
            <p:nvPr/>
          </p:nvPicPr>
          <p:blipFill>
            <a:blip r:embed="rId1"/>
            <a:stretch/>
          </p:blipFill>
          <p:spPr>
            <a:xfrm>
              <a:off x="154080" y="3220920"/>
              <a:ext cx="1295280" cy="97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0" name=""/>
            <p:cNvSpPr/>
            <p:nvPr/>
          </p:nvSpPr>
          <p:spPr>
            <a:xfrm>
              <a:off x="153000" y="4238640"/>
              <a:ext cx="12978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rebuchet MS"/>
                </a:rPr>
                <a:t>user design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rebuchet MS"/>
                </a:rPr>
                <a:t>DN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1" name=""/>
          <p:cNvGrpSpPr/>
          <p:nvPr/>
        </p:nvGrpSpPr>
        <p:grpSpPr>
          <a:xfrm>
            <a:off x="1382760" y="2541600"/>
            <a:ext cx="1473120" cy="1649520"/>
            <a:chOff x="1382760" y="2541600"/>
            <a:chExt cx="1473120" cy="1649520"/>
          </a:xfrm>
        </p:grpSpPr>
        <p:pic>
          <p:nvPicPr>
            <p:cNvPr id="1132" name="" descr=""/>
            <p:cNvPicPr/>
            <p:nvPr/>
          </p:nvPicPr>
          <p:blipFill>
            <a:blip r:embed="rId2"/>
            <a:stretch/>
          </p:blipFill>
          <p:spPr>
            <a:xfrm>
              <a:off x="1811160" y="3276720"/>
              <a:ext cx="91440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3" name=""/>
            <p:cNvSpPr/>
            <p:nvPr/>
          </p:nvSpPr>
          <p:spPr>
            <a:xfrm>
              <a:off x="1683000" y="2541600"/>
              <a:ext cx="11728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rebuchet MS"/>
                </a:rPr>
                <a:t>olig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rebuchet MS"/>
                </a:rPr>
                <a:t>microarra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rebuchet MS"/>
                </a:rPr>
                <a:t>synthesi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1382760" y="3581280"/>
              <a:ext cx="503280" cy="304920"/>
            </a:xfrm>
            <a:prstGeom prst="rightArrow">
              <a:avLst>
                <a:gd name="adj1" fmla="val 50000"/>
                <a:gd name="adj2" fmla="val 41263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5" name=""/>
          <p:cNvGrpSpPr/>
          <p:nvPr/>
        </p:nvGrpSpPr>
        <p:grpSpPr>
          <a:xfrm>
            <a:off x="2670120" y="2895480"/>
            <a:ext cx="1668960" cy="2034720"/>
            <a:chOff x="2670120" y="2895480"/>
            <a:chExt cx="1668960" cy="2034720"/>
          </a:xfrm>
        </p:grpSpPr>
        <p:pic>
          <p:nvPicPr>
            <p:cNvPr id="1136" name="" descr=""/>
            <p:cNvPicPr/>
            <p:nvPr/>
          </p:nvPicPr>
          <p:blipFill>
            <a:blip r:embed="rId3"/>
            <a:stretch/>
          </p:blipFill>
          <p:spPr>
            <a:xfrm>
              <a:off x="3108240" y="2895480"/>
              <a:ext cx="903240" cy="152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7" name=""/>
            <p:cNvSpPr/>
            <p:nvPr/>
          </p:nvSpPr>
          <p:spPr>
            <a:xfrm>
              <a:off x="2771640" y="4410000"/>
              <a:ext cx="15674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rebuchet MS"/>
                </a:rPr>
                <a:t>assemb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rebuchet MS"/>
                </a:rPr>
                <a:t>DNA construc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2670120" y="3581280"/>
              <a:ext cx="503280" cy="304920"/>
            </a:xfrm>
            <a:prstGeom prst="rightArrow">
              <a:avLst>
                <a:gd name="adj1" fmla="val 50000"/>
                <a:gd name="adj2" fmla="val 41263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9" name=""/>
          <p:cNvGrpSpPr/>
          <p:nvPr/>
        </p:nvGrpSpPr>
        <p:grpSpPr>
          <a:xfrm>
            <a:off x="3946680" y="2657520"/>
            <a:ext cx="1535040" cy="1609560"/>
            <a:chOff x="3946680" y="2657520"/>
            <a:chExt cx="1535040" cy="1609560"/>
          </a:xfrm>
        </p:grpSpPr>
        <p:grpSp>
          <p:nvGrpSpPr>
            <p:cNvPr id="1140" name=""/>
            <p:cNvGrpSpPr/>
            <p:nvPr/>
          </p:nvGrpSpPr>
          <p:grpSpPr>
            <a:xfrm>
              <a:off x="4384800" y="3200400"/>
              <a:ext cx="1096920" cy="1066680"/>
              <a:chOff x="4384800" y="3200400"/>
              <a:chExt cx="1096920" cy="1066680"/>
            </a:xfrm>
          </p:grpSpPr>
          <p:sp>
            <p:nvSpPr>
              <p:cNvPr id="1141" name=""/>
              <p:cNvSpPr/>
              <p:nvPr/>
            </p:nvSpPr>
            <p:spPr>
              <a:xfrm>
                <a:off x="4384800" y="3200400"/>
                <a:ext cx="1096920" cy="1066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42" name=""/>
              <p:cNvGrpSpPr/>
              <p:nvPr/>
            </p:nvGrpSpPr>
            <p:grpSpPr>
              <a:xfrm>
                <a:off x="4514760" y="3363840"/>
                <a:ext cx="838440" cy="739440"/>
                <a:chOff x="4514760" y="3363840"/>
                <a:chExt cx="838440" cy="739440"/>
              </a:xfrm>
            </p:grpSpPr>
            <p:sp>
              <p:nvSpPr>
                <p:cNvPr id="1143" name=""/>
                <p:cNvSpPr/>
                <p:nvPr/>
              </p:nvSpPr>
              <p:spPr>
                <a:xfrm>
                  <a:off x="4673880" y="3363840"/>
                  <a:ext cx="198360" cy="457200"/>
                </a:xfrm>
                <a:custGeom>
                  <a:avLst/>
                  <a:gdLst>
                    <a:gd name="textAreaLeft" fmla="*/ 22680 w 198360"/>
                    <a:gd name="textAreaRight" fmla="*/ 175680 w 198360"/>
                    <a:gd name="textAreaTop" fmla="*/ 22680 h 457200"/>
                    <a:gd name="textAreaBottom" fmla="*/ 434520 h 457200"/>
                  </a:gdLst>
                  <a:ahLst/>
                  <a:rect l="textAreaLeft" t="textAreaTop" r="textAreaRight" b="textAreaBottom"/>
                  <a:pathLst>
                    <a:path w="21600" h="49735">
                      <a:moveTo>
                        <a:pt x="8550" y="0"/>
                      </a:moveTo>
                      <a:arcTo wR="8550" hR="8550" stAng="16200000" swAng="-5400000"/>
                      <a:lnTo>
                        <a:pt x="0" y="41185"/>
                      </a:lnTo>
                      <a:arcTo wR="8550" hR="8550" stAng="10800000" swAng="-5400000"/>
                      <a:lnTo>
                        <a:pt x="13050" y="49735"/>
                      </a:lnTo>
                      <a:arcTo wR="8550" hR="8550" stAng="5400000" swAng="-5400000"/>
                      <a:lnTo>
                        <a:pt x="21600" y="8550"/>
                      </a:lnTo>
                      <a:arcTo wR="8550" hR="8550" stAng="0" swAng="-5400000"/>
                      <a:close/>
                    </a:path>
                  </a:pathLst>
                </a:custGeom>
                <a:solidFill>
                  <a:srgbClr val="8ffd75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44" name=""/>
                <p:cNvGrpSpPr/>
                <p:nvPr/>
              </p:nvGrpSpPr>
              <p:grpSpPr>
                <a:xfrm>
                  <a:off x="4514760" y="3451320"/>
                  <a:ext cx="838440" cy="651960"/>
                  <a:chOff x="4514760" y="3451320"/>
                  <a:chExt cx="838440" cy="651960"/>
                </a:xfrm>
              </p:grpSpPr>
              <p:grpSp>
                <p:nvGrpSpPr>
                  <p:cNvPr id="1145" name=""/>
                  <p:cNvGrpSpPr/>
                  <p:nvPr/>
                </p:nvGrpSpPr>
                <p:grpSpPr>
                  <a:xfrm>
                    <a:off x="4518000" y="3567240"/>
                    <a:ext cx="835200" cy="107640"/>
                    <a:chOff x="4518000" y="3567240"/>
                    <a:chExt cx="835200" cy="107640"/>
                  </a:xfrm>
                </p:grpSpPr>
                <p:sp>
                  <p:nvSpPr>
                    <p:cNvPr id="1146" name=""/>
                    <p:cNvSpPr/>
                    <p:nvPr/>
                  </p:nvSpPr>
                  <p:spPr>
                    <a:xfrm>
                      <a:off x="4518360" y="3567240"/>
                      <a:ext cx="834840" cy="0"/>
                    </a:xfrm>
                    <a:prstGeom prst="line">
                      <a:avLst/>
                    </a:prstGeom>
                    <a:ln w="19080">
                      <a:solidFill>
                        <a:srgbClr val="0000ff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47" name=""/>
                    <p:cNvSpPr/>
                    <p:nvPr/>
                  </p:nvSpPr>
                  <p:spPr>
                    <a:xfrm flipH="1">
                      <a:off x="4518000" y="3674880"/>
                      <a:ext cx="834840" cy="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148" name=""/>
                  <p:cNvGrpSpPr/>
                  <p:nvPr/>
                </p:nvGrpSpPr>
                <p:grpSpPr>
                  <a:xfrm>
                    <a:off x="4514760" y="3995640"/>
                    <a:ext cx="835200" cy="107640"/>
                    <a:chOff x="4514760" y="3995640"/>
                    <a:chExt cx="835200" cy="107640"/>
                  </a:xfrm>
                </p:grpSpPr>
                <p:sp>
                  <p:nvSpPr>
                    <p:cNvPr id="1149" name=""/>
                    <p:cNvSpPr/>
                    <p:nvPr/>
                  </p:nvSpPr>
                  <p:spPr>
                    <a:xfrm>
                      <a:off x="4515120" y="3995640"/>
                      <a:ext cx="834840" cy="0"/>
                    </a:xfrm>
                    <a:prstGeom prst="line">
                      <a:avLst/>
                    </a:prstGeom>
                    <a:ln w="19080">
                      <a:solidFill>
                        <a:srgbClr val="0000ff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50" name=""/>
                    <p:cNvSpPr/>
                    <p:nvPr/>
                  </p:nvSpPr>
                  <p:spPr>
                    <a:xfrm flipH="1">
                      <a:off x="4514760" y="4103280"/>
                      <a:ext cx="834840" cy="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151" name=""/>
                  <p:cNvSpPr/>
                  <p:nvPr/>
                </p:nvSpPr>
                <p:spPr>
                  <a:xfrm>
                    <a:off x="4746960" y="3451320"/>
                    <a:ext cx="56880" cy="10944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0000ff"/>
                  </a:solidFill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080" bIns="-10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1152" name=""/>
            <p:cNvSpPr/>
            <p:nvPr/>
          </p:nvSpPr>
          <p:spPr>
            <a:xfrm>
              <a:off x="4374000" y="2657520"/>
              <a:ext cx="10998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rebuchet MS"/>
                </a:rPr>
                <a:t>DNA err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rebuchet MS"/>
                </a:rPr>
                <a:t>correc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3946680" y="3581280"/>
              <a:ext cx="502920" cy="304920"/>
            </a:xfrm>
            <a:prstGeom prst="rightArrow">
              <a:avLst>
                <a:gd name="adj1" fmla="val 50000"/>
                <a:gd name="adj2" fmla="val 41234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4" name=""/>
          <p:cNvGrpSpPr/>
          <p:nvPr/>
        </p:nvGrpSpPr>
        <p:grpSpPr>
          <a:xfrm>
            <a:off x="5416560" y="3081240"/>
            <a:ext cx="1684080" cy="1834920"/>
            <a:chOff x="5416560" y="3081240"/>
            <a:chExt cx="1684080" cy="1834920"/>
          </a:xfrm>
        </p:grpSpPr>
        <p:pic>
          <p:nvPicPr>
            <p:cNvPr id="1155" name="" descr=""/>
            <p:cNvPicPr/>
            <p:nvPr/>
          </p:nvPicPr>
          <p:blipFill>
            <a:blip r:embed="rId4"/>
            <a:srcRect l="0" t="2645" r="48869" b="65632"/>
            <a:stretch/>
          </p:blipFill>
          <p:spPr>
            <a:xfrm>
              <a:off x="5854680" y="3081240"/>
              <a:ext cx="1241280" cy="12956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1156" name=""/>
            <p:cNvSpPr/>
            <p:nvPr/>
          </p:nvSpPr>
          <p:spPr>
            <a:xfrm>
              <a:off x="5883480" y="4395960"/>
              <a:ext cx="12171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rebuchet MS"/>
                </a:rPr>
                <a:t>larger sca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rebuchet MS"/>
                </a:rPr>
                <a:t>assembl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5416560" y="3581280"/>
              <a:ext cx="503280" cy="304920"/>
            </a:xfrm>
            <a:prstGeom prst="rightArrow">
              <a:avLst>
                <a:gd name="adj1" fmla="val 50000"/>
                <a:gd name="adj2" fmla="val 41263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8" name=""/>
          <p:cNvGrpSpPr/>
          <p:nvPr/>
        </p:nvGrpSpPr>
        <p:grpSpPr>
          <a:xfrm>
            <a:off x="6922440" y="1554120"/>
            <a:ext cx="2131200" cy="1663560"/>
            <a:chOff x="6922440" y="1554120"/>
            <a:chExt cx="2131200" cy="1663560"/>
          </a:xfrm>
        </p:grpSpPr>
        <p:pic>
          <p:nvPicPr>
            <p:cNvPr id="1159" name="" descr=""/>
            <p:cNvPicPr/>
            <p:nvPr/>
          </p:nvPicPr>
          <p:blipFill>
            <a:blip r:embed="rId5"/>
            <a:stretch/>
          </p:blipFill>
          <p:spPr>
            <a:xfrm>
              <a:off x="7542360" y="1554120"/>
              <a:ext cx="1511280" cy="11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0" name=""/>
            <p:cNvSpPr/>
            <p:nvPr/>
          </p:nvSpPr>
          <p:spPr>
            <a:xfrm>
              <a:off x="7923240" y="2757600"/>
              <a:ext cx="659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rebuchet MS"/>
                </a:rPr>
                <a:t>c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 rot="18328200">
              <a:off x="6886440" y="2666520"/>
              <a:ext cx="762120" cy="304920"/>
            </a:xfrm>
            <a:prstGeom prst="rightArrow">
              <a:avLst>
                <a:gd name="adj1" fmla="val 50000"/>
                <a:gd name="adj2" fmla="val 62485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2" name=""/>
          <p:cNvGrpSpPr/>
          <p:nvPr/>
        </p:nvGrpSpPr>
        <p:grpSpPr>
          <a:xfrm>
            <a:off x="7031160" y="3311640"/>
            <a:ext cx="2036520" cy="1033920"/>
            <a:chOff x="7031160" y="3311640"/>
            <a:chExt cx="2036520" cy="1033920"/>
          </a:xfrm>
        </p:grpSpPr>
        <p:pic>
          <p:nvPicPr>
            <p:cNvPr id="1163" name="" descr=""/>
            <p:cNvPicPr/>
            <p:nvPr/>
          </p:nvPicPr>
          <p:blipFill>
            <a:blip r:embed="rId6"/>
            <a:srcRect l="32866" t="0" r="8392" b="52606"/>
            <a:stretch/>
          </p:blipFill>
          <p:spPr>
            <a:xfrm>
              <a:off x="7467480" y="3311640"/>
              <a:ext cx="1600200" cy="7268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1164" name=""/>
            <p:cNvSpPr/>
            <p:nvPr/>
          </p:nvSpPr>
          <p:spPr>
            <a:xfrm>
              <a:off x="7591680" y="4038480"/>
              <a:ext cx="1352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rebuchet MS"/>
                </a:rPr>
                <a:t>sequence/Q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7031160" y="3581280"/>
              <a:ext cx="503280" cy="304920"/>
            </a:xfrm>
            <a:prstGeom prst="rightArrow">
              <a:avLst>
                <a:gd name="adj1" fmla="val 50000"/>
                <a:gd name="adj2" fmla="val 41263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6" name=""/>
          <p:cNvGrpSpPr/>
          <p:nvPr/>
        </p:nvGrpSpPr>
        <p:grpSpPr>
          <a:xfrm>
            <a:off x="6913080" y="4235040"/>
            <a:ext cx="2010240" cy="2015640"/>
            <a:chOff x="6913080" y="4235040"/>
            <a:chExt cx="2010240" cy="2015640"/>
          </a:xfrm>
        </p:grpSpPr>
        <p:grpSp>
          <p:nvGrpSpPr>
            <p:cNvPr id="1167" name=""/>
            <p:cNvGrpSpPr/>
            <p:nvPr/>
          </p:nvGrpSpPr>
          <p:grpSpPr>
            <a:xfrm>
              <a:off x="7489800" y="4454640"/>
              <a:ext cx="1433520" cy="1796040"/>
              <a:chOff x="7489800" y="4454640"/>
              <a:chExt cx="1433520" cy="1796040"/>
            </a:xfrm>
          </p:grpSpPr>
          <p:pic>
            <p:nvPicPr>
              <p:cNvPr id="1168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7642080" y="4454640"/>
                <a:ext cx="1128960" cy="144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69" name=""/>
              <p:cNvSpPr/>
              <p:nvPr/>
            </p:nvSpPr>
            <p:spPr>
              <a:xfrm>
                <a:off x="7489800" y="5943600"/>
                <a:ext cx="1433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rebuchet MS"/>
                  </a:rPr>
                  <a:t>express/assay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70" name=""/>
            <p:cNvSpPr/>
            <p:nvPr/>
          </p:nvSpPr>
          <p:spPr>
            <a:xfrm flipV="1" rot="3271800">
              <a:off x="6877080" y="4480560"/>
              <a:ext cx="761760" cy="304920"/>
            </a:xfrm>
            <a:prstGeom prst="rightArrow">
              <a:avLst>
                <a:gd name="adj1" fmla="val 50000"/>
                <a:gd name="adj2" fmla="val 62456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1" name=""/>
          <p:cNvGrpSpPr/>
          <p:nvPr/>
        </p:nvGrpSpPr>
        <p:grpSpPr>
          <a:xfrm>
            <a:off x="458640" y="6445080"/>
            <a:ext cx="8141400" cy="337320"/>
            <a:chOff x="458640" y="6445080"/>
            <a:chExt cx="8141400" cy="337320"/>
          </a:xfrm>
        </p:grpSpPr>
        <p:sp>
          <p:nvSpPr>
            <p:cNvPr id="1172" name=""/>
            <p:cNvSpPr/>
            <p:nvPr/>
          </p:nvSpPr>
          <p:spPr>
            <a:xfrm>
              <a:off x="458640" y="6445080"/>
              <a:ext cx="743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3770280" y="6445080"/>
              <a:ext cx="1587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(MOLECULES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7927200" y="6461280"/>
              <a:ext cx="672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1265400" y="6613560"/>
              <a:ext cx="2438280" cy="0"/>
            </a:xfrm>
            <a:prstGeom prst="line">
              <a:avLst/>
            </a:prstGeom>
            <a:ln w="38160">
              <a:solidFill>
                <a:srgbClr val="5f5f5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5423040" y="6613560"/>
              <a:ext cx="2438280" cy="0"/>
            </a:xfrm>
            <a:prstGeom prst="line">
              <a:avLst/>
            </a:prstGeom>
            <a:ln w="38160">
              <a:solidFill>
                <a:srgbClr val="5f5f5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7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blipFill rotWithShape="0">
            <a:blip r:embed="rId8">
              <a:alphaModFix amt="67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8" name=""/>
          <p:cNvGrpSpPr/>
          <p:nvPr/>
        </p:nvGrpSpPr>
        <p:grpSpPr>
          <a:xfrm>
            <a:off x="2743200" y="2666880"/>
            <a:ext cx="6248520" cy="3810240"/>
            <a:chOff x="2743200" y="2666880"/>
            <a:chExt cx="6248520" cy="3810240"/>
          </a:xfrm>
        </p:grpSpPr>
        <p:grpSp>
          <p:nvGrpSpPr>
            <p:cNvPr id="1179" name=""/>
            <p:cNvGrpSpPr/>
            <p:nvPr/>
          </p:nvGrpSpPr>
          <p:grpSpPr>
            <a:xfrm>
              <a:off x="7391520" y="4114800"/>
              <a:ext cx="1600200" cy="2362320"/>
              <a:chOff x="7391520" y="4114800"/>
              <a:chExt cx="1600200" cy="2362320"/>
            </a:xfrm>
          </p:grpSpPr>
          <p:sp>
            <p:nvSpPr>
              <p:cNvPr id="1180" name=""/>
              <p:cNvSpPr/>
              <p:nvPr/>
            </p:nvSpPr>
            <p:spPr>
              <a:xfrm>
                <a:off x="7391520" y="4114800"/>
                <a:ext cx="1600200" cy="236232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81" name=""/>
              <p:cNvGrpSpPr/>
              <p:nvPr/>
            </p:nvGrpSpPr>
            <p:grpSpPr>
              <a:xfrm>
                <a:off x="7489800" y="4454640"/>
                <a:ext cx="1433520" cy="1796040"/>
                <a:chOff x="7489800" y="4454640"/>
                <a:chExt cx="1433520" cy="1796040"/>
              </a:xfrm>
            </p:grpSpPr>
            <p:pic>
              <p:nvPicPr>
                <p:cNvPr id="1182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7642080" y="4454640"/>
                  <a:ext cx="1128960" cy="1447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3" name=""/>
                <p:cNvSpPr/>
                <p:nvPr/>
              </p:nvSpPr>
              <p:spPr>
                <a:xfrm>
                  <a:off x="7489800" y="5943600"/>
                  <a:ext cx="14335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rebuchet MS"/>
                    </a:rPr>
                    <a:t>express/assay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84" name=""/>
            <p:cNvGrpSpPr/>
            <p:nvPr/>
          </p:nvGrpSpPr>
          <p:grpSpPr>
            <a:xfrm>
              <a:off x="2743200" y="2666880"/>
              <a:ext cx="1600200" cy="2438640"/>
              <a:chOff x="2743200" y="2666880"/>
              <a:chExt cx="1600200" cy="2438640"/>
            </a:xfrm>
          </p:grpSpPr>
          <p:sp>
            <p:nvSpPr>
              <p:cNvPr id="1185" name=""/>
              <p:cNvSpPr/>
              <p:nvPr/>
            </p:nvSpPr>
            <p:spPr>
              <a:xfrm>
                <a:off x="2743200" y="2666880"/>
                <a:ext cx="1600200" cy="24386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186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3105000" y="2895480"/>
                <a:ext cx="903600" cy="1524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87" name=""/>
              <p:cNvSpPr/>
              <p:nvPr/>
            </p:nvSpPr>
            <p:spPr>
              <a:xfrm>
                <a:off x="2768400" y="4410000"/>
                <a:ext cx="156744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rebuchet MS"/>
                  </a:rPr>
                  <a:t>assembl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rebuchet MS"/>
                  </a:rPr>
                  <a:t>DNA construct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88" name=""/>
          <p:cNvSpPr/>
          <p:nvPr/>
        </p:nvSpPr>
        <p:spPr>
          <a:xfrm>
            <a:off x="0" y="7632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rebuchet MS"/>
              </a:rPr>
              <a:t>Microfluidic Gene Synthesis:</a:t>
            </a:r>
            <a:br>
              <a:rPr sz="3400"/>
            </a:br>
            <a:r>
              <a:rPr b="0" i="1" lang="en-US" sz="3200" spc="-1" strike="noStrike">
                <a:solidFill>
                  <a:srgbClr val="0099ff"/>
                </a:solidFill>
                <a:latin typeface="Trebuchet MS"/>
              </a:rPr>
              <a:t>Integration Road M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"/>
          <p:cNvSpPr/>
          <p:nvPr/>
        </p:nvSpPr>
        <p:spPr>
          <a:xfrm>
            <a:off x="2971800" y="2685960"/>
            <a:ext cx="16002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2971800" y="2685960"/>
            <a:ext cx="16002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0" y="7632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rebuchet MS"/>
              </a:rPr>
              <a:t>Integrated gene and protein synthesis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2" name="" descr=""/>
          <p:cNvPicPr/>
          <p:nvPr/>
        </p:nvPicPr>
        <p:blipFill>
          <a:blip r:embed="rId1"/>
          <a:stretch/>
        </p:blipFill>
        <p:spPr>
          <a:xfrm>
            <a:off x="6324480" y="1143000"/>
            <a:ext cx="1828800" cy="18288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193" name=""/>
          <p:cNvSpPr/>
          <p:nvPr/>
        </p:nvSpPr>
        <p:spPr>
          <a:xfrm>
            <a:off x="5867280" y="3092400"/>
            <a:ext cx="3200400" cy="489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luorescence from GFP expressed in a PDMS microfluidic devi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94" name=""/>
          <p:cNvGraphicFramePr/>
          <p:nvPr/>
        </p:nvGraphicFramePr>
        <p:xfrm>
          <a:off x="5748480" y="3651120"/>
          <a:ext cx="2938320" cy="24447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19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748480" y="3651120"/>
                    <a:ext cx="2938320" cy="244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6" name=""/>
          <p:cNvSpPr/>
          <p:nvPr/>
        </p:nvSpPr>
        <p:spPr>
          <a:xfrm>
            <a:off x="768240" y="1193760"/>
            <a:ext cx="4489560" cy="398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oligos </a:t>
            </a:r>
            <a:r>
              <a:rPr b="0" i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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gene </a:t>
            </a:r>
            <a:r>
              <a:rPr b="0" i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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prote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5867280" y="6095880"/>
            <a:ext cx="3200400" cy="489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luorescence from expressed synthetic EGFP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768240" y="1676520"/>
            <a:ext cx="4489560" cy="398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oligos </a:t>
            </a:r>
            <a:r>
              <a:rPr b="0" i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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gene </a:t>
            </a:r>
            <a:r>
              <a:rPr b="0" i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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prote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768240" y="2209680"/>
            <a:ext cx="4489560" cy="398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oligos </a:t>
            </a:r>
            <a:r>
              <a:rPr b="0" i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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gene </a:t>
            </a:r>
            <a:r>
              <a:rPr b="0" i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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prote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5638680" y="1219320"/>
            <a:ext cx="0" cy="495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1" name=""/>
          <p:cNvGrpSpPr/>
          <p:nvPr/>
        </p:nvGrpSpPr>
        <p:grpSpPr>
          <a:xfrm>
            <a:off x="685800" y="2743200"/>
            <a:ext cx="4572000" cy="3810960"/>
            <a:chOff x="685800" y="2743200"/>
            <a:chExt cx="4572000" cy="3810960"/>
          </a:xfrm>
        </p:grpSpPr>
        <p:pic>
          <p:nvPicPr>
            <p:cNvPr id="1202" name="" descr=""/>
            <p:cNvPicPr/>
            <p:nvPr/>
          </p:nvPicPr>
          <p:blipFill>
            <a:blip r:embed="rId4"/>
            <a:stretch/>
          </p:blipFill>
          <p:spPr>
            <a:xfrm>
              <a:off x="685800" y="2743200"/>
              <a:ext cx="4572000" cy="323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3" name=""/>
            <p:cNvSpPr/>
            <p:nvPr/>
          </p:nvSpPr>
          <p:spPr>
            <a:xfrm>
              <a:off x="838080" y="6064200"/>
              <a:ext cx="4191120" cy="489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45 nL gene synthesis reactors, 12 nL protein synthesis reactor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"/>
          <p:cNvSpPr/>
          <p:nvPr/>
        </p:nvSpPr>
        <p:spPr>
          <a:xfrm>
            <a:off x="2593080" y="1752480"/>
            <a:ext cx="39448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Lu Ch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Kelly Cha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Byron Hs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Dr. Shuguang Zha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Prof. George Chur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Prof. Franco Cerri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Prof. Joseph Jacobs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unding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MIT Media La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enter for Bits and Atoms (NSF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152280" y="380880"/>
            <a:ext cx="8763120" cy="1067040"/>
          </a:xfrm>
          <a:prstGeom prst="rect">
            <a:avLst/>
          </a:prstGeom>
          <a:noFill/>
          <a:ln w="25560">
            <a:solidFill>
              <a:srgbClr val="00cc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rebuchet MS"/>
              </a:rPr>
              <a:t>Thank You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6" name="" descr=""/>
          <p:cNvPicPr/>
          <p:nvPr/>
        </p:nvPicPr>
        <p:blipFill>
          <a:blip r:embed="rId1"/>
          <a:stretch/>
        </p:blipFill>
        <p:spPr>
          <a:xfrm>
            <a:off x="6324480" y="5918040"/>
            <a:ext cx="2590920" cy="711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ff"/>
                </a:solidFill>
                <a:latin typeface="Trebuchet MS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ecoding</a:t>
            </a:r>
            <a:r>
              <a:rPr b="0" lang="en-US" sz="2800" spc="-1" strike="noStrike">
                <a:solidFill>
                  <a:srgbClr val="0000ff"/>
                </a:solidFill>
                <a:latin typeface="Trebuchet MS"/>
              </a:rPr>
              <a:t> </a:t>
            </a:r>
            <a:r>
              <a:rPr b="1" i="1" lang="en-US" sz="2800" spc="-1" strike="noStrike">
                <a:solidFill>
                  <a:srgbClr val="0099ff"/>
                </a:solidFill>
                <a:latin typeface="Trebuchet MS"/>
              </a:rPr>
              <a:t>E.coli</a:t>
            </a:r>
            <a:r>
              <a:rPr b="1" lang="en-US" sz="2800" spc="-1" strike="noStrike">
                <a:solidFill>
                  <a:srgbClr val="0099ff"/>
                </a:solidFill>
                <a:latin typeface="Trebuchet MS"/>
              </a:rPr>
              <a:t>:  </a:t>
            </a:r>
            <a:r>
              <a:rPr b="1" i="1" lang="en-US" sz="2800" spc="-1" strike="noStrike">
                <a:solidFill>
                  <a:srgbClr val="0099ff"/>
                </a:solidFill>
                <a:latin typeface="Trebuchet MS"/>
              </a:rPr>
              <a:t>rE.col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4029120" y="3233880"/>
            <a:ext cx="5191200" cy="34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5317200" y="2057400"/>
            <a:ext cx="2757960" cy="91692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2.  &gt;4000 chan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move rare Arg co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ee two more cod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4029120" y="3233880"/>
            <a:ext cx="5191200" cy="34718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4029120" y="3233880"/>
            <a:ext cx="5191200" cy="34718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380880" y="3370320"/>
            <a:ext cx="3200400" cy="916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3.  &gt;70,000 chan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ap Leu and Ser cod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thogonal genetic codes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4029120" y="3233880"/>
            <a:ext cx="5191200" cy="3471840"/>
          </a:xfrm>
          <a:prstGeom prst="rect">
            <a:avLst/>
          </a:prstGeom>
          <a:ln w="0">
            <a:noFill/>
          </a:ln>
        </p:spPr>
      </p:pic>
      <p:grpSp>
        <p:nvGrpSpPr>
          <p:cNvPr id="93" name=""/>
          <p:cNvGrpSpPr/>
          <p:nvPr/>
        </p:nvGrpSpPr>
        <p:grpSpPr>
          <a:xfrm>
            <a:off x="1131840" y="914400"/>
            <a:ext cx="6811200" cy="1839600"/>
            <a:chOff x="1131840" y="914400"/>
            <a:chExt cx="6811200" cy="1839600"/>
          </a:xfrm>
        </p:grpSpPr>
        <p:sp>
          <p:nvSpPr>
            <p:cNvPr id="94" name=""/>
            <p:cNvSpPr/>
            <p:nvPr/>
          </p:nvSpPr>
          <p:spPr>
            <a:xfrm>
              <a:off x="3429720" y="914400"/>
              <a:ext cx="4513320" cy="916920"/>
            </a:xfrm>
            <a:prstGeom prst="rect">
              <a:avLst/>
            </a:pr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tep1. &gt;300 chang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AG stops  become  TAA stop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leaves one codon fre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5" name=""/>
            <p:cNvGrpSpPr/>
            <p:nvPr/>
          </p:nvGrpSpPr>
          <p:grpSpPr>
            <a:xfrm>
              <a:off x="1131840" y="990720"/>
              <a:ext cx="1763280" cy="1763280"/>
              <a:chOff x="1131840" y="990720"/>
              <a:chExt cx="1763280" cy="1763280"/>
            </a:xfrm>
          </p:grpSpPr>
          <p:sp>
            <p:nvSpPr>
              <p:cNvPr id="96" name=""/>
              <p:cNvSpPr/>
              <p:nvPr/>
            </p:nvSpPr>
            <p:spPr>
              <a:xfrm>
                <a:off x="1450080" y="1419120"/>
                <a:ext cx="10555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000000"/>
                    </a:solidFill>
                    <a:latin typeface="Arial"/>
                  </a:rPr>
                  <a:t>E. Coli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000000"/>
                    </a:solidFill>
                    <a:latin typeface="Arial"/>
                  </a:rPr>
                  <a:t>MG1655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4.6 MB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7" name=""/>
              <p:cNvGrpSpPr/>
              <p:nvPr/>
            </p:nvGrpSpPr>
            <p:grpSpPr>
              <a:xfrm>
                <a:off x="1131840" y="990720"/>
                <a:ext cx="1763280" cy="1763280"/>
                <a:chOff x="1131840" y="990720"/>
                <a:chExt cx="1763280" cy="1763280"/>
              </a:xfrm>
            </p:grpSpPr>
            <p:sp>
              <p:nvSpPr>
                <p:cNvPr id="98" name=""/>
                <p:cNvSpPr/>
                <p:nvPr/>
              </p:nvSpPr>
              <p:spPr>
                <a:xfrm flipV="1">
                  <a:off x="2021760" y="1045800"/>
                  <a:ext cx="1080" cy="1872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" name=""/>
                <p:cNvSpPr/>
                <p:nvPr/>
              </p:nvSpPr>
              <p:spPr>
                <a:xfrm>
                  <a:off x="1774080" y="1025640"/>
                  <a:ext cx="33480" cy="12168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>
                  <a:off x="2570760" y="1278720"/>
                  <a:ext cx="95760" cy="8640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0" bIns="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>
                  <a:off x="1199160" y="1536840"/>
                  <a:ext cx="119160" cy="4860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 flipH="1" flipV="1">
                  <a:off x="2673360" y="2239920"/>
                  <a:ext cx="111960" cy="6084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1933920" y="994680"/>
                  <a:ext cx="9360" cy="12672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1859400" y="1005120"/>
                  <a:ext cx="22680" cy="12420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1850040" y="1006920"/>
                  <a:ext cx="24120" cy="12420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 flipV="1">
                  <a:off x="1199160" y="2161440"/>
                  <a:ext cx="119160" cy="4860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 flipV="1">
                  <a:off x="1311480" y="2329560"/>
                  <a:ext cx="102960" cy="7704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240" bIns="30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 flipV="1">
                  <a:off x="1783440" y="2601000"/>
                  <a:ext cx="34920" cy="12420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 flipH="1" flipV="1">
                  <a:off x="2162160" y="2613240"/>
                  <a:ext cx="24480" cy="12420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 flipH="1" flipV="1">
                  <a:off x="2702160" y="2181960"/>
                  <a:ext cx="115920" cy="5364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 flipH="1">
                  <a:off x="2766600" y="1802160"/>
                  <a:ext cx="127080" cy="1044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 flipH="1">
                  <a:off x="2401560" y="1114920"/>
                  <a:ext cx="64440" cy="11088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 flipH="1">
                  <a:off x="2393640" y="1110600"/>
                  <a:ext cx="64800" cy="11088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 flipH="1">
                  <a:off x="2333880" y="1074240"/>
                  <a:ext cx="52560" cy="11484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 flipV="1">
                  <a:off x="1506240" y="2489040"/>
                  <a:ext cx="73080" cy="10368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 flipV="1">
                  <a:off x="1506240" y="2490120"/>
                  <a:ext cx="73080" cy="10404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 flipV="1">
                  <a:off x="1830960" y="2611800"/>
                  <a:ext cx="26640" cy="12420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 flipH="1" flipV="1">
                  <a:off x="2262600" y="2584800"/>
                  <a:ext cx="43200" cy="11988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 flipH="1" flipV="1">
                  <a:off x="2605680" y="2341440"/>
                  <a:ext cx="99720" cy="7956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 flipH="1" flipV="1">
                  <a:off x="2613600" y="2331720"/>
                  <a:ext cx="99720" cy="7668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880" bIns="29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 flipH="1" flipV="1">
                  <a:off x="2615400" y="2327760"/>
                  <a:ext cx="102960" cy="7668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880" bIns="29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 flipH="1" flipV="1">
                  <a:off x="2715480" y="2149200"/>
                  <a:ext cx="118800" cy="4716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 flipH="1" flipV="1">
                  <a:off x="2718000" y="2142720"/>
                  <a:ext cx="119880" cy="4572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 flipH="1" flipV="1">
                  <a:off x="2718000" y="2142720"/>
                  <a:ext cx="119880" cy="4572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 flipH="1" flipV="1">
                  <a:off x="2722320" y="2137320"/>
                  <a:ext cx="118800" cy="4464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 flipH="1" flipV="1">
                  <a:off x="2723760" y="2129040"/>
                  <a:ext cx="121680" cy="4428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 flipH="1" flipV="1">
                  <a:off x="2766600" y="1933200"/>
                  <a:ext cx="127080" cy="936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 flipH="1" flipV="1">
                  <a:off x="2766600" y="1925280"/>
                  <a:ext cx="127080" cy="936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 flipH="1" flipV="1">
                  <a:off x="2766600" y="1925280"/>
                  <a:ext cx="127080" cy="792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 flipH="1" flipV="1">
                  <a:off x="2766600" y="1922400"/>
                  <a:ext cx="127080" cy="792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 flipH="1">
                  <a:off x="2554200" y="1256760"/>
                  <a:ext cx="88920" cy="8892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 flipH="1">
                  <a:off x="2550240" y="1252800"/>
                  <a:ext cx="91800" cy="8892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 flipH="1">
                  <a:off x="2543400" y="1244880"/>
                  <a:ext cx="90360" cy="9180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flipH="1" flipV="1">
                  <a:off x="2722320" y="2137320"/>
                  <a:ext cx="118800" cy="4464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 flipH="1" flipV="1">
                  <a:off x="2605680" y="2340000"/>
                  <a:ext cx="101160" cy="7956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 flipH="1" flipV="1">
                  <a:off x="2766600" y="1929240"/>
                  <a:ext cx="127080" cy="792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1219680" y="1489680"/>
                  <a:ext cx="115920" cy="5544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1929600" y="994680"/>
                  <a:ext cx="11880" cy="12672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707840" y="1045800"/>
                  <a:ext cx="45360" cy="11916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 flipV="1">
                  <a:off x="1603800" y="2540520"/>
                  <a:ext cx="59400" cy="11376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 flipV="1">
                  <a:off x="1851120" y="2613240"/>
                  <a:ext cx="24120" cy="12708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flipV="1">
                  <a:off x="2294640" y="2572920"/>
                  <a:ext cx="47520" cy="11880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flipV="1">
                  <a:off x="2438280" y="2497320"/>
                  <a:ext cx="72720" cy="10656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 flipH="1" flipV="1">
                  <a:off x="2603520" y="2345400"/>
                  <a:ext cx="98640" cy="7956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 flipH="1">
                  <a:off x="2693880" y="1489680"/>
                  <a:ext cx="113760" cy="5544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flipH="1">
                  <a:off x="2331360" y="1073160"/>
                  <a:ext cx="55440" cy="11592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346760" y="1297440"/>
                  <a:ext cx="95760" cy="8352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 flipH="1" flipV="1">
                  <a:off x="2505600" y="2445840"/>
                  <a:ext cx="83880" cy="9576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 flipH="1">
                  <a:off x="2609640" y="1330200"/>
                  <a:ext cx="99720" cy="7668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880" bIns="29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1238400" y="1454400"/>
                  <a:ext cx="111960" cy="6192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V="1">
                  <a:off x="1154520" y="2042640"/>
                  <a:ext cx="124200" cy="3096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V="1">
                  <a:off x="1158480" y="2056320"/>
                  <a:ext cx="124200" cy="2952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 flipH="1" flipV="1">
                  <a:off x="2473200" y="2472480"/>
                  <a:ext cx="77040" cy="10116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 flipH="1">
                  <a:off x="2735640" y="1618200"/>
                  <a:ext cx="122760" cy="3636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flipH="1" flipV="1">
                  <a:off x="2098800" y="2621880"/>
                  <a:ext cx="14400" cy="12816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flipV="1">
                  <a:off x="1146600" y="2004840"/>
                  <a:ext cx="124200" cy="2160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0" bIns="-25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 flipH="1" flipV="1">
                  <a:off x="2623680" y="2317320"/>
                  <a:ext cx="103680" cy="7560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 flipV="1">
                  <a:off x="1323720" y="2343960"/>
                  <a:ext cx="100080" cy="7956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1135800" y="1792800"/>
                  <a:ext cx="127080" cy="1188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1247760" y="1434240"/>
                  <a:ext cx="111960" cy="6336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V="1">
                  <a:off x="1783440" y="2601000"/>
                  <a:ext cx="32400" cy="12276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1131840" y="1870920"/>
                  <a:ext cx="128160" cy="144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1234440" y="1458360"/>
                  <a:ext cx="113760" cy="6192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 flipV="1">
                  <a:off x="1262880" y="2269800"/>
                  <a:ext cx="109440" cy="6768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 flipH="1">
                  <a:off x="2706840" y="1526040"/>
                  <a:ext cx="116280" cy="4860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 flipH="1" flipV="1">
                  <a:off x="2058120" y="2625840"/>
                  <a:ext cx="5040" cy="12816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 flipH="1">
                  <a:off x="2714040" y="1545120"/>
                  <a:ext cx="118800" cy="4824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" bIns="1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 flipH="1">
                  <a:off x="2695320" y="1493640"/>
                  <a:ext cx="115920" cy="5544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 flipH="1" flipV="1">
                  <a:off x="2055600" y="2625840"/>
                  <a:ext cx="6480" cy="12816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 flipH="1" flipV="1">
                  <a:off x="2661480" y="2264400"/>
                  <a:ext cx="108000" cy="6444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 flipH="1" flipV="1">
                  <a:off x="2734200" y="2100600"/>
                  <a:ext cx="119880" cy="3780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 flipH="1">
                  <a:off x="2469240" y="1168920"/>
                  <a:ext cx="77040" cy="10116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1863360" y="1002600"/>
                  <a:ext cx="20160" cy="12708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 flipH="1" flipV="1">
                  <a:off x="2752920" y="2028600"/>
                  <a:ext cx="124200" cy="2700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1974240" y="990720"/>
                  <a:ext cx="5400" cy="12816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 flipH="1">
                  <a:off x="2719440" y="1562760"/>
                  <a:ext cx="121680" cy="4572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flipH="1">
                  <a:off x="2207160" y="1018800"/>
                  <a:ext cx="32400" cy="12420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 flipH="1">
                  <a:off x="2546280" y="1245960"/>
                  <a:ext cx="88920" cy="9180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 flipH="1">
                  <a:off x="2390400" y="1109520"/>
                  <a:ext cx="63720" cy="10944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 flipV="1">
                  <a:off x="1463040" y="2462040"/>
                  <a:ext cx="79920" cy="10008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 flipH="1" flipV="1">
                  <a:off x="2554200" y="2398320"/>
                  <a:ext cx="91800" cy="9072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flipH="1">
                  <a:off x="2657160" y="1411200"/>
                  <a:ext cx="108000" cy="6624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440" bIns="19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1158480" y="1658520"/>
                  <a:ext cx="124200" cy="3096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1782360" y="1021680"/>
                  <a:ext cx="33480" cy="12420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 flipV="1">
                  <a:off x="1422360" y="2431800"/>
                  <a:ext cx="84960" cy="9612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 flipV="1">
                  <a:off x="1438560" y="2444400"/>
                  <a:ext cx="83520" cy="9720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 flipV="1">
                  <a:off x="2014920" y="2628000"/>
                  <a:ext cx="1080" cy="12564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 flipH="1">
                  <a:off x="2721960" y="1566720"/>
                  <a:ext cx="119880" cy="4572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2014920" y="990720"/>
                  <a:ext cx="1080" cy="12816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 flipV="1">
                  <a:off x="1538640" y="2507760"/>
                  <a:ext cx="68760" cy="10800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 flipV="1">
                  <a:off x="1348200" y="2368440"/>
                  <a:ext cx="95760" cy="8388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 flipV="1">
                  <a:off x="1379160" y="2396880"/>
                  <a:ext cx="91800" cy="8748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1206360" y="1520640"/>
                  <a:ext cx="117360" cy="4968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 flipV="1">
                  <a:off x="1376280" y="2394360"/>
                  <a:ext cx="91800" cy="8784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1432080" y="1209600"/>
                  <a:ext cx="83520" cy="9576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 flipV="1">
                  <a:off x="1767600" y="2597040"/>
                  <a:ext cx="34920" cy="12312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 flipH="1" flipV="1">
                  <a:off x="2149920" y="2615760"/>
                  <a:ext cx="24120" cy="12420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 flipH="1" flipV="1">
                  <a:off x="2730240" y="2110320"/>
                  <a:ext cx="120240" cy="4176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 flipV="1">
                  <a:off x="1191240" y="2142720"/>
                  <a:ext cx="118800" cy="4716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 flipH="1">
                  <a:off x="2697480" y="1497600"/>
                  <a:ext cx="116280" cy="5544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 flipH="1" flipV="1">
                  <a:off x="2738160" y="2085840"/>
                  <a:ext cx="122760" cy="3636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1160280" y="1650600"/>
                  <a:ext cx="124200" cy="3204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1406160" y="1233720"/>
                  <a:ext cx="87840" cy="9324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440" bIns="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1393920" y="1245960"/>
                  <a:ext cx="89280" cy="9180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 flipH="1" flipV="1">
                  <a:off x="2167920" y="2611800"/>
                  <a:ext cx="26640" cy="12420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 flipH="1" flipV="1">
                  <a:off x="2623680" y="2317320"/>
                  <a:ext cx="103680" cy="7560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1362960" y="1278720"/>
                  <a:ext cx="93240" cy="8640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0" bIns="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>
                  <a:off x="2657160" y="1411200"/>
                  <a:ext cx="108000" cy="6624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440" bIns="19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1223640" y="1478880"/>
                  <a:ext cx="114840" cy="5796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160" bIns="11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 flipV="1">
                  <a:off x="1242720" y="2237040"/>
                  <a:ext cx="111960" cy="6372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 flipV="1">
                  <a:off x="1332000" y="2349360"/>
                  <a:ext cx="98640" cy="8244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flipV="1">
                  <a:off x="1663200" y="2565000"/>
                  <a:ext cx="51480" cy="11736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flipH="1">
                  <a:off x="2732040" y="1599120"/>
                  <a:ext cx="121680" cy="4176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1350720" y="1293120"/>
                  <a:ext cx="95760" cy="8388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 flipH="1">
                  <a:off x="2485080" y="1182600"/>
                  <a:ext cx="79560" cy="9972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1763280" y="1027080"/>
                  <a:ext cx="36360" cy="12276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flipV="1">
                  <a:off x="2466720" y="2476800"/>
                  <a:ext cx="75600" cy="10152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1226520" y="1478880"/>
                  <a:ext cx="113400" cy="5796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160" bIns="11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1332000" y="1314000"/>
                  <a:ext cx="98640" cy="8064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 flipH="1" flipV="1">
                  <a:off x="2346480" y="2549880"/>
                  <a:ext cx="55440" cy="11592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1142280" y="1742400"/>
                  <a:ext cx="125640" cy="1872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flipV="1">
                  <a:off x="1771560" y="2599920"/>
                  <a:ext cx="36360" cy="12168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 flipV="1">
                  <a:off x="1376280" y="2394000"/>
                  <a:ext cx="94680" cy="9036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 flipV="1">
                  <a:off x="1483560" y="2473920"/>
                  <a:ext cx="75240" cy="10260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 flipH="1" flipV="1">
                  <a:off x="2527560" y="2424960"/>
                  <a:ext cx="86400" cy="9468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2135160" y="1002600"/>
                  <a:ext cx="20160" cy="12420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 flipV="1">
                  <a:off x="2601720" y="2345400"/>
                  <a:ext cx="100080" cy="8244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1763280" y="1027080"/>
                  <a:ext cx="34920" cy="12276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 flipH="1" flipV="1">
                  <a:off x="2730240" y="2109240"/>
                  <a:ext cx="123120" cy="3888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1191240" y="1554480"/>
                  <a:ext cx="119880" cy="4716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 flipH="1">
                  <a:off x="2370240" y="1094400"/>
                  <a:ext cx="60840" cy="11484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1138320" y="1766880"/>
                  <a:ext cx="125640" cy="1440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flipV="1">
                  <a:off x="1455120" y="2456640"/>
                  <a:ext cx="79560" cy="9720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 flipV="1">
                  <a:off x="1634760" y="2553480"/>
                  <a:ext cx="55440" cy="11484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 flipH="1">
                  <a:off x="2118960" y="998640"/>
                  <a:ext cx="18720" cy="12708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V="1">
                  <a:off x="1135800" y="1953360"/>
                  <a:ext cx="128160" cy="1224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V="1">
                  <a:off x="1150560" y="2022480"/>
                  <a:ext cx="124200" cy="2448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1322280" y="1327320"/>
                  <a:ext cx="99720" cy="7812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320" bIns="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 flipH="1">
                  <a:off x="2745000" y="1654560"/>
                  <a:ext cx="124200" cy="3096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flipH="1" flipV="1">
                  <a:off x="2226960" y="2597040"/>
                  <a:ext cx="36360" cy="12312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flipH="1" flipV="1">
                  <a:off x="2192040" y="2604960"/>
                  <a:ext cx="30960" cy="12420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1211400" y="1506960"/>
                  <a:ext cx="115920" cy="5400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 flipV="1">
                  <a:off x="1802520" y="2604960"/>
                  <a:ext cx="29520" cy="12420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 flipH="1" flipV="1">
                  <a:off x="2201400" y="2603520"/>
                  <a:ext cx="32400" cy="12420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flipV="1">
                  <a:off x="2217960" y="2599560"/>
                  <a:ext cx="32400" cy="12420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flipV="1">
                  <a:off x="2217600" y="2599920"/>
                  <a:ext cx="33480" cy="12168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 flipV="1">
                  <a:off x="2012400" y="2628000"/>
                  <a:ext cx="1080" cy="12564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1898640" y="998640"/>
                  <a:ext cx="17640" cy="12708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flipH="1" flipV="1">
                  <a:off x="2306520" y="2568960"/>
                  <a:ext cx="48600" cy="11880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flipH="1" flipV="1">
                  <a:off x="2315160" y="2565000"/>
                  <a:ext cx="51120" cy="11592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 flipH="1" flipV="1">
                  <a:off x="2306520" y="2568960"/>
                  <a:ext cx="48600" cy="11880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 flipH="1" flipV="1">
                  <a:off x="2305800" y="2568960"/>
                  <a:ext cx="49680" cy="11880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 flipV="1">
                  <a:off x="1338840" y="2357640"/>
                  <a:ext cx="97200" cy="8244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2769120" y="1865520"/>
                  <a:ext cx="125640" cy="108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2439360" y="1145880"/>
                  <a:ext cx="74520" cy="10368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1996200" y="990720"/>
                  <a:ext cx="2520" cy="12816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 flipH="1">
                  <a:off x="2769120" y="1866960"/>
                  <a:ext cx="125640" cy="144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 flipH="1">
                  <a:off x="2094840" y="997200"/>
                  <a:ext cx="14400" cy="12564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 flipH="1">
                  <a:off x="2693880" y="1486800"/>
                  <a:ext cx="113760" cy="5544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 flipH="1">
                  <a:off x="2769120" y="1873440"/>
                  <a:ext cx="125640" cy="144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 flipH="1" flipV="1">
                  <a:off x="2502720" y="2445480"/>
                  <a:ext cx="83880" cy="9828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1334520" y="1311120"/>
                  <a:ext cx="97200" cy="8244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 flipH="1">
                  <a:off x="2627280" y="1361160"/>
                  <a:ext cx="104040" cy="7272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>
                  <a:off x="2445840" y="1150200"/>
                  <a:ext cx="71640" cy="10404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1135800" y="1793880"/>
                  <a:ext cx="127080" cy="1044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 flipH="1">
                  <a:off x="2689560" y="1478880"/>
                  <a:ext cx="113400" cy="5796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160" bIns="11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 flipH="1">
                  <a:off x="2446200" y="1150200"/>
                  <a:ext cx="72720" cy="10404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 flipH="1" flipV="1">
                  <a:off x="2329920" y="2558160"/>
                  <a:ext cx="52560" cy="11592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1243800" y="1444680"/>
                  <a:ext cx="110880" cy="6084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1307520" y="1346040"/>
                  <a:ext cx="102600" cy="7560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1311480" y="1341000"/>
                  <a:ext cx="102960" cy="7668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880" bIns="29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 flipH="1" flipV="1">
                  <a:off x="2241720" y="2593080"/>
                  <a:ext cx="37800" cy="12024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 flipH="1" flipV="1">
                  <a:off x="2270520" y="2582640"/>
                  <a:ext cx="43200" cy="12168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 flipV="1">
                  <a:off x="1393920" y="2409120"/>
                  <a:ext cx="89280" cy="8928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480" bIns="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 flipV="1">
                  <a:off x="1444320" y="2449800"/>
                  <a:ext cx="82440" cy="9576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 flipH="1" flipV="1">
                  <a:off x="2595240" y="2353680"/>
                  <a:ext cx="100080" cy="7956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1139760" y="1753200"/>
                  <a:ext cx="127080" cy="1620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1287000" y="1374480"/>
                  <a:ext cx="104040" cy="7164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 flipV="1">
                  <a:off x="1939320" y="2624400"/>
                  <a:ext cx="10440" cy="12816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1206360" y="1520640"/>
                  <a:ext cx="115920" cy="4968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 flipV="1">
                  <a:off x="1430640" y="2437560"/>
                  <a:ext cx="83520" cy="9576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1526760" y="1137600"/>
                  <a:ext cx="68760" cy="10692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 flipH="1">
                  <a:off x="2665440" y="1428480"/>
                  <a:ext cx="109440" cy="6192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 flipH="1">
                  <a:off x="2145960" y="1005120"/>
                  <a:ext cx="21600" cy="12420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 flipH="1" flipV="1">
                  <a:off x="2741040" y="2073600"/>
                  <a:ext cx="124200" cy="3492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 flipH="1">
                  <a:off x="2459880" y="1162440"/>
                  <a:ext cx="75600" cy="10260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 flipH="1" flipV="1">
                  <a:off x="2393640" y="2525400"/>
                  <a:ext cx="64800" cy="11052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 flipV="1">
                  <a:off x="1284480" y="2296440"/>
                  <a:ext cx="105480" cy="7164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>
                  <a:off x="1943280" y="992880"/>
                  <a:ext cx="10440" cy="12816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1223640" y="1482840"/>
                  <a:ext cx="114840" cy="5544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 flipV="1">
                  <a:off x="1168200" y="2085840"/>
                  <a:ext cx="122760" cy="3492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 flipH="1">
                  <a:off x="2367720" y="1094400"/>
                  <a:ext cx="59760" cy="11196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 flipH="1" flipV="1">
                  <a:off x="2161800" y="2613240"/>
                  <a:ext cx="25560" cy="12420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1838880" y="1009080"/>
                  <a:ext cx="24480" cy="12420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1131840" y="1841040"/>
                  <a:ext cx="128160" cy="396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 flipV="1">
                  <a:off x="1227600" y="2214000"/>
                  <a:ext cx="114840" cy="5940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 flipV="1">
                  <a:off x="1322280" y="2340000"/>
                  <a:ext cx="99720" cy="7956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 flipH="1" flipV="1">
                  <a:off x="2703240" y="2180520"/>
                  <a:ext cx="115920" cy="4968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 flipH="1" flipV="1">
                  <a:off x="2705760" y="2173680"/>
                  <a:ext cx="117720" cy="5148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" bIns="4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1184400" y="1570680"/>
                  <a:ext cx="121680" cy="4320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" bIns="-3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 flipV="1">
                  <a:off x="1334520" y="2353680"/>
                  <a:ext cx="97200" cy="8244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1471320" y="1178640"/>
                  <a:ext cx="76680" cy="9972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 flipH="1" flipV="1">
                  <a:off x="2626200" y="2314800"/>
                  <a:ext cx="103680" cy="7560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 flipH="1">
                  <a:off x="2490840" y="1189440"/>
                  <a:ext cx="82440" cy="9972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 flipV="1">
                  <a:off x="1450800" y="2454120"/>
                  <a:ext cx="80640" cy="9864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 flipH="1">
                  <a:off x="2184120" y="1013400"/>
                  <a:ext cx="29520" cy="12420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1299600" y="1357200"/>
                  <a:ext cx="102600" cy="7560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1297800" y="1358280"/>
                  <a:ext cx="104040" cy="7560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>
                  <a:off x="1135800" y="1788480"/>
                  <a:ext cx="127080" cy="1224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 flipV="1">
                  <a:off x="1550880" y="2516040"/>
                  <a:ext cx="67680" cy="10800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 flipV="1">
                  <a:off x="1438560" y="2444400"/>
                  <a:ext cx="83520" cy="9720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 flipH="1">
                  <a:off x="2417760" y="1127160"/>
                  <a:ext cx="68760" cy="10800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 flipH="1" flipV="1">
                  <a:off x="2104200" y="2621880"/>
                  <a:ext cx="17280" cy="12672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 flipH="1">
                  <a:off x="2070360" y="992880"/>
                  <a:ext cx="9360" cy="12816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1210320" y="1510920"/>
                  <a:ext cx="115920" cy="5400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1790640" y="1018800"/>
                  <a:ext cx="32040" cy="12420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1767600" y="1025640"/>
                  <a:ext cx="34920" cy="12168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 flipV="1">
                  <a:off x="1138320" y="1965240"/>
                  <a:ext cx="125640" cy="1620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 flipV="1">
                  <a:off x="1196640" y="2157480"/>
                  <a:ext cx="118800" cy="4752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 flipV="1">
                  <a:off x="1299600" y="2314800"/>
                  <a:ext cx="102600" cy="7416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 flipV="1">
                  <a:off x="1299600" y="2314800"/>
                  <a:ext cx="103680" cy="7560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 flipH="1" flipV="1">
                  <a:off x="2654640" y="2269800"/>
                  <a:ext cx="110880" cy="6768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 flipH="1">
                  <a:off x="2715480" y="1549080"/>
                  <a:ext cx="118800" cy="4572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 flipH="1">
                  <a:off x="2589840" y="1302840"/>
                  <a:ext cx="97200" cy="8244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 flipH="1">
                  <a:off x="2207160" y="1018800"/>
                  <a:ext cx="32400" cy="12420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>
                  <a:off x="1166760" y="1630080"/>
                  <a:ext cx="121680" cy="3492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 flipH="1" flipV="1">
                  <a:off x="2121840" y="2619720"/>
                  <a:ext cx="17280" cy="12564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 flipH="1">
                  <a:off x="2653200" y="1402920"/>
                  <a:ext cx="108000" cy="6732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>
                  <a:off x="1359000" y="1282680"/>
                  <a:ext cx="93240" cy="8640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0" bIns="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 flipH="1">
                  <a:off x="2769120" y="1863000"/>
                  <a:ext cx="125640" cy="252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 flipV="1">
                  <a:off x="1166760" y="2081520"/>
                  <a:ext cx="121680" cy="3492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 flipH="1" flipV="1">
                  <a:off x="2510280" y="2444400"/>
                  <a:ext cx="83520" cy="9576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1895760" y="998640"/>
                  <a:ext cx="16200" cy="12708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>
                  <a:off x="1763280" y="1027080"/>
                  <a:ext cx="36360" cy="12276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>
                  <a:off x="1139760" y="1746720"/>
                  <a:ext cx="127080" cy="1836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 flipV="1">
                  <a:off x="1171080" y="2097000"/>
                  <a:ext cx="122760" cy="3744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 flipV="1">
                  <a:off x="1206360" y="2176560"/>
                  <a:ext cx="117360" cy="4968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 flipV="1">
                  <a:off x="1246680" y="2244240"/>
                  <a:ext cx="111960" cy="6192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 flipV="1">
                  <a:off x="1477800" y="2469960"/>
                  <a:ext cx="76680" cy="10260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 flipV="1">
                  <a:off x="1482120" y="2473920"/>
                  <a:ext cx="76680" cy="10260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 flipV="1">
                  <a:off x="1857960" y="2615760"/>
                  <a:ext cx="21600" cy="12420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 flipV="1">
                  <a:off x="1991880" y="2628000"/>
                  <a:ext cx="3960" cy="12564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 flipH="1" flipV="1">
                  <a:off x="2395080" y="2525400"/>
                  <a:ext cx="63360" cy="11052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 flipH="1" flipV="1">
                  <a:off x="2686680" y="2214000"/>
                  <a:ext cx="114840" cy="5796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160" bIns="11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 flipH="1">
                  <a:off x="2748960" y="1670760"/>
                  <a:ext cx="124200" cy="2952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 flipH="1">
                  <a:off x="2615400" y="1341000"/>
                  <a:ext cx="102960" cy="7668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880" bIns="29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 flipH="1">
                  <a:off x="2395080" y="1110600"/>
                  <a:ext cx="63360" cy="11088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 flipH="1">
                  <a:off x="2359440" y="1089360"/>
                  <a:ext cx="57960" cy="11340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 flipH="1">
                  <a:off x="2327400" y="1070280"/>
                  <a:ext cx="54000" cy="11592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 flipH="1">
                  <a:off x="2477160" y="1174320"/>
                  <a:ext cx="76680" cy="10296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 flipH="1" flipV="1">
                  <a:off x="2507400" y="2444400"/>
                  <a:ext cx="83520" cy="9576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 flipV="1">
                  <a:off x="1134360" y="1912680"/>
                  <a:ext cx="125640" cy="540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 flipH="1">
                  <a:off x="2639880" y="1381320"/>
                  <a:ext cx="106560" cy="7164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1270800" y="1397520"/>
                  <a:ext cx="108000" cy="6876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960" bIns="21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1243800" y="1440720"/>
                  <a:ext cx="111960" cy="6192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 flipV="1">
                  <a:off x="1579320" y="2529720"/>
                  <a:ext cx="63360" cy="11088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 flipV="1">
                  <a:off x="1426320" y="2436120"/>
                  <a:ext cx="83880" cy="9324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440" bIns="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 flipH="1">
                  <a:off x="2473200" y="1172880"/>
                  <a:ext cx="77040" cy="10152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>
                  <a:off x="1986480" y="990720"/>
                  <a:ext cx="3960" cy="12816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>
                  <a:off x="1851120" y="1006920"/>
                  <a:ext cx="22680" cy="12420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1820160" y="1013400"/>
                  <a:ext cx="29520" cy="12420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1682280" y="1055160"/>
                  <a:ext cx="48600" cy="11880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 flipV="1">
                  <a:off x="1142280" y="1985760"/>
                  <a:ext cx="125640" cy="2016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 flipV="1">
                  <a:off x="1144080" y="1997640"/>
                  <a:ext cx="126720" cy="2268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 flipV="1">
                  <a:off x="1155960" y="2046960"/>
                  <a:ext cx="124200" cy="3096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 flipV="1">
                  <a:off x="1203480" y="2172240"/>
                  <a:ext cx="118800" cy="4860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 flipV="1">
                  <a:off x="1226520" y="2210040"/>
                  <a:ext cx="113400" cy="5796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160" bIns="11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 flipV="1">
                  <a:off x="1226520" y="2212920"/>
                  <a:ext cx="113400" cy="5652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 flipV="1">
                  <a:off x="1311480" y="2329560"/>
                  <a:ext cx="102960" cy="7704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240" bIns="30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 flipV="1">
                  <a:off x="1314000" y="2331720"/>
                  <a:ext cx="100080" cy="7668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880" bIns="29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 flipV="1">
                  <a:off x="1314000" y="2331720"/>
                  <a:ext cx="101520" cy="7668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880" bIns="29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 flipV="1">
                  <a:off x="1314000" y="2331720"/>
                  <a:ext cx="101520" cy="7668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880" bIns="29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 flipV="1">
                  <a:off x="1322280" y="2340000"/>
                  <a:ext cx="99720" cy="7956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 flipV="1">
                  <a:off x="1487520" y="2478240"/>
                  <a:ext cx="78480" cy="10296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 flipV="1">
                  <a:off x="1490400" y="2477880"/>
                  <a:ext cx="75600" cy="10404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 flipV="1">
                  <a:off x="1490400" y="2480760"/>
                  <a:ext cx="75600" cy="10152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 flipV="1">
                  <a:off x="1491480" y="2480400"/>
                  <a:ext cx="75600" cy="10404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 flipV="1">
                  <a:off x="1650960" y="2560320"/>
                  <a:ext cx="52560" cy="11628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 flipV="1">
                  <a:off x="1802520" y="2604960"/>
                  <a:ext cx="29520" cy="12420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 flipH="1" flipV="1">
                  <a:off x="2041920" y="2628000"/>
                  <a:ext cx="5040" cy="12564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 flipH="1" flipV="1">
                  <a:off x="2149920" y="2615760"/>
                  <a:ext cx="24120" cy="12420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 flipH="1" flipV="1">
                  <a:off x="2314800" y="2565000"/>
                  <a:ext cx="52200" cy="11592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 flipH="1" flipV="1">
                  <a:off x="2370240" y="2537280"/>
                  <a:ext cx="60840" cy="11196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 flipH="1" flipV="1">
                  <a:off x="2427480" y="2502720"/>
                  <a:ext cx="71280" cy="10944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 flipH="1" flipV="1">
                  <a:off x="2439360" y="2496960"/>
                  <a:ext cx="71640" cy="10404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 flipH="1" flipV="1">
                  <a:off x="2497680" y="2452320"/>
                  <a:ext cx="80640" cy="9972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 flipH="1" flipV="1">
                  <a:off x="2531520" y="2421000"/>
                  <a:ext cx="87840" cy="9468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 flipH="1" flipV="1">
                  <a:off x="2635920" y="2298240"/>
                  <a:ext cx="106560" cy="7164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 flipH="1" flipV="1">
                  <a:off x="2666880" y="2252520"/>
                  <a:ext cx="110880" cy="6480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 flipH="1" flipV="1">
                  <a:off x="2734200" y="2100600"/>
                  <a:ext cx="122760" cy="3636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 flipH="1" flipV="1">
                  <a:off x="2756880" y="2008800"/>
                  <a:ext cx="124200" cy="2160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0" bIns="-25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 flipH="1" flipV="1">
                  <a:off x="2762640" y="1965240"/>
                  <a:ext cx="127080" cy="1620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 flipH="1" flipV="1">
                  <a:off x="2765520" y="1937160"/>
                  <a:ext cx="128160" cy="936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4" name=""/>
                <p:cNvSpPr/>
                <p:nvPr/>
              </p:nvSpPr>
              <p:spPr>
                <a:xfrm flipH="1">
                  <a:off x="2766960" y="1830240"/>
                  <a:ext cx="128160" cy="648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5" name=""/>
                <p:cNvSpPr/>
                <p:nvPr/>
              </p:nvSpPr>
              <p:spPr>
                <a:xfrm flipH="1">
                  <a:off x="2752920" y="1697760"/>
                  <a:ext cx="125640" cy="2412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6" name=""/>
                <p:cNvSpPr/>
                <p:nvPr/>
              </p:nvSpPr>
              <p:spPr>
                <a:xfrm flipH="1">
                  <a:off x="2726280" y="1581480"/>
                  <a:ext cx="120240" cy="4320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" bIns="-3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7" name=""/>
                <p:cNvSpPr/>
                <p:nvPr/>
              </p:nvSpPr>
              <p:spPr>
                <a:xfrm flipH="1">
                  <a:off x="2718360" y="1553040"/>
                  <a:ext cx="118800" cy="4572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 flipH="1">
                  <a:off x="2589840" y="1302840"/>
                  <a:ext cx="97200" cy="8244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 flipH="1">
                  <a:off x="2359440" y="1089360"/>
                  <a:ext cx="59400" cy="11340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0" name=""/>
                <p:cNvSpPr/>
                <p:nvPr/>
              </p:nvSpPr>
              <p:spPr>
                <a:xfrm flipH="1">
                  <a:off x="2267280" y="1041840"/>
                  <a:ext cx="45720" cy="12024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1" name=""/>
                <p:cNvSpPr/>
                <p:nvPr/>
              </p:nvSpPr>
              <p:spPr>
                <a:xfrm>
                  <a:off x="1179000" y="1589760"/>
                  <a:ext cx="120240" cy="4032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 flipH="1">
                  <a:off x="2531520" y="1229760"/>
                  <a:ext cx="87840" cy="9324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440" bIns="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 flipH="1">
                  <a:off x="2745000" y="1650600"/>
                  <a:ext cx="124200" cy="3204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 flipH="1">
                  <a:off x="2201400" y="1017360"/>
                  <a:ext cx="32400" cy="12420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>
                  <a:off x="1171080" y="1616400"/>
                  <a:ext cx="122760" cy="3636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 flipH="1" flipV="1">
                  <a:off x="2106360" y="2621880"/>
                  <a:ext cx="16200" cy="12672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>
                  <a:off x="1407600" y="1231200"/>
                  <a:ext cx="87480" cy="9432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>
                  <a:off x="1270800" y="1397520"/>
                  <a:ext cx="108000" cy="6876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960" bIns="21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>
                  <a:off x="1254600" y="1425960"/>
                  <a:ext cx="109440" cy="6336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 flipH="1">
                  <a:off x="2094840" y="997200"/>
                  <a:ext cx="14400" cy="12564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>
                  <a:off x="1534680" y="1131120"/>
                  <a:ext cx="68760" cy="10800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2" name=""/>
                <p:cNvSpPr/>
                <p:nvPr/>
              </p:nvSpPr>
              <p:spPr>
                <a:xfrm>
                  <a:off x="1199160" y="1536840"/>
                  <a:ext cx="119160" cy="4860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 flipV="1">
                  <a:off x="1694160" y="2574360"/>
                  <a:ext cx="44640" cy="12168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14" name=""/>
              <p:cNvSpPr/>
              <p:nvPr/>
            </p:nvSpPr>
            <p:spPr>
              <a:xfrm>
                <a:off x="1258920" y="1117440"/>
                <a:ext cx="1508040" cy="1507680"/>
              </a:xfrm>
              <a:prstGeom prst="ellipse">
                <a:avLst/>
              </a:prstGeom>
              <a:noFill/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15" name=""/>
          <p:cNvSpPr/>
          <p:nvPr/>
        </p:nvSpPr>
        <p:spPr>
          <a:xfrm>
            <a:off x="838080" y="4619520"/>
            <a:ext cx="2514600" cy="2478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Current “price tag” &gt;$3 million per gen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(and we want several of the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rends in de novo DNA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7" name="" descr=""/>
          <p:cNvPicPr/>
          <p:nvPr/>
        </p:nvPicPr>
        <p:blipFill>
          <a:blip r:embed="rId1"/>
          <a:stretch/>
        </p:blipFill>
        <p:spPr>
          <a:xfrm>
            <a:off x="1600200" y="1219320"/>
            <a:ext cx="5286240" cy="502920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/>
          <p:nvPr/>
        </p:nvSpPr>
        <p:spPr>
          <a:xfrm>
            <a:off x="1447920" y="6445080"/>
            <a:ext cx="624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rlson, R. (2003) The Pace and Proliferation of Biological Techn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410080" y="3352680"/>
            <a:ext cx="628920" cy="6573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rot="2913600">
            <a:off x="4156920" y="3417120"/>
            <a:ext cx="2976480" cy="380880"/>
          </a:xfrm>
          <a:prstGeom prst="rect">
            <a:avLst/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6429240" y="4038480"/>
            <a:ext cx="38124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722680" y="5438880"/>
            <a:ext cx="3678120" cy="152280"/>
          </a:xfrm>
          <a:prstGeom prst="rect">
            <a:avLst/>
          </a:prstGeom>
          <a:solidFill>
            <a:srgbClr val="ff33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rebuchet MS"/>
              </a:rPr>
              <a:t>SIRV-1: hjc gene parse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4" name=""/>
          <p:cNvGrpSpPr/>
          <p:nvPr/>
        </p:nvGrpSpPr>
        <p:grpSpPr>
          <a:xfrm>
            <a:off x="378720" y="1279440"/>
            <a:ext cx="8155800" cy="1997280"/>
            <a:chOff x="378720" y="1279440"/>
            <a:chExt cx="8155800" cy="1997280"/>
          </a:xfrm>
        </p:grpSpPr>
        <p:sp>
          <p:nvSpPr>
            <p:cNvPr id="425" name=""/>
            <p:cNvSpPr/>
            <p:nvPr/>
          </p:nvSpPr>
          <p:spPr>
            <a:xfrm>
              <a:off x="5715000" y="1405080"/>
              <a:ext cx="2819520" cy="691200"/>
            </a:xfrm>
            <a:prstGeom prst="rect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imers:  t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= b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6                      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  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=  25 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nstruction oligos: b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 </a:t>
              </a:r>
              <a:r>
                <a:rPr b="0" lang="en-US" sz="12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t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5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=  48 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total gene: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=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390 b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453960" y="1584360"/>
              <a:ext cx="384120" cy="0"/>
            </a:xfrm>
            <a:prstGeom prst="line">
              <a:avLst/>
            </a:prstGeom>
            <a:ln w="9360">
              <a:solidFill>
                <a:srgbClr val="ff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914400" y="1584360"/>
              <a:ext cx="380880" cy="0"/>
            </a:xfrm>
            <a:prstGeom prst="line">
              <a:avLst/>
            </a:prstGeom>
            <a:ln w="9360">
              <a:solidFill>
                <a:srgbClr val="ff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378720" y="1279440"/>
              <a:ext cx="480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rebuchet MS"/>
                </a:rPr>
                <a:t>25 n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3731760" y="1736640"/>
              <a:ext cx="480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rebuchet MS"/>
                </a:rPr>
                <a:t>25 n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1327320" y="1584360"/>
              <a:ext cx="384120" cy="0"/>
            </a:xfrm>
            <a:prstGeom prst="line">
              <a:avLst/>
            </a:prstGeom>
            <a:ln w="9360">
              <a:solidFill>
                <a:srgbClr val="ff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787400" y="1584360"/>
              <a:ext cx="381240" cy="0"/>
            </a:xfrm>
            <a:prstGeom prst="line">
              <a:avLst/>
            </a:prstGeom>
            <a:ln w="9360">
              <a:solidFill>
                <a:srgbClr val="ff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232000" y="1584360"/>
              <a:ext cx="384120" cy="0"/>
            </a:xfrm>
            <a:prstGeom prst="line">
              <a:avLst/>
            </a:prstGeom>
            <a:ln w="9360">
              <a:solidFill>
                <a:srgbClr val="ff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2692440" y="1584360"/>
              <a:ext cx="380880" cy="0"/>
            </a:xfrm>
            <a:prstGeom prst="line">
              <a:avLst/>
            </a:prstGeom>
            <a:ln w="9360">
              <a:solidFill>
                <a:srgbClr val="ff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3105000" y="1584360"/>
              <a:ext cx="384480" cy="0"/>
            </a:xfrm>
            <a:prstGeom prst="line">
              <a:avLst/>
            </a:prstGeom>
            <a:ln w="9360">
              <a:solidFill>
                <a:srgbClr val="ff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565440" y="1584360"/>
              <a:ext cx="381240" cy="0"/>
            </a:xfrm>
            <a:prstGeom prst="line">
              <a:avLst/>
            </a:prstGeom>
            <a:ln w="9360">
              <a:solidFill>
                <a:srgbClr val="ff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520560" y="1660680"/>
              <a:ext cx="470160" cy="0"/>
            </a:xfrm>
            <a:prstGeom prst="line">
              <a:avLst/>
            </a:prstGeom>
            <a:ln w="9360">
              <a:solidFill>
                <a:srgbClr val="ff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1002960" y="1660680"/>
              <a:ext cx="469800" cy="0"/>
            </a:xfrm>
            <a:prstGeom prst="line">
              <a:avLst/>
            </a:prstGeom>
            <a:ln w="9360">
              <a:solidFill>
                <a:srgbClr val="ff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 flipH="1">
              <a:off x="1506240" y="1660680"/>
              <a:ext cx="398520" cy="0"/>
            </a:xfrm>
            <a:prstGeom prst="line">
              <a:avLst/>
            </a:prstGeom>
            <a:ln w="9360">
              <a:solidFill>
                <a:srgbClr val="ff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 flipH="1">
              <a:off x="1968480" y="1660680"/>
              <a:ext cx="393840" cy="0"/>
            </a:xfrm>
            <a:prstGeom prst="line">
              <a:avLst/>
            </a:prstGeom>
            <a:ln w="9360">
              <a:solidFill>
                <a:srgbClr val="ff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 flipH="1">
              <a:off x="2370240" y="1660680"/>
              <a:ext cx="372960" cy="0"/>
            </a:xfrm>
            <a:prstGeom prst="line">
              <a:avLst/>
            </a:prstGeom>
            <a:ln w="9360">
              <a:solidFill>
                <a:srgbClr val="ff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 flipH="1">
              <a:off x="2743200" y="1660680"/>
              <a:ext cx="457200" cy="0"/>
            </a:xfrm>
            <a:prstGeom prst="line">
              <a:avLst/>
            </a:prstGeom>
            <a:ln w="9360">
              <a:solidFill>
                <a:srgbClr val="ff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 flipH="1">
              <a:off x="3200040" y="1660680"/>
              <a:ext cx="398520" cy="0"/>
            </a:xfrm>
            <a:prstGeom prst="line">
              <a:avLst/>
            </a:prstGeom>
            <a:ln w="9360">
              <a:solidFill>
                <a:srgbClr val="ff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 flipH="1">
              <a:off x="3657600" y="1660680"/>
              <a:ext cx="393840" cy="0"/>
            </a:xfrm>
            <a:prstGeom prst="line">
              <a:avLst/>
            </a:prstGeom>
            <a:ln w="9360">
              <a:solidFill>
                <a:srgbClr val="ff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533520" y="1752480"/>
              <a:ext cx="0" cy="144792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114800" y="1676520"/>
              <a:ext cx="4267080" cy="160020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6" name=""/>
          <p:cNvSpPr/>
          <p:nvPr/>
        </p:nvSpPr>
        <p:spPr>
          <a:xfrm>
            <a:off x="457200" y="3397320"/>
            <a:ext cx="861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Arial"/>
              </a:rPr>
              <a:t>CAGGTAATTCCATATGAACATCCGTCAGTCTGGTAAATACTACGAGTACAAAACTCTGGAGATCCTGGAAAAGAATGGTTTCAAAGCGCTGCGTATCCCGGTTTCTGGTACCGGCAAACAGGCGCTGC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Arial"/>
              </a:rPr>
              <a:t>GTCCATTAAGGTATACTTGTAGGCAGTCAGACCATTTATGATGCTCATGTTTTGAGACCTCTAGGACCTTTTCTTACCAAAGTTTCGCGACGCATAGGGCCAAAGACCATGGCCGTTTGTCCGCGACG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80880" y="4495680"/>
            <a:ext cx="868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GGACCTGATCG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Arial"/>
              </a:rPr>
              <a:t>CGACCAAAAACAACACCATCTACCCTATTGAAGTTAAATCTACCTCTAAAGACGTTGTTACCGTTCGTAATTTCCAGATCGAAAAACTGTTCAAATTCTGCGCGAAATCTTCAACTTCTGTGA 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Arial"/>
              </a:rPr>
              <a:t>CCTGGACTAGCGCTGGTTTTTGTTGTGGTAGATGGGATAACTTCAATTTAGATGGAGATTTCTGCAACAATGGCAAGCATTAAAGGTCTAGCTTTTTGACAAGTTTAAGACGCTTTAGAAGTTGAAGACACTC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80880" y="5607000"/>
            <a:ext cx="8763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Arial"/>
              </a:rPr>
              <a:t>ATGCCACCCGCTGGTAACCGTTTACTACAAGAAATACAAAATCGTTATCGTTTATGAACTGTCTCAGGACGTTCGCACCAAAGAAAAAATCAAGTTCAAGTACGGCATCAACTCCTAACTCGAGCGGA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Arial"/>
              </a:rPr>
              <a:t>TACGGTGGGCGACCATTGGCAAATGATGTTCTTTATGTTTTAGCAATAGCAAATACTTGACAGAGTCCTGCAAGCGTGGTTTCTTTTTTAGTTCAAGTTCATGCCGTAGTTGAGGATTGAGCTCGCCT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380880" y="3124080"/>
            <a:ext cx="8305920" cy="3138480"/>
            <a:chOff x="380880" y="3124080"/>
            <a:chExt cx="8305920" cy="3138480"/>
          </a:xfrm>
        </p:grpSpPr>
        <p:sp>
          <p:nvSpPr>
            <p:cNvPr id="450" name=""/>
            <p:cNvSpPr/>
            <p:nvPr/>
          </p:nvSpPr>
          <p:spPr>
            <a:xfrm>
              <a:off x="457200" y="3408480"/>
              <a:ext cx="1523880" cy="0"/>
            </a:xfrm>
            <a:prstGeom prst="line">
              <a:avLst/>
            </a:prstGeom>
            <a:ln w="15840">
              <a:solidFill>
                <a:srgbClr val="ff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1050840" y="3124080"/>
              <a:ext cx="2858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rebuchet MS"/>
                </a:rPr>
                <a:t>t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rebuchet MS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003400" y="3408480"/>
              <a:ext cx="2949480" cy="0"/>
            </a:xfrm>
            <a:prstGeom prst="line">
              <a:avLst/>
            </a:prstGeom>
            <a:ln w="15840">
              <a:solidFill>
                <a:srgbClr val="ff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282840" y="3124080"/>
              <a:ext cx="2858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rebuchet MS"/>
                </a:rPr>
                <a:t>t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rebuchet MS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 flipV="1">
              <a:off x="5410080" y="3408480"/>
              <a:ext cx="2971800" cy="7920"/>
            </a:xfrm>
            <a:prstGeom prst="line">
              <a:avLst/>
            </a:prstGeom>
            <a:ln w="15840">
              <a:solidFill>
                <a:srgbClr val="ff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 flipH="1">
              <a:off x="609480" y="3713040"/>
              <a:ext cx="2819520" cy="0"/>
            </a:xfrm>
            <a:prstGeom prst="line">
              <a:avLst/>
            </a:prstGeom>
            <a:ln w="15840">
              <a:solidFill>
                <a:srgbClr val="ff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1851120" y="3749760"/>
              <a:ext cx="3254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rebuchet MS"/>
                </a:rPr>
                <a:t>b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rebuchet MS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 flipH="1">
              <a:off x="4125600" y="3713040"/>
              <a:ext cx="2351160" cy="0"/>
            </a:xfrm>
            <a:prstGeom prst="line">
              <a:avLst/>
            </a:prstGeom>
            <a:ln w="15840">
              <a:solidFill>
                <a:srgbClr val="ff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5131080" y="3749760"/>
              <a:ext cx="3254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rebuchet MS"/>
                </a:rPr>
                <a:t>b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rebuchet MS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flipH="1">
              <a:off x="7314840" y="3713040"/>
              <a:ext cx="1066680" cy="0"/>
            </a:xfrm>
            <a:prstGeom prst="line">
              <a:avLst/>
            </a:prstGeom>
            <a:ln w="15840">
              <a:solidFill>
                <a:srgbClr val="ff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1143000" y="4484520"/>
              <a:ext cx="2895480" cy="0"/>
            </a:xfrm>
            <a:prstGeom prst="line">
              <a:avLst/>
            </a:prstGeom>
            <a:ln w="15840">
              <a:solidFill>
                <a:srgbClr val="ff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2444400" y="4200480"/>
              <a:ext cx="2858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rebuchet MS"/>
                </a:rPr>
                <a:t>t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rebuchet MS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4191120" y="4484520"/>
              <a:ext cx="2819160" cy="0"/>
            </a:xfrm>
            <a:prstGeom prst="line">
              <a:avLst/>
            </a:prstGeom>
            <a:ln w="15840">
              <a:solidFill>
                <a:srgbClr val="ff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340240" y="4200480"/>
              <a:ext cx="2858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rebuchet MS"/>
                </a:rPr>
                <a:t>t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rebuchet MS"/>
                </a:rPr>
                <a:t>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 flipH="1">
              <a:off x="456840" y="4789440"/>
              <a:ext cx="1981080" cy="0"/>
            </a:xfrm>
            <a:prstGeom prst="line">
              <a:avLst/>
            </a:prstGeom>
            <a:ln w="15840">
              <a:solidFill>
                <a:srgbClr val="ff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1370160" y="4826160"/>
              <a:ext cx="3254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rebuchet MS"/>
                </a:rPr>
                <a:t>b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rebuchet MS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 flipH="1">
              <a:off x="914400" y="5924520"/>
              <a:ext cx="2819520" cy="0"/>
            </a:xfrm>
            <a:prstGeom prst="line">
              <a:avLst/>
            </a:prstGeom>
            <a:ln w="15840">
              <a:solidFill>
                <a:srgbClr val="ff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2192760" y="5961240"/>
              <a:ext cx="37548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rebuchet MS"/>
                </a:rPr>
                <a:t>b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rebuchet MS"/>
                </a:rPr>
                <a:t>1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 flipH="1">
              <a:off x="3733920" y="5924520"/>
              <a:ext cx="2666880" cy="0"/>
            </a:xfrm>
            <a:prstGeom prst="line">
              <a:avLst/>
            </a:prstGeom>
            <a:ln w="15840">
              <a:solidFill>
                <a:srgbClr val="ff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029560" y="5961240"/>
              <a:ext cx="37548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rebuchet MS"/>
                </a:rPr>
                <a:t>b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rebuchet MS"/>
                </a:rPr>
                <a:t>1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6711840" y="3124080"/>
              <a:ext cx="2858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rebuchet MS"/>
                </a:rPr>
                <a:t>t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rebuchet MS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7238880" y="4495680"/>
              <a:ext cx="1371600" cy="0"/>
            </a:xfrm>
            <a:prstGeom prst="line">
              <a:avLst/>
            </a:prstGeom>
            <a:ln w="15840">
              <a:solidFill>
                <a:srgbClr val="ff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496800" y="5619600"/>
              <a:ext cx="1560600" cy="0"/>
            </a:xfrm>
            <a:prstGeom prst="line">
              <a:avLst/>
            </a:prstGeom>
            <a:ln w="15840">
              <a:solidFill>
                <a:srgbClr val="ff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141920" y="5335560"/>
              <a:ext cx="33588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rebuchet MS"/>
                </a:rPr>
                <a:t>t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rebuchet MS"/>
                </a:rPr>
                <a:t>1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2155680" y="5619600"/>
              <a:ext cx="2895840" cy="0"/>
            </a:xfrm>
            <a:prstGeom prst="line">
              <a:avLst/>
            </a:prstGeom>
            <a:ln w="15840">
              <a:solidFill>
                <a:srgbClr val="ff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459600" y="5335560"/>
              <a:ext cx="33588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rebuchet MS"/>
                </a:rPr>
                <a:t>t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rebuchet MS"/>
                </a:rPr>
                <a:t>1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143680" y="5619600"/>
              <a:ext cx="2895480" cy="0"/>
            </a:xfrm>
            <a:prstGeom prst="line">
              <a:avLst/>
            </a:prstGeom>
            <a:ln w="15840">
              <a:solidFill>
                <a:srgbClr val="ff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6447240" y="5335560"/>
              <a:ext cx="33588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rebuchet MS"/>
                </a:rPr>
                <a:t>t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rebuchet MS"/>
                </a:rPr>
                <a:t>1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 flipH="1">
              <a:off x="6711840" y="5924520"/>
              <a:ext cx="1594080" cy="0"/>
            </a:xfrm>
            <a:prstGeom prst="line">
              <a:avLst/>
            </a:prstGeom>
            <a:ln w="15840">
              <a:solidFill>
                <a:srgbClr val="ff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7396560" y="5961240"/>
              <a:ext cx="37548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rebuchet MS"/>
                </a:rPr>
                <a:t>b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rebuchet MS"/>
                </a:rPr>
                <a:t>1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 flipH="1">
              <a:off x="2462040" y="4788000"/>
              <a:ext cx="2872080" cy="7920"/>
            </a:xfrm>
            <a:prstGeom prst="line">
              <a:avLst/>
            </a:prstGeom>
            <a:ln w="15840">
              <a:solidFill>
                <a:srgbClr val="ff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3738600" y="4832280"/>
              <a:ext cx="3254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rebuchet MS"/>
                </a:rPr>
                <a:t>b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rebuchet MS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 flipH="1">
              <a:off x="5562360" y="4795920"/>
              <a:ext cx="2819160" cy="6120"/>
            </a:xfrm>
            <a:prstGeom prst="line">
              <a:avLst/>
            </a:prstGeom>
            <a:ln w="15840">
              <a:solidFill>
                <a:srgbClr val="ff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7010640" y="4832280"/>
              <a:ext cx="37548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rebuchet MS"/>
                </a:rPr>
                <a:t>b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rebuchet MS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457200" y="3397320"/>
              <a:ext cx="8001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3333cc"/>
                  </a:solidFill>
                  <a:latin typeface="Courier New"/>
                  <a:ea typeface="Arial"/>
                </a:rPr>
                <a:t>CAGGTAATTCCATATGAACATCCGT</a:t>
              </a:r>
              <a:r>
                <a:rPr b="0" lang="en-US" sz="800" spc="-1" strike="noStrike">
                  <a:solidFill>
                    <a:srgbClr val="ff9900"/>
                  </a:solidFill>
                  <a:latin typeface="Courier New"/>
                  <a:ea typeface="Arial"/>
                </a:rPr>
                <a:t>CAGTCTGGTAAATACTACGAGTACAAAACTCTGGAGATCCTGGAAAAG        </a:t>
              </a:r>
              <a:r>
                <a:rPr b="0" lang="en-US" sz="800" spc="-1" strike="noStrike">
                  <a:solidFill>
                    <a:srgbClr val="3333cc"/>
                  </a:solidFill>
                  <a:latin typeface="Courier New"/>
                  <a:ea typeface="Arial"/>
                </a:rPr>
                <a:t>CAAAGCGCTGCGTATCCCGGTTTCTGGTACCGGCAAACAGGCGCTGC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Courier New"/>
                  <a:ea typeface="Arial"/>
                </a:rPr>
                <a:t>  </a:t>
              </a:r>
              <a:r>
                <a:rPr b="0" lang="en-US" sz="800" spc="-1" strike="noStrike">
                  <a:solidFill>
                    <a:srgbClr val="ff9900"/>
                  </a:solidFill>
                  <a:latin typeface="Courier New"/>
                  <a:ea typeface="Arial"/>
                </a:rPr>
                <a:t>CCATTAAGGTATACTTGTAGGCAGTCAGACCATTTATGATGCTCATGT</a:t>
              </a:r>
              <a:r>
                <a:rPr b="0" lang="en-US" sz="800" spc="-1" strike="noStrike">
                  <a:solidFill>
                    <a:srgbClr val="000000"/>
                  </a:solidFill>
                  <a:latin typeface="Courier New"/>
                  <a:ea typeface="Arial"/>
                </a:rPr>
                <a:t>          </a:t>
              </a:r>
              <a:r>
                <a:rPr b="0" lang="en-US" sz="800" spc="-1" strike="noStrike">
                  <a:solidFill>
                    <a:srgbClr val="3333cc"/>
                  </a:solidFill>
                  <a:latin typeface="Courier New"/>
                  <a:ea typeface="Arial"/>
                </a:rPr>
                <a:t>CTAGGACCTTTTCTTACCAAAGTTTCGCGACGCATAGGG              </a:t>
              </a:r>
              <a:r>
                <a:rPr b="0" lang="en-US" sz="800" spc="-1" strike="noStrike">
                  <a:solidFill>
                    <a:srgbClr val="ff9900"/>
                  </a:solidFill>
                  <a:latin typeface="Courier New"/>
                  <a:ea typeface="Arial"/>
                </a:rPr>
                <a:t>CGTTTGTCCGCGACG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380880" y="4495680"/>
              <a:ext cx="83059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9900"/>
                  </a:solidFill>
                  <a:latin typeface="Courier New"/>
                  <a:ea typeface="Arial"/>
                </a:rPr>
                <a:t>           </a:t>
              </a:r>
              <a:r>
                <a:rPr b="0" lang="en-US" sz="800" spc="-1" strike="noStrike">
                  <a:solidFill>
                    <a:srgbClr val="ff9900"/>
                  </a:solidFill>
                  <a:latin typeface="Courier New"/>
                  <a:ea typeface="Arial"/>
                </a:rPr>
                <a:t>CGACCAAAAACAACACCATCTACCCTATTGAAGTTAAATCTACCTCTA </a:t>
              </a:r>
              <a:r>
                <a:rPr b="0" lang="en-US" sz="800" spc="-1" strike="noStrike">
                  <a:solidFill>
                    <a:srgbClr val="3333cc"/>
                  </a:solidFill>
                  <a:latin typeface="Courier New"/>
                  <a:ea typeface="Arial"/>
                </a:rPr>
                <a:t> GACGTTGTTACCGTTCGTAATTTCCAGATCGAAAAACTGTTCAAATT</a:t>
              </a:r>
              <a:r>
                <a:rPr b="0" lang="en-US" sz="800" spc="-1" strike="noStrike">
                  <a:solidFill>
                    <a:srgbClr val="000000"/>
                  </a:solidFill>
                  <a:latin typeface="Courier New"/>
                  <a:ea typeface="Arial"/>
                </a:rPr>
                <a:t>    </a:t>
              </a:r>
              <a:r>
                <a:rPr b="0" lang="en-US" sz="800" spc="-1" strike="noStrike">
                  <a:solidFill>
                    <a:srgbClr val="ff9900"/>
                  </a:solidFill>
                  <a:latin typeface="Courier New"/>
                  <a:ea typeface="Arial"/>
                </a:rPr>
                <a:t>GCGAAATCTTCAACTTCTGTGA</a:t>
              </a:r>
              <a:r>
                <a:rPr b="0" lang="en-US" sz="800" spc="-1" strike="noStrike">
                  <a:solidFill>
                    <a:srgbClr val="000000"/>
                  </a:solidFill>
                  <a:latin typeface="Courier New"/>
                  <a:ea typeface="Arial"/>
                </a:rPr>
                <a:t> </a:t>
              </a:r>
              <a:br>
                <a:rPr sz="800"/>
              </a:br>
              <a:r>
                <a:rPr b="0" lang="en-US" sz="800" spc="-1" strike="noStrike">
                  <a:solidFill>
                    <a:srgbClr val="ff9900"/>
                  </a:solidFill>
                  <a:latin typeface="Courier New"/>
                  <a:ea typeface="Arial"/>
                </a:rPr>
                <a:t>CCTGGACTAGCGCTGGTTTTTGTTGTGGTAGA </a:t>
              </a:r>
              <a:r>
                <a:rPr b="0" lang="en-US" sz="800" spc="-1" strike="noStrike">
                  <a:solidFill>
                    <a:srgbClr val="3333cc"/>
                  </a:solidFill>
                  <a:latin typeface="Courier New"/>
                  <a:ea typeface="Arial"/>
                </a:rPr>
                <a:t>GGGATAACTTCAATTTAGATGGAGATTTCTGCAACAATGGCAAGCATT   </a:t>
              </a:r>
              <a:r>
                <a:rPr b="0" lang="en-US" sz="800" spc="-1" strike="noStrike">
                  <a:solidFill>
                    <a:srgbClr val="ff9900"/>
                  </a:solidFill>
                  <a:latin typeface="Courier New"/>
                  <a:ea typeface="Arial"/>
                </a:rPr>
                <a:t>GGTCTAGCTTTTTGACAAGTTTAAGACGCTTTAGAAGTTGAAGACAC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380880" y="5607000"/>
              <a:ext cx="8001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9900"/>
                  </a:solidFill>
                  <a:latin typeface="Courier New"/>
                  <a:ea typeface="Arial"/>
                </a:rPr>
                <a:t>ATGCCACCCGCTGGTAACCGTTTACT </a:t>
              </a:r>
              <a:r>
                <a:rPr b="0" lang="en-US" sz="800" spc="-1" strike="noStrike">
                  <a:solidFill>
                    <a:srgbClr val="3333cc"/>
                  </a:solidFill>
                  <a:latin typeface="Courier New"/>
                  <a:ea typeface="Arial"/>
                </a:rPr>
                <a:t>CAAGAAATACAAAATCGTTATCGTTTATGAACTGTCTCAGGACGTTCG  </a:t>
              </a:r>
              <a:r>
                <a:rPr b="0" lang="en-US" sz="800" spc="-1" strike="noStrike">
                  <a:solidFill>
                    <a:srgbClr val="ff9900"/>
                  </a:solidFill>
                  <a:latin typeface="Courier New"/>
                  <a:ea typeface="Arial"/>
                </a:rPr>
                <a:t>CCAAAGAAAAAATCAAGTTCAAGTACGGCATCAACTCCTAACTCGAG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3333cc"/>
                  </a:solidFill>
                  <a:latin typeface="Courier New"/>
                  <a:ea typeface="Arial"/>
                </a:rPr>
                <a:t>       </a:t>
              </a:r>
              <a:r>
                <a:rPr b="0" lang="en-US" sz="800" spc="-1" strike="noStrike">
                  <a:solidFill>
                    <a:srgbClr val="3333cc"/>
                  </a:solidFill>
                  <a:latin typeface="Courier New"/>
                  <a:ea typeface="Arial"/>
                </a:rPr>
                <a:t>GGCGACCATTGGCAAATGATGTTCTTTATGTTTTAGCAATAGCAAATA</a:t>
              </a:r>
              <a:r>
                <a:rPr b="0" lang="en-US" sz="800" spc="-1" strike="noStrike">
                  <a:solidFill>
                    <a:srgbClr val="ff9900"/>
                  </a:solidFill>
                  <a:latin typeface="Courier New"/>
                  <a:ea typeface="Arial"/>
                </a:rPr>
                <a:t>CTTGACAGAGTCCTGCAAGCGTGGTTTCTTTTTTAGTTCAAGTT     </a:t>
              </a:r>
              <a:r>
                <a:rPr b="0" lang="en-US" sz="800" spc="-1" strike="noStrike">
                  <a:solidFill>
                    <a:srgbClr val="3333cc"/>
                  </a:solidFill>
                  <a:latin typeface="Courier New"/>
                  <a:ea typeface="Arial"/>
                </a:rPr>
                <a:t>CGTAGTTGAGGATTGAGCTCGCCT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rebuchet MS"/>
              </a:rPr>
              <a:t>SIRV-1: hjc one-step PCA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685800" y="1219320"/>
            <a:ext cx="457200" cy="0"/>
          </a:xfrm>
          <a:prstGeom prst="line">
            <a:avLst/>
          </a:prstGeom>
          <a:ln w="158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685800" y="1357200"/>
            <a:ext cx="990720" cy="0"/>
          </a:xfrm>
          <a:prstGeom prst="line">
            <a:avLst/>
          </a:prstGeom>
          <a:ln w="15840">
            <a:solidFill>
              <a:srgbClr val="ff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143000" y="1219320"/>
            <a:ext cx="990720" cy="0"/>
          </a:xfrm>
          <a:prstGeom prst="line">
            <a:avLst/>
          </a:prstGeom>
          <a:ln w="15840">
            <a:solidFill>
              <a:srgbClr val="ff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2152800" y="1219320"/>
            <a:ext cx="990360" cy="0"/>
          </a:xfrm>
          <a:prstGeom prst="line">
            <a:avLst/>
          </a:prstGeom>
          <a:ln w="15840">
            <a:solidFill>
              <a:srgbClr val="ff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3181320" y="1219320"/>
            <a:ext cx="990720" cy="0"/>
          </a:xfrm>
          <a:prstGeom prst="line">
            <a:avLst/>
          </a:prstGeom>
          <a:ln w="15840">
            <a:solidFill>
              <a:srgbClr val="ff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4181400" y="1219320"/>
            <a:ext cx="990720" cy="0"/>
          </a:xfrm>
          <a:prstGeom prst="line">
            <a:avLst/>
          </a:prstGeom>
          <a:ln w="15840">
            <a:solidFill>
              <a:srgbClr val="ff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5229360" y="1219320"/>
            <a:ext cx="990360" cy="0"/>
          </a:xfrm>
          <a:prstGeom prst="line">
            <a:avLst/>
          </a:prstGeom>
          <a:ln w="15840">
            <a:solidFill>
              <a:srgbClr val="ff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6248520" y="1219320"/>
            <a:ext cx="990360" cy="0"/>
          </a:xfrm>
          <a:prstGeom prst="line">
            <a:avLst/>
          </a:prstGeom>
          <a:ln w="15840">
            <a:solidFill>
              <a:srgbClr val="ff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7315200" y="1219320"/>
            <a:ext cx="990720" cy="0"/>
          </a:xfrm>
          <a:prstGeom prst="line">
            <a:avLst/>
          </a:prstGeom>
          <a:ln w="15840">
            <a:solidFill>
              <a:srgbClr val="ff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>
            <a:off x="1714320" y="1357200"/>
            <a:ext cx="990360" cy="0"/>
          </a:xfrm>
          <a:prstGeom prst="line">
            <a:avLst/>
          </a:prstGeom>
          <a:ln w="15840">
            <a:solidFill>
              <a:srgbClr val="ff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>
            <a:off x="2733480" y="1357200"/>
            <a:ext cx="990360" cy="0"/>
          </a:xfrm>
          <a:prstGeom prst="line">
            <a:avLst/>
          </a:prstGeom>
          <a:ln w="15840">
            <a:solidFill>
              <a:srgbClr val="ff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3762360" y="1357200"/>
            <a:ext cx="990720" cy="0"/>
          </a:xfrm>
          <a:prstGeom prst="line">
            <a:avLst/>
          </a:prstGeom>
          <a:ln w="15840">
            <a:solidFill>
              <a:srgbClr val="ff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 flipH="1">
            <a:off x="4790880" y="1357200"/>
            <a:ext cx="990360" cy="0"/>
          </a:xfrm>
          <a:prstGeom prst="line">
            <a:avLst/>
          </a:prstGeom>
          <a:ln w="15840">
            <a:solidFill>
              <a:srgbClr val="ff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5838840" y="1357200"/>
            <a:ext cx="990720" cy="0"/>
          </a:xfrm>
          <a:prstGeom prst="line">
            <a:avLst/>
          </a:prstGeom>
          <a:ln w="15840">
            <a:solidFill>
              <a:srgbClr val="ff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 flipH="1">
            <a:off x="6877080" y="1357200"/>
            <a:ext cx="990720" cy="0"/>
          </a:xfrm>
          <a:prstGeom prst="line">
            <a:avLst/>
          </a:prstGeom>
          <a:ln w="15840">
            <a:solidFill>
              <a:srgbClr val="ff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flipH="1">
            <a:off x="7848720" y="1357200"/>
            <a:ext cx="457200" cy="0"/>
          </a:xfrm>
          <a:prstGeom prst="line">
            <a:avLst/>
          </a:prstGeom>
          <a:ln w="158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4" name=""/>
          <p:cNvGrpSpPr/>
          <p:nvPr/>
        </p:nvGrpSpPr>
        <p:grpSpPr>
          <a:xfrm>
            <a:off x="685800" y="6253200"/>
            <a:ext cx="7620120" cy="228600"/>
            <a:chOff x="685800" y="6253200"/>
            <a:chExt cx="7620120" cy="228600"/>
          </a:xfrm>
        </p:grpSpPr>
        <p:sp>
          <p:nvSpPr>
            <p:cNvPr id="505" name=""/>
            <p:cNvSpPr/>
            <p:nvPr/>
          </p:nvSpPr>
          <p:spPr>
            <a:xfrm>
              <a:off x="685800" y="6253200"/>
              <a:ext cx="457200" cy="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 flipH="1">
              <a:off x="7848720" y="6481800"/>
              <a:ext cx="457200" cy="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7" name=""/>
          <p:cNvSpPr/>
          <p:nvPr/>
        </p:nvSpPr>
        <p:spPr>
          <a:xfrm>
            <a:off x="765000" y="990720"/>
            <a:ext cx="250920" cy="2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rebuchet MS"/>
              </a:rPr>
              <a:t>t</a:t>
            </a:r>
            <a:r>
              <a:rPr b="0" lang="en-US" sz="800" spc="-1" strike="noStrike" baseline="-25000">
                <a:solidFill>
                  <a:srgbClr val="000000"/>
                </a:solidFill>
                <a:latin typeface="Trebuchet MS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8" name=""/>
          <p:cNvGrpSpPr/>
          <p:nvPr/>
        </p:nvGrpSpPr>
        <p:grpSpPr>
          <a:xfrm>
            <a:off x="1142640" y="2747880"/>
            <a:ext cx="6706080" cy="571680"/>
            <a:chOff x="1142640" y="2747880"/>
            <a:chExt cx="6706080" cy="571680"/>
          </a:xfrm>
        </p:grpSpPr>
        <p:sp>
          <p:nvSpPr>
            <p:cNvPr id="509" name=""/>
            <p:cNvSpPr/>
            <p:nvPr/>
          </p:nvSpPr>
          <p:spPr>
            <a:xfrm>
              <a:off x="1143000" y="2747880"/>
              <a:ext cx="2590920" cy="9720"/>
            </a:xfrm>
            <a:prstGeom prst="line">
              <a:avLst/>
            </a:prstGeom>
            <a:ln w="1584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 flipH="1">
              <a:off x="1142640" y="2833560"/>
              <a:ext cx="2590920" cy="0"/>
            </a:xfrm>
            <a:prstGeom prst="line">
              <a:avLst/>
            </a:prstGeom>
            <a:ln w="1584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5257800" y="2747880"/>
              <a:ext cx="2590920" cy="9720"/>
            </a:xfrm>
            <a:prstGeom prst="line">
              <a:avLst/>
            </a:prstGeom>
            <a:ln w="1584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 flipH="1">
              <a:off x="5257440" y="2833560"/>
              <a:ext cx="2590920" cy="0"/>
            </a:xfrm>
            <a:prstGeom prst="line">
              <a:avLst/>
            </a:prstGeom>
            <a:ln w="1584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2133720" y="2909880"/>
              <a:ext cx="2666880" cy="9360"/>
            </a:xfrm>
            <a:prstGeom prst="line">
              <a:avLst/>
            </a:prstGeom>
            <a:ln w="1584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 flipH="1">
              <a:off x="2133720" y="2995560"/>
              <a:ext cx="2666880" cy="0"/>
            </a:xfrm>
            <a:prstGeom prst="line">
              <a:avLst/>
            </a:prstGeom>
            <a:ln w="1584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200400" y="3071880"/>
              <a:ext cx="2590920" cy="9360"/>
            </a:xfrm>
            <a:prstGeom prst="line">
              <a:avLst/>
            </a:prstGeom>
            <a:ln w="1584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 flipH="1">
              <a:off x="3200040" y="3157560"/>
              <a:ext cx="2590920" cy="0"/>
            </a:xfrm>
            <a:prstGeom prst="line">
              <a:avLst/>
            </a:prstGeom>
            <a:ln w="1584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4191120" y="3233880"/>
              <a:ext cx="2666880" cy="9360"/>
            </a:xfrm>
            <a:prstGeom prst="line">
              <a:avLst/>
            </a:prstGeom>
            <a:ln w="1584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 flipH="1">
              <a:off x="4191120" y="3319560"/>
              <a:ext cx="2666880" cy="0"/>
            </a:xfrm>
            <a:prstGeom prst="line">
              <a:avLst/>
            </a:prstGeom>
            <a:ln w="1584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6248520" y="2900520"/>
              <a:ext cx="18396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0" name=""/>
          <p:cNvSpPr/>
          <p:nvPr/>
        </p:nvSpPr>
        <p:spPr>
          <a:xfrm>
            <a:off x="1460520" y="990720"/>
            <a:ext cx="250920" cy="2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rebuchet MS"/>
              </a:rPr>
              <a:t>t</a:t>
            </a:r>
            <a:r>
              <a:rPr b="0" lang="en-US" sz="800" spc="-1" strike="noStrike" baseline="-25000">
                <a:solidFill>
                  <a:srgbClr val="000000"/>
                </a:solidFill>
                <a:latin typeface="Trebuchet MS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450880" y="990720"/>
            <a:ext cx="250920" cy="2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rebuchet MS"/>
              </a:rPr>
              <a:t>t</a:t>
            </a:r>
            <a:r>
              <a:rPr b="0" lang="en-US" sz="800" spc="-1" strike="noStrike" baseline="-25000">
                <a:solidFill>
                  <a:srgbClr val="000000"/>
                </a:solidFill>
                <a:latin typeface="Trebuchet MS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3527280" y="990720"/>
            <a:ext cx="250920" cy="2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rebuchet MS"/>
              </a:rPr>
              <a:t>t</a:t>
            </a:r>
            <a:r>
              <a:rPr b="0" lang="en-US" sz="800" spc="-1" strike="noStrike" baseline="-25000">
                <a:solidFill>
                  <a:srgbClr val="000000"/>
                </a:solidFill>
                <a:latin typeface="Trebuchet MS"/>
              </a:rPr>
              <a:t>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4479840" y="990720"/>
            <a:ext cx="250920" cy="2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rebuchet MS"/>
              </a:rPr>
              <a:t>t</a:t>
            </a:r>
            <a:r>
              <a:rPr b="0" lang="en-US" sz="800" spc="-1" strike="noStrike" baseline="-25000">
                <a:solidFill>
                  <a:srgbClr val="000000"/>
                </a:solidFill>
                <a:latin typeface="Trebuchet MS"/>
              </a:rPr>
              <a:t>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5555880" y="990720"/>
            <a:ext cx="284400" cy="2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rebuchet MS"/>
              </a:rPr>
              <a:t>t</a:t>
            </a:r>
            <a:r>
              <a:rPr b="0" lang="en-US" sz="800" spc="-1" strike="noStrike" baseline="-25000">
                <a:solidFill>
                  <a:srgbClr val="000000"/>
                </a:solidFill>
                <a:latin typeface="Trebuchet MS"/>
              </a:rPr>
              <a:t>1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6546600" y="990720"/>
            <a:ext cx="284400" cy="2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rebuchet MS"/>
              </a:rPr>
              <a:t>t</a:t>
            </a:r>
            <a:r>
              <a:rPr b="0" lang="en-US" sz="800" spc="-1" strike="noStrike" baseline="-25000">
                <a:solidFill>
                  <a:srgbClr val="000000"/>
                </a:solidFill>
                <a:latin typeface="Trebuchet MS"/>
              </a:rPr>
              <a:t>1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7632360" y="990720"/>
            <a:ext cx="284400" cy="2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rebuchet MS"/>
              </a:rPr>
              <a:t>t</a:t>
            </a:r>
            <a:r>
              <a:rPr b="0" lang="en-US" sz="800" spc="-1" strike="noStrike" baseline="-25000">
                <a:solidFill>
                  <a:srgbClr val="000000"/>
                </a:solidFill>
                <a:latin typeface="Trebuchet MS"/>
              </a:rPr>
              <a:t>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7" name=""/>
          <p:cNvGrpSpPr/>
          <p:nvPr/>
        </p:nvGrpSpPr>
        <p:grpSpPr>
          <a:xfrm>
            <a:off x="685440" y="6054840"/>
            <a:ext cx="7620480" cy="350640"/>
            <a:chOff x="685440" y="6054840"/>
            <a:chExt cx="7620480" cy="350640"/>
          </a:xfrm>
        </p:grpSpPr>
        <p:sp>
          <p:nvSpPr>
            <p:cNvPr id="528" name=""/>
            <p:cNvSpPr/>
            <p:nvPr/>
          </p:nvSpPr>
          <p:spPr>
            <a:xfrm>
              <a:off x="685800" y="6324480"/>
              <a:ext cx="7620120" cy="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 flipH="1">
              <a:off x="685440" y="6400800"/>
              <a:ext cx="7620120" cy="46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4267800" y="6054840"/>
              <a:ext cx="672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rebuchet MS"/>
                </a:rPr>
                <a:t>390 b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1" name=""/>
          <p:cNvGrpSpPr/>
          <p:nvPr/>
        </p:nvGrpSpPr>
        <p:grpSpPr>
          <a:xfrm>
            <a:off x="685800" y="4606920"/>
            <a:ext cx="7696080" cy="493560"/>
            <a:chOff x="685800" y="4606920"/>
            <a:chExt cx="7696080" cy="493560"/>
          </a:xfrm>
        </p:grpSpPr>
        <p:sp>
          <p:nvSpPr>
            <p:cNvPr id="532" name=""/>
            <p:cNvSpPr/>
            <p:nvPr/>
          </p:nvSpPr>
          <p:spPr>
            <a:xfrm>
              <a:off x="685800" y="4876920"/>
              <a:ext cx="4114800" cy="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 flipH="1">
              <a:off x="685800" y="4952880"/>
              <a:ext cx="4114800" cy="972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 flipH="1">
              <a:off x="4266720" y="5091120"/>
              <a:ext cx="4038840" cy="936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4267080" y="5024520"/>
              <a:ext cx="4114800" cy="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2335320" y="4606920"/>
              <a:ext cx="183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7" name=""/>
          <p:cNvGrpSpPr/>
          <p:nvPr/>
        </p:nvGrpSpPr>
        <p:grpSpPr>
          <a:xfrm>
            <a:off x="1143000" y="3747960"/>
            <a:ext cx="6705720" cy="847800"/>
            <a:chOff x="1143000" y="3747960"/>
            <a:chExt cx="6705720" cy="847800"/>
          </a:xfrm>
        </p:grpSpPr>
        <p:sp>
          <p:nvSpPr>
            <p:cNvPr id="538" name=""/>
            <p:cNvSpPr/>
            <p:nvPr/>
          </p:nvSpPr>
          <p:spPr>
            <a:xfrm>
              <a:off x="1143000" y="3747960"/>
              <a:ext cx="3657600" cy="0"/>
            </a:xfrm>
            <a:prstGeom prst="line">
              <a:avLst/>
            </a:prstGeom>
            <a:ln w="1584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 flipH="1">
              <a:off x="1143000" y="3824280"/>
              <a:ext cx="3657600" cy="9360"/>
            </a:xfrm>
            <a:prstGeom prst="line">
              <a:avLst/>
            </a:prstGeom>
            <a:ln w="1584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4191120" y="3900600"/>
              <a:ext cx="3657600" cy="0"/>
            </a:xfrm>
            <a:prstGeom prst="line">
              <a:avLst/>
            </a:prstGeom>
            <a:ln w="1584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 flipH="1">
              <a:off x="4191120" y="3976560"/>
              <a:ext cx="3657600" cy="0"/>
            </a:xfrm>
            <a:prstGeom prst="line">
              <a:avLst/>
            </a:prstGeom>
            <a:ln w="1584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2133720" y="4052880"/>
              <a:ext cx="3657600" cy="0"/>
            </a:xfrm>
            <a:prstGeom prst="line">
              <a:avLst/>
            </a:prstGeom>
            <a:ln w="1584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 flipH="1">
              <a:off x="2133720" y="4129200"/>
              <a:ext cx="3657600" cy="9360"/>
            </a:xfrm>
            <a:prstGeom prst="line">
              <a:avLst/>
            </a:prstGeom>
            <a:ln w="1584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2133720" y="4214880"/>
              <a:ext cx="4724280" cy="0"/>
            </a:xfrm>
            <a:prstGeom prst="line">
              <a:avLst/>
            </a:prstGeom>
            <a:ln w="1584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 flipH="1">
              <a:off x="2133360" y="4290840"/>
              <a:ext cx="4724280" cy="9720"/>
            </a:xfrm>
            <a:prstGeom prst="line">
              <a:avLst/>
            </a:prstGeom>
            <a:ln w="1584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3200400" y="4357800"/>
              <a:ext cx="3657600" cy="9360"/>
            </a:xfrm>
            <a:prstGeom prst="line">
              <a:avLst/>
            </a:prstGeom>
            <a:ln w="1584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 flipH="1">
              <a:off x="3200400" y="4443480"/>
              <a:ext cx="3657600" cy="0"/>
            </a:xfrm>
            <a:prstGeom prst="line">
              <a:avLst/>
            </a:prstGeom>
            <a:ln w="1584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200400" y="4510080"/>
              <a:ext cx="4648320" cy="9360"/>
            </a:xfrm>
            <a:prstGeom prst="line">
              <a:avLst/>
            </a:prstGeom>
            <a:ln w="1584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 flipH="1">
              <a:off x="3200400" y="4595760"/>
              <a:ext cx="4648320" cy="0"/>
            </a:xfrm>
            <a:prstGeom prst="line">
              <a:avLst/>
            </a:prstGeom>
            <a:ln w="1584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7086600" y="4119480"/>
              <a:ext cx="184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1" name=""/>
          <p:cNvSpPr/>
          <p:nvPr/>
        </p:nvSpPr>
        <p:spPr>
          <a:xfrm>
            <a:off x="1113480" y="1357200"/>
            <a:ext cx="276840" cy="2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rebuchet MS"/>
              </a:rPr>
              <a:t>b</a:t>
            </a:r>
            <a:r>
              <a:rPr b="0" lang="en-US" sz="800" spc="-1" strike="noStrike" baseline="-25000">
                <a:solidFill>
                  <a:srgbClr val="000000"/>
                </a:solidFill>
                <a:latin typeface="Trebuchet MS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2180160" y="1357200"/>
            <a:ext cx="276840" cy="2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rebuchet MS"/>
              </a:rPr>
              <a:t>b</a:t>
            </a:r>
            <a:r>
              <a:rPr b="0" lang="en-US" sz="800" spc="-1" strike="noStrike" baseline="-25000">
                <a:solidFill>
                  <a:srgbClr val="000000"/>
                </a:solidFill>
                <a:latin typeface="Trebuchet MS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3170880" y="1357200"/>
            <a:ext cx="276840" cy="2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rebuchet MS"/>
              </a:rPr>
              <a:t>b</a:t>
            </a:r>
            <a:r>
              <a:rPr b="0" lang="en-US" sz="800" spc="-1" strike="noStrike" baseline="-25000">
                <a:solidFill>
                  <a:srgbClr val="000000"/>
                </a:solidFill>
                <a:latin typeface="Trebuchet MS"/>
              </a:rPr>
              <a:t>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4190040" y="1357200"/>
            <a:ext cx="276840" cy="2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rebuchet MS"/>
              </a:rPr>
              <a:t>b</a:t>
            </a:r>
            <a:r>
              <a:rPr b="0" lang="en-US" sz="800" spc="-1" strike="noStrike" baseline="-25000">
                <a:solidFill>
                  <a:srgbClr val="000000"/>
                </a:solidFill>
                <a:latin typeface="Trebuchet MS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5228280" y="1357200"/>
            <a:ext cx="310320" cy="2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rebuchet MS"/>
              </a:rPr>
              <a:t>b</a:t>
            </a:r>
            <a:r>
              <a:rPr b="0" lang="en-US" sz="800" spc="-1" strike="noStrike" baseline="-25000">
                <a:solidFill>
                  <a:srgbClr val="000000"/>
                </a:solidFill>
                <a:latin typeface="Trebuchet MS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6261480" y="1357200"/>
            <a:ext cx="310320" cy="2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rebuchet MS"/>
              </a:rPr>
              <a:t>b</a:t>
            </a:r>
            <a:r>
              <a:rPr b="0" lang="en-US" sz="800" spc="-1" strike="noStrike" baseline="-25000">
                <a:solidFill>
                  <a:srgbClr val="000000"/>
                </a:solidFill>
                <a:latin typeface="Trebuchet MS"/>
              </a:rPr>
              <a:t>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7328520" y="1357200"/>
            <a:ext cx="310320" cy="2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rebuchet MS"/>
              </a:rPr>
              <a:t>b</a:t>
            </a:r>
            <a:r>
              <a:rPr b="0" lang="en-US" sz="800" spc="-1" strike="noStrike" baseline="-25000">
                <a:solidFill>
                  <a:srgbClr val="000000"/>
                </a:solidFill>
                <a:latin typeface="Trebuchet MS"/>
              </a:rPr>
              <a:t>1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8014320" y="1371600"/>
            <a:ext cx="310320" cy="2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rebuchet MS"/>
              </a:rPr>
              <a:t>b</a:t>
            </a:r>
            <a:r>
              <a:rPr b="0" lang="en-US" sz="800" spc="-1" strike="noStrike" baseline="-25000">
                <a:solidFill>
                  <a:srgbClr val="000000"/>
                </a:solidFill>
                <a:latin typeface="Trebuchet MS"/>
              </a:rPr>
              <a:t>1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9" name=""/>
          <p:cNvGrpSpPr/>
          <p:nvPr/>
        </p:nvGrpSpPr>
        <p:grpSpPr>
          <a:xfrm>
            <a:off x="1142640" y="5176800"/>
            <a:ext cx="6706080" cy="695520"/>
            <a:chOff x="1142640" y="5176800"/>
            <a:chExt cx="6706080" cy="695520"/>
          </a:xfrm>
        </p:grpSpPr>
        <p:sp>
          <p:nvSpPr>
            <p:cNvPr id="560" name=""/>
            <p:cNvSpPr/>
            <p:nvPr/>
          </p:nvSpPr>
          <p:spPr>
            <a:xfrm flipV="1">
              <a:off x="1143000" y="5481360"/>
              <a:ext cx="6705720" cy="4680"/>
            </a:xfrm>
            <a:prstGeom prst="line">
              <a:avLst/>
            </a:prstGeom>
            <a:ln w="1584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 flipH="1">
              <a:off x="1142640" y="5557680"/>
              <a:ext cx="6705720" cy="5040"/>
            </a:xfrm>
            <a:prstGeom prst="line">
              <a:avLst/>
            </a:prstGeom>
            <a:ln w="1584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143000" y="5176800"/>
              <a:ext cx="4648320" cy="0"/>
            </a:xfrm>
            <a:prstGeom prst="line">
              <a:avLst/>
            </a:prstGeom>
            <a:ln w="1584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 flipH="1">
              <a:off x="1143000" y="5253120"/>
              <a:ext cx="4648320" cy="9360"/>
            </a:xfrm>
            <a:prstGeom prst="line">
              <a:avLst/>
            </a:prstGeom>
            <a:ln w="1584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1143000" y="5329080"/>
              <a:ext cx="5715000" cy="0"/>
            </a:xfrm>
            <a:prstGeom prst="line">
              <a:avLst/>
            </a:prstGeom>
            <a:ln w="1584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 flipH="1">
              <a:off x="1142640" y="5405400"/>
              <a:ext cx="5715000" cy="9720"/>
            </a:xfrm>
            <a:prstGeom prst="line">
              <a:avLst/>
            </a:prstGeom>
            <a:ln w="1584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2133720" y="5634000"/>
              <a:ext cx="5715000" cy="0"/>
            </a:xfrm>
            <a:prstGeom prst="line">
              <a:avLst/>
            </a:prstGeom>
            <a:ln w="1584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 flipH="1">
              <a:off x="2133360" y="5710320"/>
              <a:ext cx="5715000" cy="0"/>
            </a:xfrm>
            <a:prstGeom prst="line">
              <a:avLst/>
            </a:prstGeom>
            <a:ln w="1584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200400" y="5786280"/>
              <a:ext cx="4648320" cy="0"/>
            </a:xfrm>
            <a:prstGeom prst="line">
              <a:avLst/>
            </a:prstGeom>
            <a:ln w="1584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 flipH="1">
              <a:off x="3200400" y="5862600"/>
              <a:ext cx="4648320" cy="9720"/>
            </a:xfrm>
            <a:prstGeom prst="line">
              <a:avLst/>
            </a:prstGeom>
            <a:ln w="1584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6858000" y="5181480"/>
              <a:ext cx="184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1" name=""/>
          <p:cNvGrpSpPr/>
          <p:nvPr/>
        </p:nvGrpSpPr>
        <p:grpSpPr>
          <a:xfrm>
            <a:off x="685440" y="3311640"/>
            <a:ext cx="7620480" cy="360360"/>
            <a:chOff x="685440" y="3311640"/>
            <a:chExt cx="7620480" cy="360360"/>
          </a:xfrm>
        </p:grpSpPr>
        <p:sp>
          <p:nvSpPr>
            <p:cNvPr id="572" name=""/>
            <p:cNvSpPr/>
            <p:nvPr/>
          </p:nvSpPr>
          <p:spPr>
            <a:xfrm>
              <a:off x="1828800" y="3311640"/>
              <a:ext cx="184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73" name=""/>
            <p:cNvGrpSpPr/>
            <p:nvPr/>
          </p:nvGrpSpPr>
          <p:grpSpPr>
            <a:xfrm>
              <a:off x="685440" y="3586320"/>
              <a:ext cx="7620480" cy="85680"/>
              <a:chOff x="685440" y="3586320"/>
              <a:chExt cx="7620480" cy="85680"/>
            </a:xfrm>
          </p:grpSpPr>
          <p:sp>
            <p:nvSpPr>
              <p:cNvPr id="574" name=""/>
              <p:cNvSpPr/>
              <p:nvPr/>
            </p:nvSpPr>
            <p:spPr>
              <a:xfrm flipH="1">
                <a:off x="685440" y="3672000"/>
                <a:ext cx="3048120" cy="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685800" y="3586320"/>
                <a:ext cx="3048120" cy="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5257800" y="3586320"/>
                <a:ext cx="3048120" cy="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 flipH="1">
                <a:off x="5257440" y="3657600"/>
                <a:ext cx="3048120" cy="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78" name=""/>
          <p:cNvGrpSpPr/>
          <p:nvPr/>
        </p:nvGrpSpPr>
        <p:grpSpPr>
          <a:xfrm>
            <a:off x="1142640" y="1204920"/>
            <a:ext cx="6715440" cy="1219320"/>
            <a:chOff x="1142640" y="1204920"/>
            <a:chExt cx="6715440" cy="1219320"/>
          </a:xfrm>
        </p:grpSpPr>
        <p:grpSp>
          <p:nvGrpSpPr>
            <p:cNvPr id="579" name=""/>
            <p:cNvGrpSpPr/>
            <p:nvPr/>
          </p:nvGrpSpPr>
          <p:grpSpPr>
            <a:xfrm>
              <a:off x="1142640" y="1204920"/>
              <a:ext cx="6715440" cy="1219320"/>
              <a:chOff x="1142640" y="1204920"/>
              <a:chExt cx="6715440" cy="1219320"/>
            </a:xfrm>
          </p:grpSpPr>
          <p:sp>
            <p:nvSpPr>
              <p:cNvPr id="580" name=""/>
              <p:cNvSpPr/>
              <p:nvPr/>
            </p:nvSpPr>
            <p:spPr>
              <a:xfrm>
                <a:off x="1143000" y="1833480"/>
                <a:ext cx="1600200" cy="9720"/>
              </a:xfrm>
              <a:prstGeom prst="line">
                <a:avLst/>
              </a:prstGeom>
              <a:ln w="15840">
                <a:solidFill>
                  <a:srgbClr val="ffcc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1143000" y="1204920"/>
                <a:ext cx="0" cy="76212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 flipH="1">
                <a:off x="1142640" y="1919160"/>
                <a:ext cx="1600200" cy="0"/>
              </a:xfrm>
              <a:prstGeom prst="line">
                <a:avLst/>
              </a:prstGeom>
              <a:ln w="15840">
                <a:solidFill>
                  <a:srgbClr val="ffcc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2133720" y="2004840"/>
                <a:ext cx="1600200" cy="9720"/>
              </a:xfrm>
              <a:prstGeom prst="line">
                <a:avLst/>
              </a:prstGeom>
              <a:ln w="15840">
                <a:solidFill>
                  <a:srgbClr val="ffcc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2133720" y="1204920"/>
                <a:ext cx="0" cy="914400"/>
              </a:xfrm>
              <a:prstGeom prst="line">
                <a:avLst/>
              </a:prstGeom>
              <a:ln w="9360">
                <a:solidFill>
                  <a:srgbClr val="cccc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 flipH="1">
                <a:off x="2133360" y="2090880"/>
                <a:ext cx="1600200" cy="0"/>
              </a:xfrm>
              <a:prstGeom prst="line">
                <a:avLst/>
              </a:prstGeom>
              <a:ln w="15840">
                <a:solidFill>
                  <a:srgbClr val="ffcc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3733920" y="1357200"/>
                <a:ext cx="0" cy="762120"/>
              </a:xfrm>
              <a:prstGeom prst="line">
                <a:avLst/>
              </a:prstGeom>
              <a:ln w="9360">
                <a:solidFill>
                  <a:srgbClr val="cccc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2743200" y="135720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3200400" y="2157480"/>
                <a:ext cx="1600200" cy="9360"/>
              </a:xfrm>
              <a:prstGeom prst="line">
                <a:avLst/>
              </a:prstGeom>
              <a:ln w="15840">
                <a:solidFill>
                  <a:srgbClr val="ffcc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3200400" y="1204920"/>
                <a:ext cx="0" cy="106668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flipH="1">
                <a:off x="3200040" y="2243160"/>
                <a:ext cx="1600200" cy="0"/>
              </a:xfrm>
              <a:prstGeom prst="line">
                <a:avLst/>
              </a:prstGeom>
              <a:ln w="15840">
                <a:solidFill>
                  <a:srgbClr val="ffcc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6257880" y="1833480"/>
                <a:ext cx="1600200" cy="9720"/>
              </a:xfrm>
              <a:prstGeom prst="line">
                <a:avLst/>
              </a:prstGeom>
              <a:ln w="15840">
                <a:solidFill>
                  <a:srgbClr val="ffcc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flipH="1">
                <a:off x="6257520" y="1919160"/>
                <a:ext cx="1600200" cy="0"/>
              </a:xfrm>
              <a:prstGeom prst="line">
                <a:avLst/>
              </a:prstGeom>
              <a:ln w="15840">
                <a:solidFill>
                  <a:srgbClr val="ffcc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5238720" y="2004840"/>
                <a:ext cx="1600200" cy="9720"/>
              </a:xfrm>
              <a:prstGeom prst="line">
                <a:avLst/>
              </a:prstGeom>
              <a:ln w="15840">
                <a:solidFill>
                  <a:srgbClr val="ffcc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flipH="1">
                <a:off x="5238360" y="2090880"/>
                <a:ext cx="1600200" cy="0"/>
              </a:xfrm>
              <a:prstGeom prst="line">
                <a:avLst/>
              </a:prstGeom>
              <a:ln w="15840">
                <a:solidFill>
                  <a:srgbClr val="ffcc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4191120" y="2290680"/>
                <a:ext cx="1600200" cy="9720"/>
              </a:xfrm>
              <a:prstGeom prst="line">
                <a:avLst/>
              </a:prstGeom>
              <a:ln w="15840">
                <a:solidFill>
                  <a:srgbClr val="ffcc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4191120" y="1204920"/>
                <a:ext cx="0" cy="1219320"/>
              </a:xfrm>
              <a:prstGeom prst="line">
                <a:avLst/>
              </a:prstGeom>
              <a:ln w="9360">
                <a:solidFill>
                  <a:srgbClr val="cccc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5791320" y="1357200"/>
                <a:ext cx="0" cy="1067040"/>
              </a:xfrm>
              <a:prstGeom prst="line">
                <a:avLst/>
              </a:prstGeom>
              <a:ln w="9360">
                <a:solidFill>
                  <a:srgbClr val="cccc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5257800" y="1204920"/>
                <a:ext cx="0" cy="91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6858000" y="1357200"/>
                <a:ext cx="0" cy="76212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6248520" y="1204920"/>
                <a:ext cx="0" cy="762120"/>
              </a:xfrm>
              <a:prstGeom prst="line">
                <a:avLst/>
              </a:prstGeom>
              <a:ln w="9360">
                <a:solidFill>
                  <a:srgbClr val="cccc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7848720" y="1357200"/>
                <a:ext cx="0" cy="533520"/>
              </a:xfrm>
              <a:prstGeom prst="line">
                <a:avLst/>
              </a:prstGeom>
              <a:ln w="9360">
                <a:solidFill>
                  <a:srgbClr val="cccc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4800600" y="1357200"/>
                <a:ext cx="0" cy="91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6930720" y="2016000"/>
                <a:ext cx="5832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rebuchet MS"/>
                  </a:rPr>
                  <a:t>73 b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4" name=""/>
            <p:cNvSpPr/>
            <p:nvPr/>
          </p:nvSpPr>
          <p:spPr>
            <a:xfrm flipH="1">
              <a:off x="4190760" y="2362320"/>
              <a:ext cx="1600200" cy="0"/>
            </a:xfrm>
            <a:prstGeom prst="line">
              <a:avLst/>
            </a:prstGeom>
            <a:ln w="1584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5" name=""/>
          <p:cNvGrpSpPr/>
          <p:nvPr/>
        </p:nvGrpSpPr>
        <p:grpSpPr>
          <a:xfrm>
            <a:off x="609120" y="2320920"/>
            <a:ext cx="7696800" cy="331920"/>
            <a:chOff x="609120" y="2320920"/>
            <a:chExt cx="7696800" cy="331920"/>
          </a:xfrm>
        </p:grpSpPr>
        <p:sp>
          <p:nvSpPr>
            <p:cNvPr id="606" name=""/>
            <p:cNvSpPr/>
            <p:nvPr/>
          </p:nvSpPr>
          <p:spPr>
            <a:xfrm>
              <a:off x="1355040" y="2320920"/>
              <a:ext cx="669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rebuchet MS"/>
                </a:rPr>
                <a:t>108 b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685800" y="2581200"/>
              <a:ext cx="2057400" cy="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6248520" y="2581200"/>
              <a:ext cx="2057400" cy="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 flipH="1">
              <a:off x="6248160" y="2652840"/>
              <a:ext cx="2057400" cy="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 flipH="1">
              <a:off x="609120" y="2652840"/>
              <a:ext cx="2057400" cy="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1" name=""/>
          <p:cNvGrpSpPr/>
          <p:nvPr/>
        </p:nvGrpSpPr>
        <p:grpSpPr>
          <a:xfrm>
            <a:off x="596520" y="1204920"/>
            <a:ext cx="7709400" cy="962280"/>
            <a:chOff x="596520" y="1204920"/>
            <a:chExt cx="7709400" cy="962280"/>
          </a:xfrm>
        </p:grpSpPr>
        <p:sp>
          <p:nvSpPr>
            <p:cNvPr id="612" name=""/>
            <p:cNvSpPr/>
            <p:nvPr/>
          </p:nvSpPr>
          <p:spPr>
            <a:xfrm>
              <a:off x="596520" y="1890720"/>
              <a:ext cx="583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rebuchet MS"/>
                </a:rPr>
                <a:t>50 b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3" name=""/>
            <p:cNvGrpSpPr/>
            <p:nvPr/>
          </p:nvGrpSpPr>
          <p:grpSpPr>
            <a:xfrm>
              <a:off x="685800" y="1204920"/>
              <a:ext cx="7620120" cy="623520"/>
              <a:chOff x="685800" y="1204920"/>
              <a:chExt cx="7620120" cy="623520"/>
            </a:xfrm>
          </p:grpSpPr>
          <p:sp>
            <p:nvSpPr>
              <p:cNvPr id="614" name=""/>
              <p:cNvSpPr/>
              <p:nvPr/>
            </p:nvSpPr>
            <p:spPr>
              <a:xfrm>
                <a:off x="685800" y="1676520"/>
                <a:ext cx="990720" cy="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15" name=""/>
              <p:cNvGrpSpPr/>
              <p:nvPr/>
            </p:nvGrpSpPr>
            <p:grpSpPr>
              <a:xfrm>
                <a:off x="685800" y="1204920"/>
                <a:ext cx="990720" cy="623520"/>
                <a:chOff x="685800" y="1204920"/>
                <a:chExt cx="990720" cy="623520"/>
              </a:xfrm>
            </p:grpSpPr>
            <p:sp>
              <p:nvSpPr>
                <p:cNvPr id="616" name=""/>
                <p:cNvSpPr/>
                <p:nvPr/>
              </p:nvSpPr>
              <p:spPr>
                <a:xfrm>
                  <a:off x="685800" y="1204920"/>
                  <a:ext cx="0" cy="623520"/>
                </a:xfrm>
                <a:prstGeom prst="line">
                  <a:avLst/>
                </a:prstGeom>
                <a:ln w="9360">
                  <a:solidFill>
                    <a:srgbClr val="ff66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7" name=""/>
                <p:cNvSpPr/>
                <p:nvPr/>
              </p:nvSpPr>
              <p:spPr>
                <a:xfrm>
                  <a:off x="1676520" y="1383120"/>
                  <a:ext cx="0" cy="445320"/>
                </a:xfrm>
                <a:prstGeom prst="line">
                  <a:avLst/>
                </a:prstGeom>
                <a:ln w="9360">
                  <a:solidFill>
                    <a:srgbClr val="ff66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18" name=""/>
              <p:cNvSpPr/>
              <p:nvPr/>
            </p:nvSpPr>
            <p:spPr>
              <a:xfrm>
                <a:off x="8305920" y="1357200"/>
                <a:ext cx="0" cy="381240"/>
              </a:xfrm>
              <a:prstGeom prst="line">
                <a:avLst/>
              </a:prstGeom>
              <a:ln w="9360">
                <a:solidFill>
                  <a:srgbClr val="ff66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7315200" y="1204920"/>
                <a:ext cx="0" cy="609480"/>
              </a:xfrm>
              <a:prstGeom prst="line">
                <a:avLst/>
              </a:prstGeom>
              <a:ln w="9360">
                <a:solidFill>
                  <a:srgbClr val="ff66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7315200" y="1676520"/>
                <a:ext cx="990720" cy="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flipH="1">
                <a:off x="685800" y="1752480"/>
                <a:ext cx="990720" cy="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flipH="1">
                <a:off x="7315200" y="1752480"/>
                <a:ext cx="990720" cy="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"/>
          <p:cNvSpPr/>
          <p:nvPr/>
        </p:nvSpPr>
        <p:spPr>
          <a:xfrm>
            <a:off x="1807200" y="239760"/>
            <a:ext cx="549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Error Correction for DN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1219320" y="1371600"/>
            <a:ext cx="2001600" cy="533520"/>
            <a:chOff x="1219320" y="1371600"/>
            <a:chExt cx="2001600" cy="533520"/>
          </a:xfrm>
        </p:grpSpPr>
        <p:sp>
          <p:nvSpPr>
            <p:cNvPr id="625" name=""/>
            <p:cNvSpPr/>
            <p:nvPr/>
          </p:nvSpPr>
          <p:spPr>
            <a:xfrm>
              <a:off x="1219320" y="1371600"/>
              <a:ext cx="2001600" cy="533520"/>
            </a:xfrm>
            <a:prstGeom prst="rightArrow">
              <a:avLst>
                <a:gd name="adj1" fmla="val 59093"/>
                <a:gd name="adj2" fmla="val 88859"/>
              </a:avLst>
            </a:prstGeom>
            <a:solidFill>
              <a:srgbClr val="57a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1230120" y="1486080"/>
              <a:ext cx="38052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1611000" y="1486080"/>
              <a:ext cx="3808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1992240" y="1486080"/>
              <a:ext cx="38052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2373120" y="1486080"/>
              <a:ext cx="38052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0" name=""/>
          <p:cNvGrpSpPr/>
          <p:nvPr/>
        </p:nvGrpSpPr>
        <p:grpSpPr>
          <a:xfrm>
            <a:off x="1219320" y="3124080"/>
            <a:ext cx="2001600" cy="533520"/>
            <a:chOff x="1219320" y="3124080"/>
            <a:chExt cx="2001600" cy="533520"/>
          </a:xfrm>
        </p:grpSpPr>
        <p:sp>
          <p:nvSpPr>
            <p:cNvPr id="631" name=""/>
            <p:cNvSpPr/>
            <p:nvPr/>
          </p:nvSpPr>
          <p:spPr>
            <a:xfrm>
              <a:off x="1219320" y="3124080"/>
              <a:ext cx="2001600" cy="533520"/>
            </a:xfrm>
            <a:prstGeom prst="rightArrow">
              <a:avLst>
                <a:gd name="adj1" fmla="val 59093"/>
                <a:gd name="adj2" fmla="val 88859"/>
              </a:avLst>
            </a:prstGeom>
            <a:solidFill>
              <a:srgbClr val="57a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230120" y="3238560"/>
              <a:ext cx="38052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611000" y="3238560"/>
              <a:ext cx="3808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992240" y="3238560"/>
              <a:ext cx="38052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2373120" y="3238560"/>
              <a:ext cx="380520" cy="30456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6" name=""/>
          <p:cNvGrpSpPr/>
          <p:nvPr/>
        </p:nvGrpSpPr>
        <p:grpSpPr>
          <a:xfrm>
            <a:off x="1219320" y="4876920"/>
            <a:ext cx="2001600" cy="533160"/>
            <a:chOff x="1219320" y="4876920"/>
            <a:chExt cx="2001600" cy="533160"/>
          </a:xfrm>
        </p:grpSpPr>
        <p:sp>
          <p:nvSpPr>
            <p:cNvPr id="637" name=""/>
            <p:cNvSpPr/>
            <p:nvPr/>
          </p:nvSpPr>
          <p:spPr>
            <a:xfrm>
              <a:off x="1219320" y="4876920"/>
              <a:ext cx="2001600" cy="533160"/>
            </a:xfrm>
            <a:prstGeom prst="rightArrow">
              <a:avLst>
                <a:gd name="adj1" fmla="val 59093"/>
                <a:gd name="adj2" fmla="val 88919"/>
              </a:avLst>
            </a:prstGeom>
            <a:solidFill>
              <a:srgbClr val="57a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230120" y="4991040"/>
              <a:ext cx="380520" cy="30420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1611000" y="4991040"/>
              <a:ext cx="380880" cy="30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92240" y="4991040"/>
              <a:ext cx="380520" cy="30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2373120" y="4991040"/>
              <a:ext cx="380520" cy="30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2" name=""/>
          <p:cNvGrpSpPr/>
          <p:nvPr/>
        </p:nvGrpSpPr>
        <p:grpSpPr>
          <a:xfrm>
            <a:off x="762120" y="1868400"/>
            <a:ext cx="2001600" cy="4151520"/>
            <a:chOff x="762120" y="1868400"/>
            <a:chExt cx="2001600" cy="4151520"/>
          </a:xfrm>
        </p:grpSpPr>
        <p:grpSp>
          <p:nvGrpSpPr>
            <p:cNvPr id="643" name=""/>
            <p:cNvGrpSpPr/>
            <p:nvPr/>
          </p:nvGrpSpPr>
          <p:grpSpPr>
            <a:xfrm>
              <a:off x="762120" y="1868400"/>
              <a:ext cx="2001600" cy="646200"/>
              <a:chOff x="762120" y="1868400"/>
              <a:chExt cx="2001600" cy="646200"/>
            </a:xfrm>
          </p:grpSpPr>
          <p:grpSp>
            <p:nvGrpSpPr>
              <p:cNvPr id="644" name=""/>
              <p:cNvGrpSpPr/>
              <p:nvPr/>
            </p:nvGrpSpPr>
            <p:grpSpPr>
              <a:xfrm>
                <a:off x="762120" y="1981080"/>
                <a:ext cx="2001600" cy="533520"/>
                <a:chOff x="762120" y="1981080"/>
                <a:chExt cx="2001600" cy="533520"/>
              </a:xfrm>
            </p:grpSpPr>
            <p:sp>
              <p:nvSpPr>
                <p:cNvPr id="645" name=""/>
                <p:cNvSpPr/>
                <p:nvPr/>
              </p:nvSpPr>
              <p:spPr>
                <a:xfrm flipH="1">
                  <a:off x="762120" y="1981080"/>
                  <a:ext cx="2001600" cy="533520"/>
                </a:xfrm>
                <a:prstGeom prst="rightArrow">
                  <a:avLst>
                    <a:gd name="adj1" fmla="val 59093"/>
                    <a:gd name="adj2" fmla="val 88859"/>
                  </a:avLst>
                </a:prstGeom>
                <a:solidFill>
                  <a:srgbClr val="ffb38a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46" name=""/>
                <p:cNvGrpSpPr/>
                <p:nvPr/>
              </p:nvGrpSpPr>
              <p:grpSpPr>
                <a:xfrm>
                  <a:off x="1228320" y="2124000"/>
                  <a:ext cx="1523160" cy="266760"/>
                  <a:chOff x="1228320" y="2124000"/>
                  <a:chExt cx="1523160" cy="266760"/>
                </a:xfrm>
              </p:grpSpPr>
              <p:sp>
                <p:nvSpPr>
                  <p:cNvPr id="647" name=""/>
                  <p:cNvSpPr/>
                  <p:nvPr/>
                </p:nvSpPr>
                <p:spPr>
                  <a:xfrm flipH="1">
                    <a:off x="2370600" y="2124000"/>
                    <a:ext cx="380520" cy="266760"/>
                  </a:xfrm>
                  <a:prstGeom prst="rect">
                    <a:avLst/>
                  </a:prstGeom>
                  <a:solidFill>
                    <a:srgbClr val="ffb38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ahoma"/>
                      </a:rPr>
                      <a:t>C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8" name=""/>
                  <p:cNvSpPr/>
                  <p:nvPr/>
                </p:nvSpPr>
                <p:spPr>
                  <a:xfrm flipH="1">
                    <a:off x="1990080" y="2124000"/>
                    <a:ext cx="380880" cy="266760"/>
                  </a:xfrm>
                  <a:prstGeom prst="rect">
                    <a:avLst/>
                  </a:prstGeom>
                  <a:solidFill>
                    <a:srgbClr val="ffb38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ahoma"/>
                      </a:rPr>
                      <a:t>A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9" name=""/>
                  <p:cNvSpPr/>
                  <p:nvPr/>
                </p:nvSpPr>
                <p:spPr>
                  <a:xfrm flipH="1">
                    <a:off x="1608480" y="2124000"/>
                    <a:ext cx="380520" cy="266760"/>
                  </a:xfrm>
                  <a:prstGeom prst="rect">
                    <a:avLst/>
                  </a:prstGeom>
                  <a:solidFill>
                    <a:srgbClr val="ffb38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ahoma"/>
                      </a:rPr>
                      <a:t>G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0" name=""/>
                  <p:cNvSpPr/>
                  <p:nvPr/>
                </p:nvSpPr>
                <p:spPr>
                  <a:xfrm flipH="1">
                    <a:off x="1227960" y="2124000"/>
                    <a:ext cx="380520" cy="266760"/>
                  </a:xfrm>
                  <a:prstGeom prst="rect">
                    <a:avLst/>
                  </a:prstGeom>
                  <a:solidFill>
                    <a:srgbClr val="ffb38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ahoma"/>
                      </a:rPr>
                      <a:t>T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651" name=""/>
              <p:cNvGrpSpPr/>
              <p:nvPr/>
            </p:nvGrpSpPr>
            <p:grpSpPr>
              <a:xfrm>
                <a:off x="1411200" y="1868400"/>
                <a:ext cx="1160640" cy="154080"/>
                <a:chOff x="1411200" y="1868400"/>
                <a:chExt cx="1160640" cy="154080"/>
              </a:xfrm>
            </p:grpSpPr>
            <p:sp>
              <p:nvSpPr>
                <p:cNvPr id="652" name=""/>
                <p:cNvSpPr/>
                <p:nvPr/>
              </p:nvSpPr>
              <p:spPr>
                <a:xfrm>
                  <a:off x="1411200" y="1868400"/>
                  <a:ext cx="0" cy="15264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3" name=""/>
                <p:cNvSpPr/>
                <p:nvPr/>
              </p:nvSpPr>
              <p:spPr>
                <a:xfrm>
                  <a:off x="1797120" y="1868400"/>
                  <a:ext cx="0" cy="15264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4" name=""/>
                <p:cNvSpPr/>
                <p:nvPr/>
              </p:nvSpPr>
              <p:spPr>
                <a:xfrm>
                  <a:off x="2184480" y="1868400"/>
                  <a:ext cx="0" cy="15264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5" name=""/>
                <p:cNvSpPr/>
                <p:nvPr/>
              </p:nvSpPr>
              <p:spPr>
                <a:xfrm>
                  <a:off x="2571840" y="1870200"/>
                  <a:ext cx="0" cy="15228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56" name=""/>
            <p:cNvGrpSpPr/>
            <p:nvPr/>
          </p:nvGrpSpPr>
          <p:grpSpPr>
            <a:xfrm>
              <a:off x="762120" y="3621240"/>
              <a:ext cx="2001600" cy="645840"/>
              <a:chOff x="762120" y="3621240"/>
              <a:chExt cx="2001600" cy="645840"/>
            </a:xfrm>
          </p:grpSpPr>
          <p:grpSp>
            <p:nvGrpSpPr>
              <p:cNvPr id="657" name=""/>
              <p:cNvGrpSpPr/>
              <p:nvPr/>
            </p:nvGrpSpPr>
            <p:grpSpPr>
              <a:xfrm>
                <a:off x="762120" y="3733920"/>
                <a:ext cx="2001600" cy="533160"/>
                <a:chOff x="762120" y="3733920"/>
                <a:chExt cx="2001600" cy="533160"/>
              </a:xfrm>
            </p:grpSpPr>
            <p:sp>
              <p:nvSpPr>
                <p:cNvPr id="658" name=""/>
                <p:cNvSpPr/>
                <p:nvPr/>
              </p:nvSpPr>
              <p:spPr>
                <a:xfrm flipH="1">
                  <a:off x="762120" y="3733920"/>
                  <a:ext cx="2001600" cy="533160"/>
                </a:xfrm>
                <a:prstGeom prst="rightArrow">
                  <a:avLst>
                    <a:gd name="adj1" fmla="val 59093"/>
                    <a:gd name="adj2" fmla="val 88919"/>
                  </a:avLst>
                </a:prstGeom>
                <a:solidFill>
                  <a:srgbClr val="ffb38a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59" name=""/>
                <p:cNvGrpSpPr/>
                <p:nvPr/>
              </p:nvGrpSpPr>
              <p:grpSpPr>
                <a:xfrm>
                  <a:off x="1228320" y="3876480"/>
                  <a:ext cx="1523160" cy="266400"/>
                  <a:chOff x="1228320" y="3876480"/>
                  <a:chExt cx="1523160" cy="266400"/>
                </a:xfrm>
              </p:grpSpPr>
              <p:sp>
                <p:nvSpPr>
                  <p:cNvPr id="660" name=""/>
                  <p:cNvSpPr/>
                  <p:nvPr/>
                </p:nvSpPr>
                <p:spPr>
                  <a:xfrm flipH="1">
                    <a:off x="2370600" y="3876480"/>
                    <a:ext cx="380520" cy="266400"/>
                  </a:xfrm>
                  <a:prstGeom prst="rect">
                    <a:avLst/>
                  </a:prstGeom>
                  <a:solidFill>
                    <a:srgbClr val="ffb38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ahoma"/>
                      </a:rPr>
                      <a:t>C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1" name=""/>
                  <p:cNvSpPr/>
                  <p:nvPr/>
                </p:nvSpPr>
                <p:spPr>
                  <a:xfrm flipH="1">
                    <a:off x="1990080" y="3876480"/>
                    <a:ext cx="380880" cy="266400"/>
                  </a:xfrm>
                  <a:prstGeom prst="rect">
                    <a:avLst/>
                  </a:prstGeom>
                  <a:solidFill>
                    <a:srgbClr val="ffb38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ahoma"/>
                      </a:rPr>
                      <a:t>A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2" name=""/>
                  <p:cNvSpPr/>
                  <p:nvPr/>
                </p:nvSpPr>
                <p:spPr>
                  <a:xfrm flipH="1">
                    <a:off x="1608480" y="3876480"/>
                    <a:ext cx="380520" cy="266400"/>
                  </a:xfrm>
                  <a:prstGeom prst="rect">
                    <a:avLst/>
                  </a:prstGeom>
                  <a:solidFill>
                    <a:srgbClr val="ffb38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ahoma"/>
                      </a:rPr>
                      <a:t>G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3" name=""/>
                  <p:cNvSpPr/>
                  <p:nvPr/>
                </p:nvSpPr>
                <p:spPr>
                  <a:xfrm flipH="1">
                    <a:off x="1227960" y="3876480"/>
                    <a:ext cx="380520" cy="266400"/>
                  </a:xfrm>
                  <a:prstGeom prst="rect">
                    <a:avLst/>
                  </a:prstGeom>
                  <a:solidFill>
                    <a:srgbClr val="ffb38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ahoma"/>
                      </a:rPr>
                      <a:t>T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664" name=""/>
              <p:cNvGrpSpPr/>
              <p:nvPr/>
            </p:nvGrpSpPr>
            <p:grpSpPr>
              <a:xfrm>
                <a:off x="1411200" y="3621240"/>
                <a:ext cx="1198800" cy="155160"/>
                <a:chOff x="1411200" y="3621240"/>
                <a:chExt cx="1198800" cy="155160"/>
              </a:xfrm>
            </p:grpSpPr>
            <p:sp>
              <p:nvSpPr>
                <p:cNvPr id="665" name=""/>
                <p:cNvSpPr/>
                <p:nvPr/>
              </p:nvSpPr>
              <p:spPr>
                <a:xfrm>
                  <a:off x="1411200" y="3621240"/>
                  <a:ext cx="0" cy="15228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6" name=""/>
                <p:cNvSpPr/>
                <p:nvPr/>
              </p:nvSpPr>
              <p:spPr>
                <a:xfrm>
                  <a:off x="1797120" y="3621240"/>
                  <a:ext cx="0" cy="15228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7" name=""/>
                <p:cNvSpPr/>
                <p:nvPr/>
              </p:nvSpPr>
              <p:spPr>
                <a:xfrm>
                  <a:off x="2184480" y="3621240"/>
                  <a:ext cx="0" cy="15228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68" name=""/>
                <p:cNvGrpSpPr/>
                <p:nvPr/>
              </p:nvGrpSpPr>
              <p:grpSpPr>
                <a:xfrm>
                  <a:off x="2533680" y="3624120"/>
                  <a:ext cx="76320" cy="152280"/>
                  <a:chOff x="2533680" y="3624120"/>
                  <a:chExt cx="76320" cy="152280"/>
                </a:xfrm>
              </p:grpSpPr>
              <p:sp>
                <p:nvSpPr>
                  <p:cNvPr id="669" name=""/>
                  <p:cNvSpPr/>
                  <p:nvPr/>
                </p:nvSpPr>
                <p:spPr>
                  <a:xfrm>
                    <a:off x="2533680" y="3624120"/>
                    <a:ext cx="76320" cy="152280"/>
                  </a:xfrm>
                  <a:prstGeom prst="line">
                    <a:avLst/>
                  </a:prstGeom>
                  <a:ln w="223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0" name=""/>
                  <p:cNvSpPr/>
                  <p:nvPr/>
                </p:nvSpPr>
                <p:spPr>
                  <a:xfrm flipH="1">
                    <a:off x="2533680" y="3624120"/>
                    <a:ext cx="76320" cy="152280"/>
                  </a:xfrm>
                  <a:prstGeom prst="line">
                    <a:avLst/>
                  </a:prstGeom>
                  <a:ln w="223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671" name=""/>
            <p:cNvGrpSpPr/>
            <p:nvPr/>
          </p:nvGrpSpPr>
          <p:grpSpPr>
            <a:xfrm>
              <a:off x="762120" y="5373720"/>
              <a:ext cx="2001600" cy="646200"/>
              <a:chOff x="762120" y="5373720"/>
              <a:chExt cx="2001600" cy="646200"/>
            </a:xfrm>
          </p:grpSpPr>
          <p:grpSp>
            <p:nvGrpSpPr>
              <p:cNvPr id="672" name=""/>
              <p:cNvGrpSpPr/>
              <p:nvPr/>
            </p:nvGrpSpPr>
            <p:grpSpPr>
              <a:xfrm>
                <a:off x="762120" y="5486400"/>
                <a:ext cx="2001600" cy="533520"/>
                <a:chOff x="762120" y="5486400"/>
                <a:chExt cx="2001600" cy="533520"/>
              </a:xfrm>
            </p:grpSpPr>
            <p:sp>
              <p:nvSpPr>
                <p:cNvPr id="673" name=""/>
                <p:cNvSpPr/>
                <p:nvPr/>
              </p:nvSpPr>
              <p:spPr>
                <a:xfrm flipH="1">
                  <a:off x="762120" y="5486400"/>
                  <a:ext cx="2001600" cy="533520"/>
                </a:xfrm>
                <a:prstGeom prst="rightArrow">
                  <a:avLst>
                    <a:gd name="adj1" fmla="val 59093"/>
                    <a:gd name="adj2" fmla="val 88859"/>
                  </a:avLst>
                </a:prstGeom>
                <a:solidFill>
                  <a:srgbClr val="ffb38a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74" name=""/>
                <p:cNvGrpSpPr/>
                <p:nvPr/>
              </p:nvGrpSpPr>
              <p:grpSpPr>
                <a:xfrm>
                  <a:off x="1228320" y="5629320"/>
                  <a:ext cx="1523160" cy="266760"/>
                  <a:chOff x="1228320" y="5629320"/>
                  <a:chExt cx="1523160" cy="266760"/>
                </a:xfrm>
              </p:grpSpPr>
              <p:sp>
                <p:nvSpPr>
                  <p:cNvPr id="675" name=""/>
                  <p:cNvSpPr/>
                  <p:nvPr/>
                </p:nvSpPr>
                <p:spPr>
                  <a:xfrm flipH="1">
                    <a:off x="2370600" y="5629320"/>
                    <a:ext cx="380520" cy="266760"/>
                  </a:xfrm>
                  <a:prstGeom prst="rect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ahoma"/>
                      </a:rPr>
                      <a:t>A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6" name=""/>
                  <p:cNvSpPr/>
                  <p:nvPr/>
                </p:nvSpPr>
                <p:spPr>
                  <a:xfrm flipH="1">
                    <a:off x="1990080" y="5629320"/>
                    <a:ext cx="380880" cy="266760"/>
                  </a:xfrm>
                  <a:prstGeom prst="rect">
                    <a:avLst/>
                  </a:prstGeom>
                  <a:solidFill>
                    <a:srgbClr val="ffb38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ahoma"/>
                      </a:rPr>
                      <a:t>A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7" name=""/>
                  <p:cNvSpPr/>
                  <p:nvPr/>
                </p:nvSpPr>
                <p:spPr>
                  <a:xfrm flipH="1">
                    <a:off x="1608480" y="5629320"/>
                    <a:ext cx="380520" cy="266760"/>
                  </a:xfrm>
                  <a:prstGeom prst="rect">
                    <a:avLst/>
                  </a:prstGeom>
                  <a:solidFill>
                    <a:srgbClr val="ffb38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ahoma"/>
                      </a:rPr>
                      <a:t>G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8" name=""/>
                  <p:cNvSpPr/>
                  <p:nvPr/>
                </p:nvSpPr>
                <p:spPr>
                  <a:xfrm flipH="1">
                    <a:off x="1227960" y="5629320"/>
                    <a:ext cx="380520" cy="266760"/>
                  </a:xfrm>
                  <a:prstGeom prst="rect">
                    <a:avLst/>
                  </a:prstGeom>
                  <a:solidFill>
                    <a:srgbClr val="ffb38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ahoma"/>
                      </a:rPr>
                      <a:t>T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679" name=""/>
              <p:cNvGrpSpPr/>
              <p:nvPr/>
            </p:nvGrpSpPr>
            <p:grpSpPr>
              <a:xfrm>
                <a:off x="1371600" y="5373720"/>
                <a:ext cx="1238400" cy="155520"/>
                <a:chOff x="1371600" y="5373720"/>
                <a:chExt cx="1238400" cy="155520"/>
              </a:xfrm>
            </p:grpSpPr>
            <p:grpSp>
              <p:nvGrpSpPr>
                <p:cNvPr id="680" name=""/>
                <p:cNvGrpSpPr/>
                <p:nvPr/>
              </p:nvGrpSpPr>
              <p:grpSpPr>
                <a:xfrm>
                  <a:off x="2533680" y="5376960"/>
                  <a:ext cx="76320" cy="152280"/>
                  <a:chOff x="2533680" y="5376960"/>
                  <a:chExt cx="76320" cy="152280"/>
                </a:xfrm>
              </p:grpSpPr>
              <p:sp>
                <p:nvSpPr>
                  <p:cNvPr id="681" name=""/>
                  <p:cNvSpPr/>
                  <p:nvPr/>
                </p:nvSpPr>
                <p:spPr>
                  <a:xfrm>
                    <a:off x="2533680" y="5376960"/>
                    <a:ext cx="76320" cy="152280"/>
                  </a:xfrm>
                  <a:prstGeom prst="line">
                    <a:avLst/>
                  </a:prstGeom>
                  <a:ln w="223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2" name=""/>
                  <p:cNvSpPr/>
                  <p:nvPr/>
                </p:nvSpPr>
                <p:spPr>
                  <a:xfrm flipH="1">
                    <a:off x="2533680" y="5376960"/>
                    <a:ext cx="76320" cy="152280"/>
                  </a:xfrm>
                  <a:prstGeom prst="line">
                    <a:avLst/>
                  </a:prstGeom>
                  <a:ln w="223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83" name=""/>
                <p:cNvSpPr/>
                <p:nvPr/>
              </p:nvSpPr>
              <p:spPr>
                <a:xfrm>
                  <a:off x="1797120" y="5373720"/>
                  <a:ext cx="0" cy="15228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4" name=""/>
                <p:cNvSpPr/>
                <p:nvPr/>
              </p:nvSpPr>
              <p:spPr>
                <a:xfrm>
                  <a:off x="2184480" y="5373720"/>
                  <a:ext cx="0" cy="15228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85" name=""/>
                <p:cNvGrpSpPr/>
                <p:nvPr/>
              </p:nvGrpSpPr>
              <p:grpSpPr>
                <a:xfrm>
                  <a:off x="1371600" y="5376960"/>
                  <a:ext cx="76320" cy="152280"/>
                  <a:chOff x="1371600" y="5376960"/>
                  <a:chExt cx="76320" cy="152280"/>
                </a:xfrm>
              </p:grpSpPr>
              <p:sp>
                <p:nvSpPr>
                  <p:cNvPr id="686" name=""/>
                  <p:cNvSpPr/>
                  <p:nvPr/>
                </p:nvSpPr>
                <p:spPr>
                  <a:xfrm>
                    <a:off x="1371600" y="5376960"/>
                    <a:ext cx="76320" cy="152280"/>
                  </a:xfrm>
                  <a:prstGeom prst="line">
                    <a:avLst/>
                  </a:prstGeom>
                  <a:ln w="223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7" name=""/>
                  <p:cNvSpPr/>
                  <p:nvPr/>
                </p:nvSpPr>
                <p:spPr>
                  <a:xfrm flipH="1">
                    <a:off x="1371600" y="5376960"/>
                    <a:ext cx="76320" cy="152280"/>
                  </a:xfrm>
                  <a:prstGeom prst="line">
                    <a:avLst/>
                  </a:prstGeom>
                  <a:ln w="223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grpSp>
        <p:nvGrpSpPr>
          <p:cNvPr id="688" name=""/>
          <p:cNvGrpSpPr/>
          <p:nvPr/>
        </p:nvGrpSpPr>
        <p:grpSpPr>
          <a:xfrm>
            <a:off x="5999040" y="1371600"/>
            <a:ext cx="2459160" cy="1143000"/>
            <a:chOff x="5999040" y="1371600"/>
            <a:chExt cx="2459160" cy="1143000"/>
          </a:xfrm>
        </p:grpSpPr>
        <p:grpSp>
          <p:nvGrpSpPr>
            <p:cNvPr id="689" name=""/>
            <p:cNvGrpSpPr/>
            <p:nvPr/>
          </p:nvGrpSpPr>
          <p:grpSpPr>
            <a:xfrm>
              <a:off x="6456240" y="1371600"/>
              <a:ext cx="2001960" cy="533520"/>
              <a:chOff x="6456240" y="1371600"/>
              <a:chExt cx="2001960" cy="533520"/>
            </a:xfrm>
          </p:grpSpPr>
          <p:sp>
            <p:nvSpPr>
              <p:cNvPr id="690" name=""/>
              <p:cNvSpPr/>
              <p:nvPr/>
            </p:nvSpPr>
            <p:spPr>
              <a:xfrm>
                <a:off x="6456240" y="1371600"/>
                <a:ext cx="2001960" cy="533520"/>
              </a:xfrm>
              <a:prstGeom prst="rightArrow">
                <a:avLst>
                  <a:gd name="adj1" fmla="val 59093"/>
                  <a:gd name="adj2" fmla="val 88875"/>
                </a:avLst>
              </a:prstGeom>
              <a:solidFill>
                <a:srgbClr val="57a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6467400" y="1486080"/>
                <a:ext cx="38088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6848280" y="1486080"/>
                <a:ext cx="3812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7229520" y="1486080"/>
                <a:ext cx="38088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7610400" y="1486080"/>
                <a:ext cx="38088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G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5" name=""/>
            <p:cNvGrpSpPr/>
            <p:nvPr/>
          </p:nvGrpSpPr>
          <p:grpSpPr>
            <a:xfrm>
              <a:off x="5999040" y="1868400"/>
              <a:ext cx="2001600" cy="646200"/>
              <a:chOff x="5999040" y="1868400"/>
              <a:chExt cx="2001600" cy="646200"/>
            </a:xfrm>
          </p:grpSpPr>
          <p:grpSp>
            <p:nvGrpSpPr>
              <p:cNvPr id="696" name=""/>
              <p:cNvGrpSpPr/>
              <p:nvPr/>
            </p:nvGrpSpPr>
            <p:grpSpPr>
              <a:xfrm>
                <a:off x="5999040" y="1981080"/>
                <a:ext cx="2001600" cy="533520"/>
                <a:chOff x="5999040" y="1981080"/>
                <a:chExt cx="2001600" cy="533520"/>
              </a:xfrm>
            </p:grpSpPr>
            <p:sp>
              <p:nvSpPr>
                <p:cNvPr id="697" name=""/>
                <p:cNvSpPr/>
                <p:nvPr/>
              </p:nvSpPr>
              <p:spPr>
                <a:xfrm flipH="1">
                  <a:off x="5999040" y="1981080"/>
                  <a:ext cx="2001600" cy="533520"/>
                </a:xfrm>
                <a:prstGeom prst="rightArrow">
                  <a:avLst>
                    <a:gd name="adj1" fmla="val 59093"/>
                    <a:gd name="adj2" fmla="val 88859"/>
                  </a:avLst>
                </a:prstGeom>
                <a:solidFill>
                  <a:srgbClr val="ffb38a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98" name=""/>
                <p:cNvGrpSpPr/>
                <p:nvPr/>
              </p:nvGrpSpPr>
              <p:grpSpPr>
                <a:xfrm>
                  <a:off x="6465240" y="2124000"/>
                  <a:ext cx="1523160" cy="266760"/>
                  <a:chOff x="6465240" y="2124000"/>
                  <a:chExt cx="1523160" cy="266760"/>
                </a:xfrm>
              </p:grpSpPr>
              <p:sp>
                <p:nvSpPr>
                  <p:cNvPr id="699" name=""/>
                  <p:cNvSpPr/>
                  <p:nvPr/>
                </p:nvSpPr>
                <p:spPr>
                  <a:xfrm flipH="1">
                    <a:off x="7607520" y="2124000"/>
                    <a:ext cx="380520" cy="266760"/>
                  </a:xfrm>
                  <a:prstGeom prst="rect">
                    <a:avLst/>
                  </a:prstGeom>
                  <a:solidFill>
                    <a:srgbClr val="ffb38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ahoma"/>
                      </a:rPr>
                      <a:t>C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0" name=""/>
                  <p:cNvSpPr/>
                  <p:nvPr/>
                </p:nvSpPr>
                <p:spPr>
                  <a:xfrm flipH="1">
                    <a:off x="7227000" y="2124000"/>
                    <a:ext cx="380880" cy="266760"/>
                  </a:xfrm>
                  <a:prstGeom prst="rect">
                    <a:avLst/>
                  </a:prstGeom>
                  <a:solidFill>
                    <a:srgbClr val="ffb38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ahoma"/>
                      </a:rPr>
                      <a:t>A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1" name=""/>
                  <p:cNvSpPr/>
                  <p:nvPr/>
                </p:nvSpPr>
                <p:spPr>
                  <a:xfrm flipH="1">
                    <a:off x="6845400" y="2124000"/>
                    <a:ext cx="380520" cy="266760"/>
                  </a:xfrm>
                  <a:prstGeom prst="rect">
                    <a:avLst/>
                  </a:prstGeom>
                  <a:solidFill>
                    <a:srgbClr val="ffb38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ahoma"/>
                      </a:rPr>
                      <a:t>G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2" name=""/>
                  <p:cNvSpPr/>
                  <p:nvPr/>
                </p:nvSpPr>
                <p:spPr>
                  <a:xfrm flipH="1">
                    <a:off x="6464880" y="2124000"/>
                    <a:ext cx="380520" cy="266760"/>
                  </a:xfrm>
                  <a:prstGeom prst="rect">
                    <a:avLst/>
                  </a:prstGeom>
                  <a:solidFill>
                    <a:srgbClr val="ffb38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ahoma"/>
                      </a:rPr>
                      <a:t>T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703" name=""/>
              <p:cNvGrpSpPr/>
              <p:nvPr/>
            </p:nvGrpSpPr>
            <p:grpSpPr>
              <a:xfrm>
                <a:off x="6648120" y="1868400"/>
                <a:ext cx="1160640" cy="154080"/>
                <a:chOff x="6648120" y="1868400"/>
                <a:chExt cx="1160640" cy="154080"/>
              </a:xfrm>
            </p:grpSpPr>
            <p:sp>
              <p:nvSpPr>
                <p:cNvPr id="704" name=""/>
                <p:cNvSpPr/>
                <p:nvPr/>
              </p:nvSpPr>
              <p:spPr>
                <a:xfrm>
                  <a:off x="6648120" y="1868400"/>
                  <a:ext cx="0" cy="15264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5" name=""/>
                <p:cNvSpPr/>
                <p:nvPr/>
              </p:nvSpPr>
              <p:spPr>
                <a:xfrm>
                  <a:off x="7034040" y="1868400"/>
                  <a:ext cx="0" cy="15264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6" name=""/>
                <p:cNvSpPr/>
                <p:nvPr/>
              </p:nvSpPr>
              <p:spPr>
                <a:xfrm>
                  <a:off x="7421400" y="1868400"/>
                  <a:ext cx="0" cy="15264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7" name=""/>
                <p:cNvSpPr/>
                <p:nvPr/>
              </p:nvSpPr>
              <p:spPr>
                <a:xfrm>
                  <a:off x="7808760" y="1870200"/>
                  <a:ext cx="0" cy="15228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708" name=""/>
          <p:cNvSpPr/>
          <p:nvPr/>
        </p:nvSpPr>
        <p:spPr>
          <a:xfrm>
            <a:off x="5562720" y="4680000"/>
            <a:ext cx="3276360" cy="156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&gt;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9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copies in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bability of correlated errors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eration (with strand re-partnering) makes more robu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9" name=""/>
          <p:cNvGrpSpPr/>
          <p:nvPr/>
        </p:nvGrpSpPr>
        <p:grpSpPr>
          <a:xfrm>
            <a:off x="3828960" y="1454040"/>
            <a:ext cx="1447920" cy="493920"/>
            <a:chOff x="3828960" y="1454040"/>
            <a:chExt cx="1447920" cy="493920"/>
          </a:xfrm>
        </p:grpSpPr>
        <p:sp>
          <p:nvSpPr>
            <p:cNvPr id="710" name=""/>
            <p:cNvSpPr/>
            <p:nvPr/>
          </p:nvSpPr>
          <p:spPr>
            <a:xfrm>
              <a:off x="3828960" y="1947960"/>
              <a:ext cx="14479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4056840" y="1454040"/>
              <a:ext cx="904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(keep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2" name=""/>
          <p:cNvGrpSpPr/>
          <p:nvPr/>
        </p:nvGrpSpPr>
        <p:grpSpPr>
          <a:xfrm>
            <a:off x="5999040" y="3124080"/>
            <a:ext cx="2459160" cy="1142640"/>
            <a:chOff x="5999040" y="3124080"/>
            <a:chExt cx="2459160" cy="1142640"/>
          </a:xfrm>
        </p:grpSpPr>
        <p:grpSp>
          <p:nvGrpSpPr>
            <p:cNvPr id="713" name=""/>
            <p:cNvGrpSpPr/>
            <p:nvPr/>
          </p:nvGrpSpPr>
          <p:grpSpPr>
            <a:xfrm>
              <a:off x="6456240" y="3124080"/>
              <a:ext cx="2001960" cy="533520"/>
              <a:chOff x="6456240" y="3124080"/>
              <a:chExt cx="2001960" cy="533520"/>
            </a:xfrm>
          </p:grpSpPr>
          <p:sp>
            <p:nvSpPr>
              <p:cNvPr id="714" name=""/>
              <p:cNvSpPr/>
              <p:nvPr/>
            </p:nvSpPr>
            <p:spPr>
              <a:xfrm>
                <a:off x="6456240" y="3124080"/>
                <a:ext cx="2001960" cy="533520"/>
              </a:xfrm>
              <a:prstGeom prst="rightArrow">
                <a:avLst>
                  <a:gd name="adj1" fmla="val 59093"/>
                  <a:gd name="adj2" fmla="val 88875"/>
                </a:avLst>
              </a:prstGeom>
              <a:solidFill>
                <a:srgbClr val="57a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6467400" y="3238560"/>
                <a:ext cx="38088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6848280" y="3238560"/>
                <a:ext cx="3812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7229520" y="3238560"/>
                <a:ext cx="38088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7610400" y="3238560"/>
                <a:ext cx="38088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G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9" name=""/>
            <p:cNvGrpSpPr/>
            <p:nvPr/>
          </p:nvGrpSpPr>
          <p:grpSpPr>
            <a:xfrm>
              <a:off x="5999040" y="3621240"/>
              <a:ext cx="2001600" cy="645480"/>
              <a:chOff x="5999040" y="3621240"/>
              <a:chExt cx="2001600" cy="645480"/>
            </a:xfrm>
          </p:grpSpPr>
          <p:grpSp>
            <p:nvGrpSpPr>
              <p:cNvPr id="720" name=""/>
              <p:cNvGrpSpPr/>
              <p:nvPr/>
            </p:nvGrpSpPr>
            <p:grpSpPr>
              <a:xfrm>
                <a:off x="5999040" y="3733560"/>
                <a:ext cx="2001600" cy="533160"/>
                <a:chOff x="5999040" y="3733560"/>
                <a:chExt cx="2001600" cy="533160"/>
              </a:xfrm>
            </p:grpSpPr>
            <p:sp>
              <p:nvSpPr>
                <p:cNvPr id="721" name=""/>
                <p:cNvSpPr/>
                <p:nvPr/>
              </p:nvSpPr>
              <p:spPr>
                <a:xfrm flipH="1">
                  <a:off x="5999040" y="3733560"/>
                  <a:ext cx="2001600" cy="533160"/>
                </a:xfrm>
                <a:prstGeom prst="rightArrow">
                  <a:avLst>
                    <a:gd name="adj1" fmla="val 59093"/>
                    <a:gd name="adj2" fmla="val 88919"/>
                  </a:avLst>
                </a:prstGeom>
                <a:solidFill>
                  <a:srgbClr val="ffb38a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22" name=""/>
                <p:cNvGrpSpPr/>
                <p:nvPr/>
              </p:nvGrpSpPr>
              <p:grpSpPr>
                <a:xfrm>
                  <a:off x="6465240" y="3876120"/>
                  <a:ext cx="1523160" cy="266400"/>
                  <a:chOff x="6465240" y="3876120"/>
                  <a:chExt cx="1523160" cy="266400"/>
                </a:xfrm>
              </p:grpSpPr>
              <p:sp>
                <p:nvSpPr>
                  <p:cNvPr id="723" name=""/>
                  <p:cNvSpPr/>
                  <p:nvPr/>
                </p:nvSpPr>
                <p:spPr>
                  <a:xfrm flipH="1">
                    <a:off x="7607520" y="3876120"/>
                    <a:ext cx="380520" cy="266400"/>
                  </a:xfrm>
                  <a:prstGeom prst="rect">
                    <a:avLst/>
                  </a:prstGeom>
                  <a:solidFill>
                    <a:srgbClr val="ffb38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ahoma"/>
                      </a:rPr>
                      <a:t>C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4" name=""/>
                  <p:cNvSpPr/>
                  <p:nvPr/>
                </p:nvSpPr>
                <p:spPr>
                  <a:xfrm flipH="1">
                    <a:off x="7227000" y="3876120"/>
                    <a:ext cx="380880" cy="266400"/>
                  </a:xfrm>
                  <a:prstGeom prst="rect">
                    <a:avLst/>
                  </a:prstGeom>
                  <a:solidFill>
                    <a:srgbClr val="ffb38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ahoma"/>
                      </a:rPr>
                      <a:t>A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5" name=""/>
                  <p:cNvSpPr/>
                  <p:nvPr/>
                </p:nvSpPr>
                <p:spPr>
                  <a:xfrm flipH="1">
                    <a:off x="6845400" y="3876120"/>
                    <a:ext cx="380520" cy="266400"/>
                  </a:xfrm>
                  <a:prstGeom prst="rect">
                    <a:avLst/>
                  </a:prstGeom>
                  <a:solidFill>
                    <a:srgbClr val="ffb38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ahoma"/>
                      </a:rPr>
                      <a:t>G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6" name=""/>
                  <p:cNvSpPr/>
                  <p:nvPr/>
                </p:nvSpPr>
                <p:spPr>
                  <a:xfrm flipH="1">
                    <a:off x="6464880" y="3876120"/>
                    <a:ext cx="380520" cy="266400"/>
                  </a:xfrm>
                  <a:prstGeom prst="rect">
                    <a:avLst/>
                  </a:prstGeom>
                  <a:solidFill>
                    <a:srgbClr val="ffb38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ahoma"/>
                      </a:rPr>
                      <a:t>T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727" name=""/>
              <p:cNvGrpSpPr/>
              <p:nvPr/>
            </p:nvGrpSpPr>
            <p:grpSpPr>
              <a:xfrm>
                <a:off x="6648120" y="3621240"/>
                <a:ext cx="1160640" cy="153360"/>
                <a:chOff x="6648120" y="3621240"/>
                <a:chExt cx="1160640" cy="153360"/>
              </a:xfrm>
            </p:grpSpPr>
            <p:sp>
              <p:nvSpPr>
                <p:cNvPr id="728" name=""/>
                <p:cNvSpPr/>
                <p:nvPr/>
              </p:nvSpPr>
              <p:spPr>
                <a:xfrm>
                  <a:off x="6648120" y="3621240"/>
                  <a:ext cx="0" cy="15228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9" name=""/>
                <p:cNvSpPr/>
                <p:nvPr/>
              </p:nvSpPr>
              <p:spPr>
                <a:xfrm>
                  <a:off x="7034040" y="3621240"/>
                  <a:ext cx="0" cy="15228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0" name=""/>
                <p:cNvSpPr/>
                <p:nvPr/>
              </p:nvSpPr>
              <p:spPr>
                <a:xfrm>
                  <a:off x="7421400" y="3621240"/>
                  <a:ext cx="0" cy="15228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1" name=""/>
                <p:cNvSpPr/>
                <p:nvPr/>
              </p:nvSpPr>
              <p:spPr>
                <a:xfrm>
                  <a:off x="7808760" y="3622680"/>
                  <a:ext cx="0" cy="15192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732" name=""/>
          <p:cNvGrpSpPr/>
          <p:nvPr/>
        </p:nvGrpSpPr>
        <p:grpSpPr>
          <a:xfrm>
            <a:off x="3828960" y="3211560"/>
            <a:ext cx="1447920" cy="493560"/>
            <a:chOff x="3828960" y="3211560"/>
            <a:chExt cx="1447920" cy="493560"/>
          </a:xfrm>
        </p:grpSpPr>
        <p:sp>
          <p:nvSpPr>
            <p:cNvPr id="733" name=""/>
            <p:cNvSpPr/>
            <p:nvPr/>
          </p:nvSpPr>
          <p:spPr>
            <a:xfrm>
              <a:off x="3828960" y="3705120"/>
              <a:ext cx="14479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4057560" y="3211560"/>
              <a:ext cx="83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(edit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"/>
          <p:cNvGrpSpPr/>
          <p:nvPr/>
        </p:nvGrpSpPr>
        <p:grpSpPr>
          <a:xfrm>
            <a:off x="3828960" y="4964040"/>
            <a:ext cx="1447920" cy="493920"/>
            <a:chOff x="3828960" y="4964040"/>
            <a:chExt cx="1447920" cy="493920"/>
          </a:xfrm>
        </p:grpSpPr>
        <p:sp>
          <p:nvSpPr>
            <p:cNvPr id="736" name=""/>
            <p:cNvSpPr/>
            <p:nvPr/>
          </p:nvSpPr>
          <p:spPr>
            <a:xfrm>
              <a:off x="3828960" y="5457960"/>
              <a:ext cx="14479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899160" y="4964040"/>
              <a:ext cx="120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(remove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DNA Error Correction Protoco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9" name="" descr=""/>
          <p:cNvPicPr/>
          <p:nvPr/>
        </p:nvPicPr>
        <p:blipFill>
          <a:blip r:embed="rId1"/>
          <a:stretch/>
        </p:blipFill>
        <p:spPr>
          <a:xfrm>
            <a:off x="111240" y="1523880"/>
            <a:ext cx="3089160" cy="4516560"/>
          </a:xfrm>
          <a:prstGeom prst="rect">
            <a:avLst/>
          </a:prstGeom>
          <a:ln w="0">
            <a:noFill/>
          </a:ln>
        </p:spPr>
      </p:pic>
      <p:sp>
        <p:nvSpPr>
          <p:cNvPr id="740" name=""/>
          <p:cNvSpPr/>
          <p:nvPr/>
        </p:nvSpPr>
        <p:spPr>
          <a:xfrm>
            <a:off x="289800" y="874800"/>
            <a:ext cx="269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Hybridization-sel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3276720" y="838080"/>
            <a:ext cx="0" cy="556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3430080" y="914400"/>
            <a:ext cx="316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Mismatch Binding/Remov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6784560" y="914400"/>
            <a:ext cx="229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Mismatch Cleav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4" name=""/>
          <p:cNvGrpSpPr/>
          <p:nvPr/>
        </p:nvGrpSpPr>
        <p:grpSpPr>
          <a:xfrm>
            <a:off x="7213680" y="5334120"/>
            <a:ext cx="1371600" cy="533160"/>
            <a:chOff x="7213680" y="5334120"/>
            <a:chExt cx="1371600" cy="533160"/>
          </a:xfrm>
        </p:grpSpPr>
        <p:sp>
          <p:nvSpPr>
            <p:cNvPr id="745" name=""/>
            <p:cNvSpPr/>
            <p:nvPr/>
          </p:nvSpPr>
          <p:spPr>
            <a:xfrm>
              <a:off x="7213680" y="5334120"/>
              <a:ext cx="137160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213680" y="5600520"/>
              <a:ext cx="137160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7213680" y="5867280"/>
              <a:ext cx="137160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8" name=""/>
          <p:cNvGrpSpPr/>
          <p:nvPr/>
        </p:nvGrpSpPr>
        <p:grpSpPr>
          <a:xfrm>
            <a:off x="7213680" y="1371600"/>
            <a:ext cx="1371600" cy="677880"/>
            <a:chOff x="7213680" y="1371600"/>
            <a:chExt cx="1371600" cy="677880"/>
          </a:xfrm>
        </p:grpSpPr>
        <p:grpSp>
          <p:nvGrpSpPr>
            <p:cNvPr id="749" name=""/>
            <p:cNvGrpSpPr/>
            <p:nvPr/>
          </p:nvGrpSpPr>
          <p:grpSpPr>
            <a:xfrm>
              <a:off x="7213680" y="1447560"/>
              <a:ext cx="1371600" cy="533520"/>
              <a:chOff x="7213680" y="1447560"/>
              <a:chExt cx="1371600" cy="533520"/>
            </a:xfrm>
          </p:grpSpPr>
          <p:sp>
            <p:nvSpPr>
              <p:cNvPr id="750" name=""/>
              <p:cNvSpPr/>
              <p:nvPr/>
            </p:nvSpPr>
            <p:spPr>
              <a:xfrm>
                <a:off x="7213680" y="1447560"/>
                <a:ext cx="137160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7213680" y="1714320"/>
                <a:ext cx="137160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7213680" y="1981080"/>
                <a:ext cx="137160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53" name=""/>
            <p:cNvSpPr/>
            <p:nvPr/>
          </p:nvSpPr>
          <p:spPr>
            <a:xfrm>
              <a:off x="7450200" y="1912680"/>
              <a:ext cx="136440" cy="136800"/>
            </a:xfrm>
            <a:prstGeom prst="flowChartSummingJunction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8356680" y="1371600"/>
              <a:ext cx="136440" cy="136440"/>
            </a:xfrm>
            <a:prstGeom prst="flowChartSummingJunction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7675560" y="1652400"/>
              <a:ext cx="136440" cy="136440"/>
            </a:xfrm>
            <a:prstGeom prst="flowChartSummingJunction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6" name=""/>
          <p:cNvSpPr/>
          <p:nvPr/>
        </p:nvSpPr>
        <p:spPr>
          <a:xfrm>
            <a:off x="7899480" y="2184480"/>
            <a:ext cx="0" cy="3045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7899480" y="3525840"/>
            <a:ext cx="0" cy="3049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8" name=""/>
          <p:cNvGrpSpPr/>
          <p:nvPr/>
        </p:nvGrpSpPr>
        <p:grpSpPr>
          <a:xfrm>
            <a:off x="7213680" y="2624040"/>
            <a:ext cx="1371600" cy="766440"/>
            <a:chOff x="7213680" y="2624040"/>
            <a:chExt cx="1371600" cy="766440"/>
          </a:xfrm>
        </p:grpSpPr>
        <p:grpSp>
          <p:nvGrpSpPr>
            <p:cNvPr id="759" name=""/>
            <p:cNvGrpSpPr/>
            <p:nvPr/>
          </p:nvGrpSpPr>
          <p:grpSpPr>
            <a:xfrm>
              <a:off x="7213680" y="2668320"/>
              <a:ext cx="1371600" cy="677880"/>
              <a:chOff x="7213680" y="2668320"/>
              <a:chExt cx="1371600" cy="677880"/>
            </a:xfrm>
          </p:grpSpPr>
          <p:grpSp>
            <p:nvGrpSpPr>
              <p:cNvPr id="760" name=""/>
              <p:cNvGrpSpPr/>
              <p:nvPr/>
            </p:nvGrpSpPr>
            <p:grpSpPr>
              <a:xfrm>
                <a:off x="7213680" y="2744280"/>
                <a:ext cx="1371600" cy="533520"/>
                <a:chOff x="7213680" y="2744280"/>
                <a:chExt cx="1371600" cy="533520"/>
              </a:xfrm>
            </p:grpSpPr>
            <p:sp>
              <p:nvSpPr>
                <p:cNvPr id="761" name=""/>
                <p:cNvSpPr/>
                <p:nvPr/>
              </p:nvSpPr>
              <p:spPr>
                <a:xfrm>
                  <a:off x="7213680" y="2744280"/>
                  <a:ext cx="1371600" cy="0"/>
                </a:xfrm>
                <a:prstGeom prst="line">
                  <a:avLst/>
                </a:prstGeom>
                <a:ln w="255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2" name=""/>
                <p:cNvSpPr/>
                <p:nvPr/>
              </p:nvSpPr>
              <p:spPr>
                <a:xfrm>
                  <a:off x="7213680" y="3011040"/>
                  <a:ext cx="1371600" cy="0"/>
                </a:xfrm>
                <a:prstGeom prst="line">
                  <a:avLst/>
                </a:prstGeom>
                <a:ln w="255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3" name=""/>
                <p:cNvSpPr/>
                <p:nvPr/>
              </p:nvSpPr>
              <p:spPr>
                <a:xfrm>
                  <a:off x="7213680" y="3277800"/>
                  <a:ext cx="1371600" cy="0"/>
                </a:xfrm>
                <a:prstGeom prst="line">
                  <a:avLst/>
                </a:prstGeom>
                <a:ln w="255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64" name=""/>
              <p:cNvSpPr/>
              <p:nvPr/>
            </p:nvSpPr>
            <p:spPr>
              <a:xfrm>
                <a:off x="7450200" y="3209400"/>
                <a:ext cx="136440" cy="136800"/>
              </a:xfrm>
              <a:prstGeom prst="flowChartSummingJunction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8356680" y="2668320"/>
                <a:ext cx="136440" cy="136440"/>
              </a:xfrm>
              <a:prstGeom prst="flowChartSummingJunction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7675560" y="2949120"/>
                <a:ext cx="136440" cy="136440"/>
              </a:xfrm>
              <a:prstGeom prst="flowChartSummingJunction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67" name=""/>
            <p:cNvSpPr/>
            <p:nvPr/>
          </p:nvSpPr>
          <p:spPr>
            <a:xfrm>
              <a:off x="8331120" y="2624040"/>
              <a:ext cx="0" cy="228600"/>
            </a:xfrm>
            <a:prstGeom prst="line">
              <a:avLst/>
            </a:prstGeom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7837560" y="2889000"/>
              <a:ext cx="0" cy="228600"/>
            </a:xfrm>
            <a:prstGeom prst="line">
              <a:avLst/>
            </a:prstGeom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7424640" y="3161880"/>
              <a:ext cx="0" cy="228600"/>
            </a:xfrm>
            <a:prstGeom prst="line">
              <a:avLst/>
            </a:prstGeom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0" name=""/>
          <p:cNvGrpSpPr/>
          <p:nvPr/>
        </p:nvGrpSpPr>
        <p:grpSpPr>
          <a:xfrm>
            <a:off x="7213680" y="3965400"/>
            <a:ext cx="1371600" cy="793800"/>
            <a:chOff x="7213680" y="3965400"/>
            <a:chExt cx="1371600" cy="793800"/>
          </a:xfrm>
        </p:grpSpPr>
        <p:grpSp>
          <p:nvGrpSpPr>
            <p:cNvPr id="771" name=""/>
            <p:cNvGrpSpPr/>
            <p:nvPr/>
          </p:nvGrpSpPr>
          <p:grpSpPr>
            <a:xfrm>
              <a:off x="7213680" y="4005000"/>
              <a:ext cx="1371600" cy="677880"/>
              <a:chOff x="7213680" y="4005000"/>
              <a:chExt cx="1371600" cy="677880"/>
            </a:xfrm>
          </p:grpSpPr>
          <p:grpSp>
            <p:nvGrpSpPr>
              <p:cNvPr id="772" name=""/>
              <p:cNvGrpSpPr/>
              <p:nvPr/>
            </p:nvGrpSpPr>
            <p:grpSpPr>
              <a:xfrm>
                <a:off x="7213680" y="4080960"/>
                <a:ext cx="1371600" cy="533520"/>
                <a:chOff x="7213680" y="4080960"/>
                <a:chExt cx="1371600" cy="533520"/>
              </a:xfrm>
            </p:grpSpPr>
            <p:sp>
              <p:nvSpPr>
                <p:cNvPr id="773" name=""/>
                <p:cNvSpPr/>
                <p:nvPr/>
              </p:nvSpPr>
              <p:spPr>
                <a:xfrm>
                  <a:off x="7213680" y="4080960"/>
                  <a:ext cx="1371600" cy="0"/>
                </a:xfrm>
                <a:prstGeom prst="line">
                  <a:avLst/>
                </a:prstGeom>
                <a:ln w="255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4" name=""/>
                <p:cNvSpPr/>
                <p:nvPr/>
              </p:nvSpPr>
              <p:spPr>
                <a:xfrm>
                  <a:off x="7213680" y="4347720"/>
                  <a:ext cx="1371600" cy="0"/>
                </a:xfrm>
                <a:prstGeom prst="line">
                  <a:avLst/>
                </a:prstGeom>
                <a:ln w="255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5" name=""/>
                <p:cNvSpPr/>
                <p:nvPr/>
              </p:nvSpPr>
              <p:spPr>
                <a:xfrm>
                  <a:off x="7213680" y="4614480"/>
                  <a:ext cx="1371600" cy="0"/>
                </a:xfrm>
                <a:prstGeom prst="line">
                  <a:avLst/>
                </a:prstGeom>
                <a:ln w="255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76" name=""/>
              <p:cNvSpPr/>
              <p:nvPr/>
            </p:nvSpPr>
            <p:spPr>
              <a:xfrm>
                <a:off x="7450200" y="4546080"/>
                <a:ext cx="136440" cy="136800"/>
              </a:xfrm>
              <a:prstGeom prst="flowChartSummingJunction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8356680" y="4005000"/>
                <a:ext cx="136440" cy="136440"/>
              </a:xfrm>
              <a:prstGeom prst="flowChartSummingJunction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7675560" y="4285800"/>
                <a:ext cx="136440" cy="136440"/>
              </a:xfrm>
              <a:prstGeom prst="flowChartSummingJunction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9" name=""/>
            <p:cNvSpPr/>
            <p:nvPr/>
          </p:nvSpPr>
          <p:spPr>
            <a:xfrm>
              <a:off x="7391520" y="4530600"/>
              <a:ext cx="30492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7620120" y="4225680"/>
              <a:ext cx="30492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8229600" y="3965400"/>
              <a:ext cx="30492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2" name=""/>
          <p:cNvSpPr/>
          <p:nvPr/>
        </p:nvSpPr>
        <p:spPr>
          <a:xfrm>
            <a:off x="7899480" y="4894200"/>
            <a:ext cx="0" cy="3049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6629400" y="838080"/>
            <a:ext cx="0" cy="556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4" name=""/>
          <p:cNvGrpSpPr/>
          <p:nvPr/>
        </p:nvGrpSpPr>
        <p:grpSpPr>
          <a:xfrm>
            <a:off x="3757680" y="1447920"/>
            <a:ext cx="2381760" cy="4540680"/>
            <a:chOff x="3757680" y="1447920"/>
            <a:chExt cx="2381760" cy="4540680"/>
          </a:xfrm>
        </p:grpSpPr>
        <p:grpSp>
          <p:nvGrpSpPr>
            <p:cNvPr id="785" name=""/>
            <p:cNvGrpSpPr/>
            <p:nvPr/>
          </p:nvGrpSpPr>
          <p:grpSpPr>
            <a:xfrm>
              <a:off x="3890520" y="5376600"/>
              <a:ext cx="1600560" cy="107640"/>
              <a:chOff x="3890520" y="5376600"/>
              <a:chExt cx="1600560" cy="107640"/>
            </a:xfrm>
          </p:grpSpPr>
          <p:sp>
            <p:nvSpPr>
              <p:cNvPr id="786" name=""/>
              <p:cNvSpPr/>
              <p:nvPr/>
            </p:nvSpPr>
            <p:spPr>
              <a:xfrm>
                <a:off x="3890880" y="5376600"/>
                <a:ext cx="1600200" cy="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 flipH="1">
                <a:off x="3890520" y="5484240"/>
                <a:ext cx="160020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8" name=""/>
            <p:cNvGrpSpPr/>
            <p:nvPr/>
          </p:nvGrpSpPr>
          <p:grpSpPr>
            <a:xfrm>
              <a:off x="3887280" y="1447920"/>
              <a:ext cx="1607040" cy="651600"/>
              <a:chOff x="3887280" y="1447920"/>
              <a:chExt cx="1607040" cy="651600"/>
            </a:xfrm>
          </p:grpSpPr>
          <p:grpSp>
            <p:nvGrpSpPr>
              <p:cNvPr id="789" name=""/>
              <p:cNvGrpSpPr/>
              <p:nvPr/>
            </p:nvGrpSpPr>
            <p:grpSpPr>
              <a:xfrm>
                <a:off x="3893760" y="1563480"/>
                <a:ext cx="1600560" cy="107280"/>
                <a:chOff x="3893760" y="1563480"/>
                <a:chExt cx="1600560" cy="107280"/>
              </a:xfrm>
            </p:grpSpPr>
            <p:sp>
              <p:nvSpPr>
                <p:cNvPr id="790" name=""/>
                <p:cNvSpPr/>
                <p:nvPr/>
              </p:nvSpPr>
              <p:spPr>
                <a:xfrm>
                  <a:off x="3894120" y="1563480"/>
                  <a:ext cx="1600200" cy="0"/>
                </a:xfrm>
                <a:prstGeom prst="line">
                  <a:avLst/>
                </a:prstGeom>
                <a:ln w="19080">
                  <a:solidFill>
                    <a:srgbClr val="0000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1" name=""/>
                <p:cNvSpPr/>
                <p:nvPr/>
              </p:nvSpPr>
              <p:spPr>
                <a:xfrm flipH="1">
                  <a:off x="3893760" y="1670760"/>
                  <a:ext cx="1600200" cy="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2" name=""/>
              <p:cNvGrpSpPr/>
              <p:nvPr/>
            </p:nvGrpSpPr>
            <p:grpSpPr>
              <a:xfrm>
                <a:off x="3887280" y="1991880"/>
                <a:ext cx="1600560" cy="107640"/>
                <a:chOff x="3887280" y="1991880"/>
                <a:chExt cx="1600560" cy="107640"/>
              </a:xfrm>
            </p:grpSpPr>
            <p:sp>
              <p:nvSpPr>
                <p:cNvPr id="793" name=""/>
                <p:cNvSpPr/>
                <p:nvPr/>
              </p:nvSpPr>
              <p:spPr>
                <a:xfrm>
                  <a:off x="3887640" y="1991880"/>
                  <a:ext cx="1600200" cy="0"/>
                </a:xfrm>
                <a:prstGeom prst="line">
                  <a:avLst/>
                </a:prstGeom>
                <a:ln w="19080">
                  <a:solidFill>
                    <a:srgbClr val="0000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4" name=""/>
                <p:cNvSpPr/>
                <p:nvPr/>
              </p:nvSpPr>
              <p:spPr>
                <a:xfrm flipH="1">
                  <a:off x="3887280" y="2099520"/>
                  <a:ext cx="1600200" cy="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95" name=""/>
              <p:cNvSpPr/>
              <p:nvPr/>
            </p:nvSpPr>
            <p:spPr>
              <a:xfrm>
                <a:off x="4332240" y="1447920"/>
                <a:ext cx="109440" cy="109080"/>
              </a:xfrm>
              <a:prstGeom prst="triangle">
                <a:avLst>
                  <a:gd name="adj" fmla="val 50000"/>
                </a:avLst>
              </a:prstGeom>
              <a:solidFill>
                <a:srgbClr val="0000ff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96" name=""/>
            <p:cNvSpPr/>
            <p:nvPr/>
          </p:nvSpPr>
          <p:spPr>
            <a:xfrm>
              <a:off x="4691160" y="232848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931640" y="2527200"/>
              <a:ext cx="1207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ind Mu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98" name=""/>
            <p:cNvGrpSpPr/>
            <p:nvPr/>
          </p:nvGrpSpPr>
          <p:grpSpPr>
            <a:xfrm>
              <a:off x="3887280" y="3232080"/>
              <a:ext cx="1607040" cy="738720"/>
              <a:chOff x="3887280" y="3232080"/>
              <a:chExt cx="1607040" cy="738720"/>
            </a:xfrm>
          </p:grpSpPr>
          <p:sp>
            <p:nvSpPr>
              <p:cNvPr id="799" name=""/>
              <p:cNvSpPr/>
              <p:nvPr/>
            </p:nvSpPr>
            <p:spPr>
              <a:xfrm>
                <a:off x="4192560" y="3232080"/>
                <a:ext cx="380880" cy="456840"/>
              </a:xfrm>
              <a:custGeom>
                <a:avLst/>
                <a:gdLst>
                  <a:gd name="textAreaLeft" fmla="*/ 43920 w 380880"/>
                  <a:gd name="textAreaRight" fmla="*/ 336960 w 380880"/>
                  <a:gd name="textAreaTop" fmla="*/ 43920 h 456840"/>
                  <a:gd name="textAreaBottom" fmla="*/ 412920 h 456840"/>
                </a:gdLst>
                <a:ahLst/>
                <a:rect l="textAreaLeft" t="textAreaTop" r="textAreaRight" b="textAreaBottom"/>
                <a:pathLst>
                  <a:path w="21600" h="25904">
                    <a:moveTo>
                      <a:pt x="8550" y="0"/>
                    </a:moveTo>
                    <a:arcTo wR="8550" hR="8550" stAng="16200000" swAng="-5400000"/>
                    <a:lnTo>
                      <a:pt x="0" y="17354"/>
                    </a:lnTo>
                    <a:arcTo wR="8550" hR="8550" stAng="10800000" swAng="-5400000"/>
                    <a:lnTo>
                      <a:pt x="13050" y="25904"/>
                    </a:lnTo>
                    <a:arcTo wR="8550" hR="8550" stAng="5400000" swAng="-5400000"/>
                    <a:lnTo>
                      <a:pt x="21600" y="8550"/>
                    </a:lnTo>
                    <a:arcTo wR="8550" hR="8550" stAng="0" swAng="-5400000"/>
                    <a:close/>
                  </a:path>
                </a:pathLst>
              </a:custGeom>
              <a:solidFill>
                <a:srgbClr val="8ffd7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00" name=""/>
              <p:cNvGrpSpPr/>
              <p:nvPr/>
            </p:nvGrpSpPr>
            <p:grpSpPr>
              <a:xfrm>
                <a:off x="3887280" y="3319200"/>
                <a:ext cx="1607040" cy="651600"/>
                <a:chOff x="3887280" y="3319200"/>
                <a:chExt cx="1607040" cy="651600"/>
              </a:xfrm>
            </p:grpSpPr>
            <p:grpSp>
              <p:nvGrpSpPr>
                <p:cNvPr id="801" name=""/>
                <p:cNvGrpSpPr/>
                <p:nvPr/>
              </p:nvGrpSpPr>
              <p:grpSpPr>
                <a:xfrm>
                  <a:off x="3893760" y="3434760"/>
                  <a:ext cx="1600560" cy="107280"/>
                  <a:chOff x="3893760" y="3434760"/>
                  <a:chExt cx="1600560" cy="107280"/>
                </a:xfrm>
              </p:grpSpPr>
              <p:sp>
                <p:nvSpPr>
                  <p:cNvPr id="802" name=""/>
                  <p:cNvSpPr/>
                  <p:nvPr/>
                </p:nvSpPr>
                <p:spPr>
                  <a:xfrm>
                    <a:off x="3894120" y="3434760"/>
                    <a:ext cx="1600200" cy="0"/>
                  </a:xfrm>
                  <a:prstGeom prst="line">
                    <a:avLst/>
                  </a:prstGeom>
                  <a:ln w="19080">
                    <a:solidFill>
                      <a:srgbClr val="0000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3" name=""/>
                  <p:cNvSpPr/>
                  <p:nvPr/>
                </p:nvSpPr>
                <p:spPr>
                  <a:xfrm flipH="1">
                    <a:off x="3893760" y="3542040"/>
                    <a:ext cx="1600200" cy="0"/>
                  </a:xfrm>
                  <a:prstGeom prst="line">
                    <a:avLst/>
                  </a:prstGeom>
                  <a:ln w="19080">
                    <a:solidFill>
                      <a:srgbClr val="ff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04" name=""/>
                <p:cNvGrpSpPr/>
                <p:nvPr/>
              </p:nvGrpSpPr>
              <p:grpSpPr>
                <a:xfrm>
                  <a:off x="3887280" y="3863160"/>
                  <a:ext cx="1600560" cy="107640"/>
                  <a:chOff x="3887280" y="3863160"/>
                  <a:chExt cx="1600560" cy="107640"/>
                </a:xfrm>
              </p:grpSpPr>
              <p:sp>
                <p:nvSpPr>
                  <p:cNvPr id="805" name=""/>
                  <p:cNvSpPr/>
                  <p:nvPr/>
                </p:nvSpPr>
                <p:spPr>
                  <a:xfrm>
                    <a:off x="3887640" y="3863160"/>
                    <a:ext cx="1600200" cy="0"/>
                  </a:xfrm>
                  <a:prstGeom prst="line">
                    <a:avLst/>
                  </a:prstGeom>
                  <a:ln w="19080">
                    <a:solidFill>
                      <a:srgbClr val="0000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6" name=""/>
                  <p:cNvSpPr/>
                  <p:nvPr/>
                </p:nvSpPr>
                <p:spPr>
                  <a:xfrm flipH="1">
                    <a:off x="3887280" y="3970800"/>
                    <a:ext cx="1600200" cy="0"/>
                  </a:xfrm>
                  <a:prstGeom prst="line">
                    <a:avLst/>
                  </a:prstGeom>
                  <a:ln w="19080">
                    <a:solidFill>
                      <a:srgbClr val="ff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07" name=""/>
                <p:cNvSpPr/>
                <p:nvPr/>
              </p:nvSpPr>
              <p:spPr>
                <a:xfrm>
                  <a:off x="4332240" y="3319200"/>
                  <a:ext cx="109440" cy="1090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00ff"/>
                </a:solidFill>
                <a:ln w="93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08" name=""/>
            <p:cNvSpPr/>
            <p:nvPr/>
          </p:nvSpPr>
          <p:spPr>
            <a:xfrm>
              <a:off x="4691160" y="4233600"/>
              <a:ext cx="0" cy="837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931280" y="4198680"/>
              <a:ext cx="1157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mo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utS +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ismatc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3757680" y="5651280"/>
              <a:ext cx="1876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(error-free DNA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1" name=""/>
          <p:cNvSpPr/>
          <p:nvPr/>
        </p:nvSpPr>
        <p:spPr>
          <a:xfrm>
            <a:off x="492120" y="6400800"/>
            <a:ext cx="2179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an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et 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 Nature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3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(200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3807720" y="6400800"/>
            <a:ext cx="195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r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et 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 NA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(200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6549120" y="6400800"/>
            <a:ext cx="2457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ith &amp; Modrich PNAS 94 (1997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4" name=""/>
          <p:cNvGrpSpPr/>
          <p:nvPr/>
        </p:nvGrpSpPr>
        <p:grpSpPr>
          <a:xfrm>
            <a:off x="457200" y="1523880"/>
            <a:ext cx="8400960" cy="2797920"/>
            <a:chOff x="457200" y="1523880"/>
            <a:chExt cx="8400960" cy="2797920"/>
          </a:xfrm>
        </p:grpSpPr>
        <p:grpSp>
          <p:nvGrpSpPr>
            <p:cNvPr id="815" name=""/>
            <p:cNvGrpSpPr/>
            <p:nvPr/>
          </p:nvGrpSpPr>
          <p:grpSpPr>
            <a:xfrm>
              <a:off x="457200" y="1523880"/>
              <a:ext cx="3179880" cy="2797920"/>
              <a:chOff x="457200" y="1523880"/>
              <a:chExt cx="3179880" cy="2797920"/>
            </a:xfrm>
          </p:grpSpPr>
          <p:pic>
            <p:nvPicPr>
              <p:cNvPr id="816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457200" y="1523880"/>
                <a:ext cx="3179880" cy="2067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7" name=""/>
              <p:cNvSpPr/>
              <p:nvPr/>
            </p:nvSpPr>
            <p:spPr>
              <a:xfrm>
                <a:off x="512640" y="3618000"/>
                <a:ext cx="306864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inkjet-printed microarray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(e.g. Agilent)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8" name=""/>
            <p:cNvGrpSpPr/>
            <p:nvPr/>
          </p:nvGrpSpPr>
          <p:grpSpPr>
            <a:xfrm>
              <a:off x="3981600" y="1576440"/>
              <a:ext cx="4876560" cy="2745360"/>
              <a:chOff x="3981600" y="1576440"/>
              <a:chExt cx="4876560" cy="2745360"/>
            </a:xfrm>
          </p:grpSpPr>
          <p:pic>
            <p:nvPicPr>
              <p:cNvPr id="819" name="" descr=""/>
              <p:cNvPicPr/>
              <p:nvPr/>
            </p:nvPicPr>
            <p:blipFill>
              <a:blip r:embed="rId2"/>
              <a:srcRect l="0" t="-2505" r="-2392" b="71120"/>
              <a:stretch/>
            </p:blipFill>
            <p:spPr>
              <a:xfrm>
                <a:off x="3981600" y="1576440"/>
                <a:ext cx="4876560" cy="190512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sp>
            <p:nvSpPr>
              <p:cNvPr id="820" name=""/>
              <p:cNvSpPr/>
              <p:nvPr/>
            </p:nvSpPr>
            <p:spPr>
              <a:xfrm>
                <a:off x="4791240" y="3618000"/>
                <a:ext cx="325764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maskless array synthesize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(e.g. Nimblegen)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High Density Oligonucleotide Microarrays</a:t>
            </a:r>
            <a:br>
              <a:rPr sz="3200"/>
            </a:br>
            <a:r>
              <a:rPr b="0" i="1" lang="en-US" sz="2600" spc="-1" strike="noStrike">
                <a:solidFill>
                  <a:srgbClr val="0099ff"/>
                </a:solidFill>
                <a:latin typeface="Trebuchet MS"/>
              </a:rPr>
              <a:t>a massive feedstock of  DNA building block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2" name=""/>
          <p:cNvGrpSpPr/>
          <p:nvPr/>
        </p:nvGrpSpPr>
        <p:grpSpPr>
          <a:xfrm>
            <a:off x="130320" y="4648320"/>
            <a:ext cx="8898480" cy="825480"/>
            <a:chOff x="130320" y="4648320"/>
            <a:chExt cx="8898480" cy="825480"/>
          </a:xfrm>
        </p:grpSpPr>
        <p:sp>
          <p:nvSpPr>
            <p:cNvPr id="823" name=""/>
            <p:cNvSpPr/>
            <p:nvPr/>
          </p:nvSpPr>
          <p:spPr>
            <a:xfrm>
              <a:off x="6022440" y="4648320"/>
              <a:ext cx="3006360" cy="825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&gt;1000x reduction in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oligonucleotide cos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30320" y="4648320"/>
              <a:ext cx="2384280" cy="825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&gt;10</a:t>
              </a:r>
              <a:r>
                <a:rPr b="0" i="1" lang="en-US" sz="2400" spc="-1" strike="noStrike" baseline="30000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 oligos p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microarra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2885760" y="4648320"/>
              <a:ext cx="2754720" cy="825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&gt;5 megabas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of DNA inform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2504520" y="480528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rebuchet MS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638320" y="480528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rebuchet MS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8" name=""/>
          <p:cNvGrpSpPr/>
          <p:nvPr/>
        </p:nvGrpSpPr>
        <p:grpSpPr>
          <a:xfrm>
            <a:off x="371160" y="5791320"/>
            <a:ext cx="8114760" cy="825480"/>
            <a:chOff x="371160" y="5791320"/>
            <a:chExt cx="8114760" cy="825480"/>
          </a:xfrm>
        </p:grpSpPr>
        <p:sp>
          <p:nvSpPr>
            <p:cNvPr id="829" name=""/>
            <p:cNvSpPr/>
            <p:nvPr/>
          </p:nvSpPr>
          <p:spPr>
            <a:xfrm>
              <a:off x="371160" y="5791320"/>
              <a:ext cx="81147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ian &amp; Church (2004)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~600 oligos            21 genes            15 kb construct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3243240" y="6400800"/>
              <a:ext cx="533520" cy="0"/>
            </a:xfrm>
            <a:prstGeom prst="line">
              <a:avLst/>
            </a:prstGeom>
            <a:ln w="28440">
              <a:solidFill>
                <a:srgbClr val="4d4d4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486400" y="6400800"/>
              <a:ext cx="533520" cy="0"/>
            </a:xfrm>
            <a:prstGeom prst="line">
              <a:avLst/>
            </a:prstGeom>
            <a:ln w="28440">
              <a:solidFill>
                <a:srgbClr val="4d4d4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8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6T02:28:55Z</dcterms:created>
  <dc:creator>Peter Carr</dc:creator>
  <dc:description/>
  <dc:language>en-US</dc:language>
  <cp:lastModifiedBy>Sunkong</cp:lastModifiedBy>
  <dcterms:modified xsi:type="dcterms:W3CDTF">2007-05-24T13:15:39Z</dcterms:modified>
  <cp:revision>71</cp:revision>
  <dc:subject/>
  <dc:title>PowerPoint Presentation</dc:title>
</cp:coreProperties>
</file>