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14E-34DA-4EFD-BD8B-36790B581D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24E0-0797-437F-81C2-3695255B33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B63-E5E7-494B-9FB2-9AF6A04E1A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C3E-5F22-46A7-86FD-72C36019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159-56F0-4D13-80EE-79A986A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399-D91D-45F1-949D-1779DEFC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A7C-9919-4057-9010-34BDDC49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88C-63CF-4C22-8667-AB4C98B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B28-AA67-44A4-969A-FED4CF1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D6D-2121-4CCF-B4FF-0BA87CD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671-6A1D-419B-98F2-18A8BC1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39B-96C9-45BB-A48F-151667ED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07C-65E8-4144-BCF3-F9EEBCF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EF6-3E92-494F-8487-69ACFD8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764-D50E-466F-8434-447535D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20C6-31F3-4D9A-ABF7-7B2571F597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7" descr="k-000001.ppm.pn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91" name="pole tekstowe 4"/>
          <p:cNvSpPr/>
          <p:nvPr/>
        </p:nvSpPr>
        <p:spPr>
          <a:xfrm>
            <a:off x="500400" y="106668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ier transform of 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n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wo different cas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ytuł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s for an asymmetric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38280" y="792000"/>
            <a:ext cx="7867440" cy="589608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4"/>
          <p:cNvSpPr/>
          <p:nvPr/>
        </p:nvSpPr>
        <p:spPr>
          <a:xfrm>
            <a:off x="2153520" y="2362320"/>
            <a:ext cx="162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1.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 (magnified frag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520" y="817560"/>
            <a:ext cx="78040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in the regular band pattern resists perturb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09680" y="2081160"/>
            <a:ext cx="8324640" cy="269568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880920" y="51814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ame distance in the movie is equal to the average period of the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network with three possible 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710240" cy="358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1914480" cy="133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195264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6"/>
          <p:cNvSpPr/>
          <p:nvPr/>
        </p:nvSpPr>
        <p:spPr>
          <a:xfrm>
            <a:off x="5051520" y="1752480"/>
            <a:ext cx="383832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ossible traj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az 1" descr="k-000014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04920" y="206280"/>
            <a:ext cx="85374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raz 1" descr="k-000016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5629320" cy="12700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20040" y="1066680"/>
            <a:ext cx="848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loop exhibits non-trivial behavior such as regular/chao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que stationary state does not exist (memorizing patte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ystems exhibit spontaneous oscillations of large ampl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with large number of bubbles are equivalent as long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flux of resistance (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f 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kept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there exist a continuous limit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sta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limit represents waves of flowing resistance density, instead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cret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k-000002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 assumptions of th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710240" cy="3586320"/>
          </a:xfrm>
          <a:prstGeom prst="rect">
            <a:avLst/>
          </a:prstGeom>
          <a:ln w="0">
            <a:noFill/>
          </a:ln>
        </p:spPr>
      </p:pic>
      <p:sp>
        <p:nvSpPr>
          <p:cNvPr id="53" name="pole tekstowe 18"/>
          <p:cNvSpPr/>
          <p:nvPr/>
        </p:nvSpPr>
        <p:spPr>
          <a:xfrm>
            <a:off x="469080" y="15238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circu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19"/>
          <p:cNvSpPr/>
          <p:nvPr/>
        </p:nvSpPr>
        <p:spPr>
          <a:xfrm>
            <a:off x="4724280" y="152388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s consist of nodes, channels, pumps and bubble-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s are 1-dimensional, nodes are 0-dimensional, as in a plana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are point charges of resistance, added to the constant resistance of the channel they occ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flow at the superficial speed of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is driven by a pressure drop applied to the inlet and outlet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09588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12"/>
          <p:cNvGrpSpPr/>
          <p:nvPr/>
        </p:nvGrpSpPr>
        <p:grpSpPr>
          <a:xfrm>
            <a:off x="1371600" y="1295280"/>
            <a:ext cx="5867280" cy="1752840"/>
            <a:chOff x="1371600" y="1295280"/>
            <a:chExt cx="5867280" cy="1752840"/>
          </a:xfrm>
        </p:grpSpPr>
        <p:sp>
          <p:nvSpPr>
            <p:cNvPr id="58" name="Prostokąt 5"/>
            <p:cNvSpPr/>
            <p:nvPr/>
          </p:nvSpPr>
          <p:spPr>
            <a:xfrm>
              <a:off x="1371600" y="1371240"/>
              <a:ext cx="609480" cy="167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6"/>
            <p:cNvSpPr/>
            <p:nvPr/>
          </p:nvSpPr>
          <p:spPr>
            <a:xfrm>
              <a:off x="6629400" y="1295280"/>
              <a:ext cx="609480" cy="17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7"/>
            <p:cNvSpPr/>
            <p:nvPr/>
          </p:nvSpPr>
          <p:spPr>
            <a:xfrm>
              <a:off x="1828800" y="2514600"/>
              <a:ext cx="50292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Strzałka w prawo 10"/>
          <p:cNvSpPr/>
          <p:nvPr/>
        </p:nvSpPr>
        <p:spPr>
          <a:xfrm>
            <a:off x="121932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załka w prawo 11"/>
          <p:cNvSpPr/>
          <p:nvPr/>
        </p:nvSpPr>
        <p:spPr>
          <a:xfrm>
            <a:off x="685800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361944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5562720" y="2743200"/>
            <a:ext cx="198108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1163520" y="4525920"/>
            <a:ext cx="35053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5"/>
          <a:stretch/>
        </p:blipFill>
        <p:spPr>
          <a:xfrm>
            <a:off x="1149480" y="5410080"/>
            <a:ext cx="297180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6"/>
          <a:stretch/>
        </p:blipFill>
        <p:spPr>
          <a:xfrm>
            <a:off x="1133640" y="5867280"/>
            <a:ext cx="29048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7"/>
          <a:stretch/>
        </p:blipFill>
        <p:spPr>
          <a:xfrm>
            <a:off x="5657760" y="4703760"/>
            <a:ext cx="295272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8"/>
          <a:stretch/>
        </p:blipFill>
        <p:spPr>
          <a:xfrm>
            <a:off x="5645160" y="5257800"/>
            <a:ext cx="2190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" y="1152360"/>
            <a:ext cx="8143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1028880"/>
            <a:ext cx="84009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search of a stationary flow – two channel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3280" y="838080"/>
            <a:ext cx="5743440" cy="33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600280" cy="44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530568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5"/>
          <p:cNvSpPr/>
          <p:nvPr/>
        </p:nvSpPr>
        <p:spPr>
          <a:xfrm>
            <a:off x="340200" y="5943600"/>
            <a:ext cx="832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ationary flow is not unique - different patterns can be repeated !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16"/>
          <p:cNvSpPr/>
          <p:nvPr/>
        </p:nvSpPr>
        <p:spPr>
          <a:xfrm>
            <a:off x="56847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rostokąt 17"/>
          <p:cNvSpPr/>
          <p:nvPr/>
        </p:nvSpPr>
        <p:spPr>
          <a:xfrm>
            <a:off x="4269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Nawias klamrowy otwierający 19"/>
          <p:cNvSpPr/>
          <p:nvPr/>
        </p:nvSpPr>
        <p:spPr>
          <a:xfrm>
            <a:off x="731880" y="208764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Nawias klamrowy zamykający 20"/>
          <p:cNvSpPr/>
          <p:nvPr/>
        </p:nvSpPr>
        <p:spPr>
          <a:xfrm>
            <a:off x="5532480" y="21034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21"/>
          <p:cNvSpPr/>
          <p:nvPr/>
        </p:nvSpPr>
        <p:spPr>
          <a:xfrm>
            <a:off x="59436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23"/>
          <p:cNvSpPr/>
          <p:nvPr/>
        </p:nvSpPr>
        <p:spPr>
          <a:xfrm>
            <a:off x="92160" y="2346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19040" y="2081160"/>
            <a:ext cx="8305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1:28Z</dcterms:created>
  <dc:creator>garst</dc:creator>
  <dc:description/>
  <dc:language>en-US</dc:language>
  <cp:lastModifiedBy>garst</cp:lastModifiedBy>
  <dcterms:modified xsi:type="dcterms:W3CDTF">2007-05-24T11:37:16Z</dcterms:modified>
  <cp:revision>60</cp:revision>
  <dc:subject/>
  <dc:title>Slajd 1</dc:title>
</cp:coreProperties>
</file>