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2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E6A2-2F06-4E86-A839-86A79D94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nL, compared to microliters for standard synth; order of magnitude+ reduction in sampl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gene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first demonstrated gene synthesis in a microfluidic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500 nL sufficient material from a single reactor for analysis by both gel and seque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omment, I can work with small amounts of DNA in small volumes, which could lead to microarray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tools for output, like PCR, cloning, DATA, etc. from starting small amounts of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avoiding chip to world interface problem by keeping on molecules on the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an avoid problem of other syntheses b/c of off-chip a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fferent ways—can mail you the DNA, but can also keep it on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tools for output, like PCR, cloning, DATA, etc. from starting small amounts of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avoiding chip to world interface problem by keeping on molecules on the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an avoid problem of other syntheses b/c of off-chip a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fferent ways—can mail you the DNA, but can also keep it on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details on how this automation is useful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tools for output, like PCR, cloning, DATA, etc. from starting small amounts of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avoiding chip to world interface problem by keeping on molecules on the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an avoid problem of other syntheses b/c of off-chip a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fferent ways—can mail you the DNA, but can also keep it on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itro transcription/translation mix: ~$500 for 1.2 mL material, enough for 24 x 50 uL reactions!  All I want to know is did my synthetic construct work.  Here, each reactor is 12 nL, so I have enough for 100,000 reactions!  I wish my device were already made so I can go and test out these various experiments with this devic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label each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luorescence assays: Fraden, monitoring area of bubbles, since chamber height is fixed, can assess concentrations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tools for output, like PCR, cloning, DATA, etc. from starting small amounts of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avoiding chip to world interface problem by keeping on molecules on the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an avoid problem of other syntheses b/c of off-chip a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fferent ways—can mail you the DNA, but can also keep it on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need to talk about how to mak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llow massively parallel synthesis, for massive cost re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maybe bullet point on amount of material?  We’re not getting very much of each oli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tools for output, like PCR, cloning, DATA, etc. from starting small amounts of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avoiding chip to world interface problem by keeping on molecules on the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can avoid problem of other syntheses b/c of off-chip amp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fferent ways—can mail you the DNA, but can also keep it on c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B19-F6BF-4776-99B6-0B26E6CB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D66-20B1-476F-B463-044FF4EE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E97-2A2F-4C98-8C46-9A86E4A8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C62-D708-4B16-A403-A8AD484F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732-FA52-4D0C-B217-6792D3A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A5B-2EBA-45C2-A01F-5DAF532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82B-A4E7-4A58-A75E-7DBCB17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B6C-525A-4280-81D9-65F95A86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8FA-3AAA-45B1-A9C6-740007FD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148-D058-4246-B14D-1E3FD81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214-BCD3-4A11-8559-C90BC7D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ECE-352D-4888-A7A5-F3CBA40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1B8-7181-4393-B821-838AF1469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7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280" y="2362320"/>
            <a:ext cx="7848360" cy="2971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79320"/>
            <a:ext cx="8444160" cy="10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rror-Corrected DNA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5772240"/>
            <a:ext cx="44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eter C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5819760"/>
            <a:ext cx="354348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59400" y="38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8080" y="38480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00640" y="3106800"/>
            <a:ext cx="1892520" cy="148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63720" y="3152880"/>
            <a:ext cx="1855800" cy="139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919680" y="2852640"/>
            <a:ext cx="117936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410440" cy="483552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200400" y="1447920"/>
            <a:ext cx="0" cy="464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6060960"/>
            <a:ext cx="4419720" cy="32220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 parallel 500-nL re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304920" y="1279440"/>
            <a:ext cx="2816280" cy="2225880"/>
            <a:chOff x="304920" y="1279440"/>
            <a:chExt cx="2816280" cy="2225880"/>
          </a:xfrm>
        </p:grpSpPr>
        <p:grpSp>
          <p:nvGrpSpPr>
            <p:cNvPr id="714" name=""/>
            <p:cNvGrpSpPr/>
            <p:nvPr/>
          </p:nvGrpSpPr>
          <p:grpSpPr>
            <a:xfrm>
              <a:off x="369720" y="1828800"/>
              <a:ext cx="2133360" cy="533520"/>
              <a:chOff x="369720" y="1828800"/>
              <a:chExt cx="2133360" cy="533520"/>
            </a:xfrm>
          </p:grpSpPr>
          <p:sp>
            <p:nvSpPr>
              <p:cNvPr id="715" name=""/>
              <p:cNvSpPr/>
              <p:nvPr/>
            </p:nvSpPr>
            <p:spPr>
              <a:xfrm>
                <a:off x="369720" y="182880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22680" y="221004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34040" y="182880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69720" y="2590920"/>
              <a:ext cx="2133360" cy="380880"/>
              <a:chOff x="369720" y="2590920"/>
              <a:chExt cx="2133360" cy="380880"/>
            </a:xfrm>
          </p:grpSpPr>
          <p:sp>
            <p:nvSpPr>
              <p:cNvPr id="719" name=""/>
              <p:cNvSpPr/>
              <p:nvPr/>
            </p:nvSpPr>
            <p:spPr>
              <a:xfrm>
                <a:off x="369720" y="25909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01520" y="2667240"/>
                <a:ext cx="63216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369720" y="3048120"/>
              <a:ext cx="213372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9720" y="3352680"/>
              <a:ext cx="2133720" cy="15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22360" y="2362320"/>
              <a:ext cx="1828800" cy="228600"/>
              <a:chOff x="522360" y="2362320"/>
              <a:chExt cx="1828800" cy="228600"/>
            </a:xfrm>
          </p:grpSpPr>
          <p:sp>
            <p:nvSpPr>
              <p:cNvPr id="724" name=""/>
              <p:cNvSpPr/>
              <p:nvPr/>
            </p:nvSpPr>
            <p:spPr>
              <a:xfrm>
                <a:off x="5223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272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322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367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416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0466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511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522360" y="2819520"/>
              <a:ext cx="1828800" cy="228600"/>
              <a:chOff x="522360" y="2819520"/>
              <a:chExt cx="1828800" cy="228600"/>
            </a:xfrm>
          </p:grpSpPr>
          <p:sp>
            <p:nvSpPr>
              <p:cNvPr id="732" name=""/>
              <p:cNvSpPr/>
              <p:nvPr/>
            </p:nvSpPr>
            <p:spPr>
              <a:xfrm>
                <a:off x="5223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72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322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367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416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466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3511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22360" y="3124080"/>
              <a:ext cx="1828800" cy="228600"/>
              <a:chOff x="522360" y="3124080"/>
              <a:chExt cx="1828800" cy="228600"/>
            </a:xfrm>
          </p:grpSpPr>
          <p:sp>
            <p:nvSpPr>
              <p:cNvPr id="740" name=""/>
              <p:cNvSpPr/>
              <p:nvPr/>
            </p:nvSpPr>
            <p:spPr>
              <a:xfrm>
                <a:off x="5223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72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322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367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416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0466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511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2505960" y="19652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05960" y="25909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05960" y="297180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4920" y="1279440"/>
              <a:ext cx="2438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Fabr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80880" y="3886200"/>
            <a:ext cx="2133720" cy="1981080"/>
            <a:chOff x="380880" y="3886200"/>
            <a:chExt cx="2133720" cy="1981080"/>
          </a:xfrm>
        </p:grpSpPr>
        <p:grpSp>
          <p:nvGrpSpPr>
            <p:cNvPr id="752" name=""/>
            <p:cNvGrpSpPr/>
            <p:nvPr/>
          </p:nvGrpSpPr>
          <p:grpSpPr>
            <a:xfrm>
              <a:off x="380880" y="4876560"/>
              <a:ext cx="2133720" cy="990720"/>
              <a:chOff x="380880" y="4876560"/>
              <a:chExt cx="2133720" cy="99072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380880" y="4876560"/>
                <a:ext cx="2133360" cy="533520"/>
                <a:chOff x="380880" y="4876560"/>
                <a:chExt cx="2133360" cy="53352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80880" y="4876560"/>
                  <a:ext cx="2133360" cy="5335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33840" y="5257800"/>
                  <a:ext cx="789840" cy="152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45200" y="4876560"/>
                  <a:ext cx="784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80880" y="5410080"/>
                <a:ext cx="2133360" cy="380880"/>
                <a:chOff x="380880" y="5410080"/>
                <a:chExt cx="2133360" cy="3808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80880" y="5410080"/>
                  <a:ext cx="2133360" cy="228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012680" y="5486400"/>
                  <a:ext cx="6321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380880" y="5638680"/>
                <a:ext cx="213372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0880" y="5714640"/>
                <a:ext cx="2133720" cy="152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333440" y="388620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5800" y="1589040"/>
            <a:ext cx="2057400" cy="18399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546360" y="1262160"/>
          <a:ext cx="4149720" cy="2014560"/>
        </p:xfrm>
        <a:graphic>
          <a:graphicData uri="http://schemas.openxmlformats.org/drawingml/2006/table">
            <a:tbl>
              <a:tblPr/>
              <a:tblGrid>
                <a:gridCol w="824040"/>
                <a:gridCol w="547560"/>
                <a:gridCol w="685800"/>
                <a:gridCol w="1067040"/>
                <a:gridCol w="1025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li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fying Primer sizes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 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j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128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F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66" name=""/>
          <p:cNvGrpSpPr/>
          <p:nvPr/>
        </p:nvGrpSpPr>
        <p:grpSpPr>
          <a:xfrm>
            <a:off x="228600" y="3303720"/>
            <a:ext cx="8534520" cy="3097080"/>
            <a:chOff x="228600" y="3303720"/>
            <a:chExt cx="8534520" cy="309708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rcRect l="41335" t="0" r="0" b="0"/>
            <a:stretch/>
          </p:blipFill>
          <p:spPr>
            <a:xfrm>
              <a:off x="6438960" y="3303720"/>
              <a:ext cx="232416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3"/>
            <a:stretch/>
          </p:blipFill>
          <p:spPr>
            <a:xfrm>
              <a:off x="228600" y="3863880"/>
              <a:ext cx="281952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4"/>
            <a:stretch/>
          </p:blipFill>
          <p:spPr>
            <a:xfrm>
              <a:off x="3095640" y="3884760"/>
              <a:ext cx="3152880" cy="23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" name=""/>
          <p:cNvSpPr/>
          <p:nvPr/>
        </p:nvSpPr>
        <p:spPr>
          <a:xfrm>
            <a:off x="2628000" y="6485040"/>
            <a:ext cx="38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ng et al. Nucleic Acids Research 35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773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NA Fabrication Platform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780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788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789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9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00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803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04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 rot="5400000">
            <a:off x="6139080" y="4985280"/>
            <a:ext cx="674640" cy="609480"/>
          </a:xfrm>
          <a:prstGeom prst="rightArrow">
            <a:avLst>
              <a:gd name="adj1" fmla="val 50000"/>
              <a:gd name="adj2" fmla="val 276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808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812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8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7010280" y="3276720"/>
            <a:ext cx="2057400" cy="1033920"/>
            <a:chOff x="7010280" y="3276720"/>
            <a:chExt cx="2057400" cy="1033920"/>
          </a:xfrm>
        </p:grpSpPr>
        <p:sp>
          <p:nvSpPr>
            <p:cNvPr id="817" name=""/>
            <p:cNvSpPr/>
            <p:nvPr/>
          </p:nvSpPr>
          <p:spPr>
            <a:xfrm>
              <a:off x="7591680" y="40035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010280" y="3276720"/>
              <a:ext cx="2057400" cy="726840"/>
              <a:chOff x="7010280" y="3276720"/>
              <a:chExt cx="2057400" cy="726840"/>
            </a:xfrm>
          </p:grpSpPr>
          <p:pic>
            <p:nvPicPr>
              <p:cNvPr id="819" name="" descr=""/>
              <p:cNvPicPr/>
              <p:nvPr/>
            </p:nvPicPr>
            <p:blipFill>
              <a:blip r:embed="rId7"/>
              <a:srcRect l="32866" t="0" r="8392" b="52606"/>
              <a:stretch/>
            </p:blipFill>
            <p:spPr>
              <a:xfrm>
                <a:off x="7467480" y="3276720"/>
                <a:ext cx="1600200" cy="72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7010280" y="354636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382320" y="5715000"/>
            <a:ext cx="6778440" cy="337320"/>
            <a:chOff x="382320" y="5715000"/>
            <a:chExt cx="6778440" cy="337320"/>
          </a:xfrm>
        </p:grpSpPr>
        <p:sp>
          <p:nvSpPr>
            <p:cNvPr id="822" name=""/>
            <p:cNvSpPr/>
            <p:nvPr/>
          </p:nvSpPr>
          <p:spPr>
            <a:xfrm>
              <a:off x="5707440" y="571500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OLEC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2320" y="5715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77360" y="5715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191120" y="5867280"/>
              <a:ext cx="1371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1600" y="58672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98160" y="6369120"/>
            <a:ext cx="8201880" cy="399240"/>
            <a:chOff x="398160" y="6369120"/>
            <a:chExt cx="8201880" cy="399240"/>
          </a:xfrm>
        </p:grpSpPr>
        <p:sp>
          <p:nvSpPr>
            <p:cNvPr id="828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8160" y="63691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35960" y="6400800"/>
              <a:ext cx="21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 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5530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34120" y="6629400"/>
              <a:ext cx="2514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114800" y="2405160"/>
            <a:ext cx="1619280" cy="2319120"/>
            <a:chOff x="4114800" y="2405160"/>
            <a:chExt cx="1619280" cy="2319120"/>
          </a:xfrm>
        </p:grpSpPr>
        <p:sp>
          <p:nvSpPr>
            <p:cNvPr id="835" name=""/>
            <p:cNvSpPr/>
            <p:nvPr/>
          </p:nvSpPr>
          <p:spPr>
            <a:xfrm>
              <a:off x="4114800" y="2405160"/>
              <a:ext cx="1619280" cy="23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94160" y="3195720"/>
              <a:ext cx="1096920" cy="1066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4524120" y="3359160"/>
              <a:ext cx="838440" cy="739440"/>
              <a:chOff x="4524120" y="3359160"/>
              <a:chExt cx="838440" cy="739440"/>
            </a:xfrm>
          </p:grpSpPr>
          <p:sp>
            <p:nvSpPr>
              <p:cNvPr id="838" name=""/>
              <p:cNvSpPr/>
              <p:nvPr/>
            </p:nvSpPr>
            <p:spPr>
              <a:xfrm>
                <a:off x="4683240" y="3359160"/>
                <a:ext cx="198360" cy="457200"/>
              </a:xfrm>
              <a:custGeom>
                <a:avLst/>
                <a:gdLst>
                  <a:gd name="textAreaLeft" fmla="*/ 22680 w 198360"/>
                  <a:gd name="textAreaRight" fmla="*/ 175680 w 198360"/>
                  <a:gd name="textAreaTop" fmla="*/ 22680 h 457200"/>
                  <a:gd name="textAreaBottom" fmla="*/ 434520 h 457200"/>
                </a:gdLst>
                <a:ahLst/>
                <a:rect l="textAreaLeft" t="textAreaTop" r="textAreaRight" b="textAreaBottom"/>
                <a:pathLst>
                  <a:path w="21600" h="49735">
                    <a:moveTo>
                      <a:pt x="8550" y="0"/>
                    </a:moveTo>
                    <a:arcTo wR="8550" hR="8550" stAng="16200000" swAng="-5400000"/>
                    <a:lnTo>
                      <a:pt x="0" y="41185"/>
                    </a:lnTo>
                    <a:arcTo wR="8550" hR="8550" stAng="10800000" swAng="-5400000"/>
                    <a:lnTo>
                      <a:pt x="13050" y="49735"/>
                    </a:lnTo>
                    <a:arcTo wR="8550" hR="8550" stAng="5400000" swAng="-5400000"/>
                    <a:lnTo>
                      <a:pt x="21600" y="8550"/>
                    </a:lnTo>
                    <a:arcTo wR="8550" hR="8550" stAng="0" swAng="-5400000"/>
                    <a:close/>
                  </a:path>
                </a:pathLst>
              </a:custGeom>
              <a:solidFill>
                <a:srgbClr val="8ffd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4524120" y="3446640"/>
                <a:ext cx="838440" cy="651960"/>
                <a:chOff x="4524120" y="3446640"/>
                <a:chExt cx="838440" cy="651960"/>
              </a:xfrm>
            </p:grpSpPr>
            <p:grpSp>
              <p:nvGrpSpPr>
                <p:cNvPr id="840" name=""/>
                <p:cNvGrpSpPr/>
                <p:nvPr/>
              </p:nvGrpSpPr>
              <p:grpSpPr>
                <a:xfrm>
                  <a:off x="4527360" y="3562560"/>
                  <a:ext cx="835200" cy="107640"/>
                  <a:chOff x="4527360" y="3562560"/>
                  <a:chExt cx="835200" cy="10764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4527720" y="3562560"/>
                    <a:ext cx="83484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4527360" y="3670200"/>
                    <a:ext cx="8348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4524120" y="3990960"/>
                  <a:ext cx="835200" cy="107640"/>
                  <a:chOff x="4524120" y="3990960"/>
                  <a:chExt cx="835200" cy="10764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4524480" y="3990960"/>
                    <a:ext cx="83484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4524120" y="4098600"/>
                    <a:ext cx="8348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4756320" y="3446640"/>
                  <a:ext cx="56880" cy="109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7" name=""/>
            <p:cNvSpPr/>
            <p:nvPr/>
          </p:nvSpPr>
          <p:spPr>
            <a:xfrm>
              <a:off x="4383360" y="265284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807200" y="23976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rror Correction for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219320" y="1371600"/>
            <a:ext cx="2001600" cy="533520"/>
            <a:chOff x="1219320" y="1371600"/>
            <a:chExt cx="2001600" cy="533520"/>
          </a:xfrm>
        </p:grpSpPr>
        <p:sp>
          <p:nvSpPr>
            <p:cNvPr id="850" name=""/>
            <p:cNvSpPr/>
            <p:nvPr/>
          </p:nvSpPr>
          <p:spPr>
            <a:xfrm>
              <a:off x="1219320" y="137160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30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1100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9224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73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219320" y="3124080"/>
            <a:ext cx="2001600" cy="533520"/>
            <a:chOff x="1219320" y="3124080"/>
            <a:chExt cx="2001600" cy="533520"/>
          </a:xfrm>
        </p:grpSpPr>
        <p:sp>
          <p:nvSpPr>
            <p:cNvPr id="856" name=""/>
            <p:cNvSpPr/>
            <p:nvPr/>
          </p:nvSpPr>
          <p:spPr>
            <a:xfrm>
              <a:off x="1219320" y="312408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3012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11000" y="32385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9224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73120" y="3238560"/>
              <a:ext cx="380520" cy="30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219320" y="4876920"/>
            <a:ext cx="2001600" cy="533160"/>
            <a:chOff x="1219320" y="4876920"/>
            <a:chExt cx="2001600" cy="533160"/>
          </a:xfrm>
        </p:grpSpPr>
        <p:sp>
          <p:nvSpPr>
            <p:cNvPr id="862" name=""/>
            <p:cNvSpPr/>
            <p:nvPr/>
          </p:nvSpPr>
          <p:spPr>
            <a:xfrm>
              <a:off x="1219320" y="4876920"/>
              <a:ext cx="2001600" cy="533160"/>
            </a:xfrm>
            <a:prstGeom prst="rightArrow">
              <a:avLst>
                <a:gd name="adj1" fmla="val 59093"/>
                <a:gd name="adj2" fmla="val 8891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30120" y="4991040"/>
              <a:ext cx="380520" cy="30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11000" y="4991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9224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7312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62120" y="1868400"/>
            <a:ext cx="2001600" cy="4151520"/>
            <a:chOff x="762120" y="1868400"/>
            <a:chExt cx="2001600" cy="4151520"/>
          </a:xfrm>
        </p:grpSpPr>
        <p:grpSp>
          <p:nvGrpSpPr>
            <p:cNvPr id="868" name=""/>
            <p:cNvGrpSpPr/>
            <p:nvPr/>
          </p:nvGrpSpPr>
          <p:grpSpPr>
            <a:xfrm>
              <a:off x="762120" y="1868400"/>
              <a:ext cx="2001600" cy="646200"/>
              <a:chOff x="762120" y="1868400"/>
              <a:chExt cx="2001600" cy="646200"/>
            </a:xfrm>
          </p:grpSpPr>
          <p:grpSp>
            <p:nvGrpSpPr>
              <p:cNvPr id="869" name=""/>
              <p:cNvGrpSpPr/>
              <p:nvPr/>
            </p:nvGrpSpPr>
            <p:grpSpPr>
              <a:xfrm>
                <a:off x="762120" y="1981080"/>
                <a:ext cx="2001600" cy="533520"/>
                <a:chOff x="762120" y="1981080"/>
                <a:chExt cx="2001600" cy="533520"/>
              </a:xfrm>
            </p:grpSpPr>
            <p:sp>
              <p:nvSpPr>
                <p:cNvPr id="870" name=""/>
                <p:cNvSpPr/>
                <p:nvPr/>
              </p:nvSpPr>
              <p:spPr>
                <a:xfrm flipH="1">
                  <a:off x="76212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1228320" y="2124000"/>
                  <a:ext cx="1523160" cy="266760"/>
                  <a:chOff x="1228320" y="2124000"/>
                  <a:chExt cx="1523160" cy="2667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flipH="1">
                    <a:off x="23706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>
                    <a:off x="199008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>
                    <a:off x="16084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>
                    <a:off x="122796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1411200" y="1868400"/>
                <a:ext cx="1160640" cy="154080"/>
                <a:chOff x="1411200" y="1868400"/>
                <a:chExt cx="1160640" cy="1540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4112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97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18448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57184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1" name=""/>
            <p:cNvGrpSpPr/>
            <p:nvPr/>
          </p:nvGrpSpPr>
          <p:grpSpPr>
            <a:xfrm>
              <a:off x="762120" y="3621240"/>
              <a:ext cx="2001600" cy="645840"/>
              <a:chOff x="762120" y="3621240"/>
              <a:chExt cx="2001600" cy="64584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762120" y="3733920"/>
                <a:ext cx="2001600" cy="533160"/>
                <a:chOff x="762120" y="3733920"/>
                <a:chExt cx="2001600" cy="533160"/>
              </a:xfrm>
            </p:grpSpPr>
            <p:sp>
              <p:nvSpPr>
                <p:cNvPr id="883" name=""/>
                <p:cNvSpPr/>
                <p:nvPr/>
              </p:nvSpPr>
              <p:spPr>
                <a:xfrm flipH="1">
                  <a:off x="762120" y="373392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1228320" y="3876480"/>
                  <a:ext cx="1523160" cy="266400"/>
                  <a:chOff x="1228320" y="3876480"/>
                  <a:chExt cx="1523160" cy="2664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flipH="1">
                    <a:off x="237060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1990080" y="387648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160848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>
                    <a:off x="122796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9" name=""/>
              <p:cNvGrpSpPr/>
              <p:nvPr/>
            </p:nvGrpSpPr>
            <p:grpSpPr>
              <a:xfrm>
                <a:off x="1411200" y="3621240"/>
                <a:ext cx="1198800" cy="155160"/>
                <a:chOff x="1411200" y="3621240"/>
                <a:chExt cx="1198800" cy="15516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4112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797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18448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3" name=""/>
                <p:cNvGrpSpPr/>
                <p:nvPr/>
              </p:nvGrpSpPr>
              <p:grpSpPr>
                <a:xfrm>
                  <a:off x="2533680" y="3624120"/>
                  <a:ext cx="76320" cy="152280"/>
                  <a:chOff x="2533680" y="3624120"/>
                  <a:chExt cx="76320" cy="15228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6" name=""/>
            <p:cNvGrpSpPr/>
            <p:nvPr/>
          </p:nvGrpSpPr>
          <p:grpSpPr>
            <a:xfrm>
              <a:off x="762120" y="5373720"/>
              <a:ext cx="2001600" cy="646200"/>
              <a:chOff x="762120" y="5373720"/>
              <a:chExt cx="2001600" cy="64620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762120" y="5486400"/>
                <a:ext cx="2001600" cy="533520"/>
                <a:chOff x="762120" y="5486400"/>
                <a:chExt cx="2001600" cy="533520"/>
              </a:xfrm>
            </p:grpSpPr>
            <p:sp>
              <p:nvSpPr>
                <p:cNvPr id="898" name=""/>
                <p:cNvSpPr/>
                <p:nvPr/>
              </p:nvSpPr>
              <p:spPr>
                <a:xfrm flipH="1">
                  <a:off x="762120" y="548640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1228320" y="5629320"/>
                  <a:ext cx="1523160" cy="266760"/>
                  <a:chOff x="1228320" y="5629320"/>
                  <a:chExt cx="1523160" cy="2667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>
                    <a:off x="2370600" y="5629320"/>
                    <a:ext cx="380520" cy="26676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1990080" y="562932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160848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122796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4" name=""/>
              <p:cNvGrpSpPr/>
              <p:nvPr/>
            </p:nvGrpSpPr>
            <p:grpSpPr>
              <a:xfrm>
                <a:off x="1371600" y="5373720"/>
                <a:ext cx="1238400" cy="155520"/>
                <a:chOff x="1371600" y="5373720"/>
                <a:chExt cx="1238400" cy="15552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2533680" y="5376960"/>
                  <a:ext cx="76320" cy="152280"/>
                  <a:chOff x="2533680" y="5376960"/>
                  <a:chExt cx="76320" cy="152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>
                  <a:off x="179712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18448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1371600" y="5376960"/>
                  <a:ext cx="76320" cy="152280"/>
                  <a:chOff x="1371600" y="5376960"/>
                  <a:chExt cx="76320" cy="15228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13" name=""/>
          <p:cNvGrpSpPr/>
          <p:nvPr/>
        </p:nvGrpSpPr>
        <p:grpSpPr>
          <a:xfrm>
            <a:off x="5999040" y="1371600"/>
            <a:ext cx="2459160" cy="1143000"/>
            <a:chOff x="5999040" y="1371600"/>
            <a:chExt cx="2459160" cy="1143000"/>
          </a:xfrm>
        </p:grpSpPr>
        <p:grpSp>
          <p:nvGrpSpPr>
            <p:cNvPr id="914" name=""/>
            <p:cNvGrpSpPr/>
            <p:nvPr/>
          </p:nvGrpSpPr>
          <p:grpSpPr>
            <a:xfrm>
              <a:off x="6456240" y="1371600"/>
              <a:ext cx="2001960" cy="533520"/>
              <a:chOff x="6456240" y="1371600"/>
              <a:chExt cx="2001960" cy="533520"/>
            </a:xfrm>
          </p:grpSpPr>
          <p:sp>
            <p:nvSpPr>
              <p:cNvPr id="915" name=""/>
              <p:cNvSpPr/>
              <p:nvPr/>
            </p:nvSpPr>
            <p:spPr>
              <a:xfrm>
                <a:off x="6456240" y="137160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67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48280" y="14860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22952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10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5999040" y="1868400"/>
              <a:ext cx="2001600" cy="646200"/>
              <a:chOff x="5999040" y="1868400"/>
              <a:chExt cx="2001600" cy="64620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5999040" y="1981080"/>
                <a:ext cx="2001600" cy="533520"/>
                <a:chOff x="5999040" y="1981080"/>
                <a:chExt cx="2001600" cy="533520"/>
              </a:xfrm>
            </p:grpSpPr>
            <p:sp>
              <p:nvSpPr>
                <p:cNvPr id="922" name=""/>
                <p:cNvSpPr/>
                <p:nvPr/>
              </p:nvSpPr>
              <p:spPr>
                <a:xfrm flipH="1">
                  <a:off x="599904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3" name=""/>
                <p:cNvGrpSpPr/>
                <p:nvPr/>
              </p:nvGrpSpPr>
              <p:grpSpPr>
                <a:xfrm>
                  <a:off x="6465240" y="2124000"/>
                  <a:ext cx="1523160" cy="266760"/>
                  <a:chOff x="6465240" y="2124000"/>
                  <a:chExt cx="1523160" cy="26676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flipH="1">
                    <a:off x="760752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22700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68454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64648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8" name=""/>
              <p:cNvGrpSpPr/>
              <p:nvPr/>
            </p:nvGrpSpPr>
            <p:grpSpPr>
              <a:xfrm>
                <a:off x="6648120" y="1868400"/>
                <a:ext cx="1160640" cy="154080"/>
                <a:chOff x="6648120" y="1868400"/>
                <a:chExt cx="1160640" cy="1540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648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03404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214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80876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3" name=""/>
          <p:cNvSpPr/>
          <p:nvPr/>
        </p:nvSpPr>
        <p:spPr>
          <a:xfrm>
            <a:off x="5562720" y="4680000"/>
            <a:ext cx="3276360" cy="15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pies in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ility of correlated errors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ation (with strand re-partnering) makes more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828960" y="1454040"/>
            <a:ext cx="1447920" cy="493920"/>
            <a:chOff x="3828960" y="1454040"/>
            <a:chExt cx="1447920" cy="493920"/>
          </a:xfrm>
        </p:grpSpPr>
        <p:sp>
          <p:nvSpPr>
            <p:cNvPr id="935" name=""/>
            <p:cNvSpPr/>
            <p:nvPr/>
          </p:nvSpPr>
          <p:spPr>
            <a:xfrm>
              <a:off x="3828960" y="194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56840" y="145404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e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5999040" y="3124080"/>
            <a:ext cx="2459160" cy="1142640"/>
            <a:chOff x="5999040" y="3124080"/>
            <a:chExt cx="2459160" cy="1142640"/>
          </a:xfrm>
        </p:grpSpPr>
        <p:grpSp>
          <p:nvGrpSpPr>
            <p:cNvPr id="938" name=""/>
            <p:cNvGrpSpPr/>
            <p:nvPr/>
          </p:nvGrpSpPr>
          <p:grpSpPr>
            <a:xfrm>
              <a:off x="6456240" y="3124080"/>
              <a:ext cx="2001960" cy="533520"/>
              <a:chOff x="6456240" y="3124080"/>
              <a:chExt cx="2001960" cy="533520"/>
            </a:xfrm>
          </p:grpSpPr>
          <p:sp>
            <p:nvSpPr>
              <p:cNvPr id="939" name=""/>
              <p:cNvSpPr/>
              <p:nvPr/>
            </p:nvSpPr>
            <p:spPr>
              <a:xfrm>
                <a:off x="6456240" y="312408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67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48280" y="323856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22952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10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999040" y="3621240"/>
              <a:ext cx="2001600" cy="645480"/>
              <a:chOff x="5999040" y="3621240"/>
              <a:chExt cx="2001600" cy="64548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999040" y="3733560"/>
                <a:ext cx="2001600" cy="533160"/>
                <a:chOff x="5999040" y="3733560"/>
                <a:chExt cx="2001600" cy="533160"/>
              </a:xfrm>
            </p:grpSpPr>
            <p:sp>
              <p:nvSpPr>
                <p:cNvPr id="946" name=""/>
                <p:cNvSpPr/>
                <p:nvPr/>
              </p:nvSpPr>
              <p:spPr>
                <a:xfrm flipH="1">
                  <a:off x="5999040" y="373356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6465240" y="3876120"/>
                  <a:ext cx="1523160" cy="266400"/>
                  <a:chOff x="6465240" y="3876120"/>
                  <a:chExt cx="1523160" cy="26640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 flipH="1">
                    <a:off x="760752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7227000" y="387612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>
                    <a:off x="684540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>
                    <a:off x="646488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2" name=""/>
              <p:cNvGrpSpPr/>
              <p:nvPr/>
            </p:nvGrpSpPr>
            <p:grpSpPr>
              <a:xfrm>
                <a:off x="6648120" y="3621240"/>
                <a:ext cx="1160640" cy="153360"/>
                <a:chOff x="6648120" y="3621240"/>
                <a:chExt cx="1160640" cy="1533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648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03404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214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808760" y="362268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7" name=""/>
          <p:cNvGrpSpPr/>
          <p:nvPr/>
        </p:nvGrpSpPr>
        <p:grpSpPr>
          <a:xfrm>
            <a:off x="3828960" y="3211560"/>
            <a:ext cx="1447920" cy="493560"/>
            <a:chOff x="3828960" y="3211560"/>
            <a:chExt cx="1447920" cy="493560"/>
          </a:xfrm>
        </p:grpSpPr>
        <p:sp>
          <p:nvSpPr>
            <p:cNvPr id="958" name=""/>
            <p:cNvSpPr/>
            <p:nvPr/>
          </p:nvSpPr>
          <p:spPr>
            <a:xfrm>
              <a:off x="3828960" y="370512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7560" y="3211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d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828960" y="4964040"/>
            <a:ext cx="1447920" cy="493920"/>
            <a:chOff x="3828960" y="4964040"/>
            <a:chExt cx="1447920" cy="493920"/>
          </a:xfrm>
        </p:grpSpPr>
        <p:sp>
          <p:nvSpPr>
            <p:cNvPr id="961" name=""/>
            <p:cNvSpPr/>
            <p:nvPr/>
          </p:nvSpPr>
          <p:spPr>
            <a:xfrm>
              <a:off x="3828960" y="545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99160" y="49640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emo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A Error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1582560" y="6027840"/>
            <a:ext cx="2147760" cy="132840"/>
            <a:chOff x="1582560" y="6027840"/>
            <a:chExt cx="2147760" cy="132840"/>
          </a:xfrm>
        </p:grpSpPr>
        <p:sp>
          <p:nvSpPr>
            <p:cNvPr id="965" name=""/>
            <p:cNvSpPr/>
            <p:nvPr/>
          </p:nvSpPr>
          <p:spPr>
            <a:xfrm>
              <a:off x="1582560" y="6027840"/>
              <a:ext cx="21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582560" y="6160680"/>
              <a:ext cx="2147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577520" y="1147680"/>
            <a:ext cx="2157120" cy="808920"/>
            <a:chOff x="1577520" y="1147680"/>
            <a:chExt cx="2157120" cy="808920"/>
          </a:xfrm>
        </p:grpSpPr>
        <p:grpSp>
          <p:nvGrpSpPr>
            <p:cNvPr id="968" name=""/>
            <p:cNvGrpSpPr/>
            <p:nvPr/>
          </p:nvGrpSpPr>
          <p:grpSpPr>
            <a:xfrm>
              <a:off x="1586160" y="1291320"/>
              <a:ext cx="2148480" cy="133200"/>
              <a:chOff x="1586160" y="1291320"/>
              <a:chExt cx="2148480" cy="133200"/>
            </a:xfrm>
          </p:grpSpPr>
          <p:sp>
            <p:nvSpPr>
              <p:cNvPr id="969" name=""/>
              <p:cNvSpPr/>
              <p:nvPr/>
            </p:nvSpPr>
            <p:spPr>
              <a:xfrm>
                <a:off x="1586520" y="1291320"/>
                <a:ext cx="2148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1586160" y="1424520"/>
                <a:ext cx="2148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577520" y="1823040"/>
              <a:ext cx="2148480" cy="133560"/>
              <a:chOff x="1577520" y="1823040"/>
              <a:chExt cx="2148480" cy="133560"/>
            </a:xfrm>
          </p:grpSpPr>
          <p:sp>
            <p:nvSpPr>
              <p:cNvPr id="972" name=""/>
              <p:cNvSpPr/>
              <p:nvPr/>
            </p:nvSpPr>
            <p:spPr>
              <a:xfrm>
                <a:off x="1577880" y="1823040"/>
                <a:ext cx="2148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577520" y="1956600"/>
                <a:ext cx="2148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2174760" y="1147680"/>
              <a:ext cx="146880" cy="1357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655720" y="2241720"/>
            <a:ext cx="0" cy="104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976480" y="26049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 M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577880" y="3363840"/>
            <a:ext cx="2156400" cy="917640"/>
            <a:chOff x="1577880" y="3363840"/>
            <a:chExt cx="2156400" cy="917640"/>
          </a:xfrm>
        </p:grpSpPr>
        <p:sp>
          <p:nvSpPr>
            <p:cNvPr id="978" name=""/>
            <p:cNvSpPr/>
            <p:nvPr/>
          </p:nvSpPr>
          <p:spPr>
            <a:xfrm>
              <a:off x="1987200" y="3363840"/>
              <a:ext cx="511200" cy="567720"/>
            </a:xfrm>
            <a:custGeom>
              <a:avLst/>
              <a:gdLst>
                <a:gd name="textAreaLeft" fmla="*/ 59040 w 511200"/>
                <a:gd name="textAreaRight" fmla="*/ 452160 w 511200"/>
                <a:gd name="textAreaTop" fmla="*/ 59040 h 567720"/>
                <a:gd name="textAreaBottom" fmla="*/ 508680 h 567720"/>
              </a:gdLst>
              <a:ahLst/>
              <a:rect l="textAreaLeft" t="textAreaTop" r="textAreaRight" b="textAreaBottom"/>
              <a:pathLst>
                <a:path w="21600" h="23986">
                  <a:moveTo>
                    <a:pt x="8550" y="0"/>
                  </a:moveTo>
                  <a:arcTo wR="8550" hR="8550" stAng="16200000" swAng="-5400000"/>
                  <a:lnTo>
                    <a:pt x="0" y="15436"/>
                  </a:lnTo>
                  <a:arcTo wR="8550" hR="8550" stAng="10800000" swAng="-5400000"/>
                  <a:lnTo>
                    <a:pt x="13050" y="23986"/>
                  </a:lnTo>
                  <a:arcTo wR="8550" hR="8550" stAng="5400000" swAng="-5400000"/>
                  <a:lnTo>
                    <a:pt x="21600" y="8550"/>
                  </a:lnTo>
                  <a:arcTo wR="8550" hR="8550" stAng="0" swAng="-5400000"/>
                  <a:close/>
                </a:path>
              </a:pathLst>
            </a:custGeom>
            <a:solidFill>
              <a:srgbClr val="8ffd7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1577880" y="3472200"/>
              <a:ext cx="2156400" cy="809280"/>
              <a:chOff x="1577880" y="3472200"/>
              <a:chExt cx="2156400" cy="8092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1586520" y="3615840"/>
                <a:ext cx="2147760" cy="133200"/>
                <a:chOff x="1586520" y="3615840"/>
                <a:chExt cx="2147760" cy="13320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586520" y="3615840"/>
                  <a:ext cx="21477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1586520" y="3749040"/>
                  <a:ext cx="21477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77880" y="4147920"/>
                <a:ext cx="2147760" cy="133560"/>
                <a:chOff x="1577880" y="4147920"/>
                <a:chExt cx="2147760" cy="13356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77880" y="4147920"/>
                  <a:ext cx="21477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1577880" y="4281480"/>
                  <a:ext cx="21477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2174760" y="3472200"/>
                <a:ext cx="14688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7" name=""/>
          <p:cNvSpPr/>
          <p:nvPr/>
        </p:nvSpPr>
        <p:spPr>
          <a:xfrm>
            <a:off x="2655720" y="4608360"/>
            <a:ext cx="0" cy="104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79000" y="472284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S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63691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rror-free D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41320" y="6400800"/>
            <a:ext cx="25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NAR 32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715000" y="3429000"/>
            <a:ext cx="2895480" cy="1752480"/>
            <a:chOff x="5715000" y="3429000"/>
            <a:chExt cx="2895480" cy="1752480"/>
          </a:xfrm>
        </p:grpSpPr>
        <p:sp>
          <p:nvSpPr>
            <p:cNvPr id="992" name=""/>
            <p:cNvSpPr/>
            <p:nvPr/>
          </p:nvSpPr>
          <p:spPr>
            <a:xfrm>
              <a:off x="5715000" y="3429000"/>
              <a:ext cx="2895480" cy="1752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39000" y="3619440"/>
              <a:ext cx="2247840" cy="1373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err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se pai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 rot="19427400">
            <a:off x="4419720" y="5079600"/>
            <a:ext cx="1752480" cy="617400"/>
          </a:xfrm>
          <a:prstGeom prst="rightArrow">
            <a:avLst>
              <a:gd name="adj1" fmla="val 50000"/>
              <a:gd name="adj2" fmla="val 70962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997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000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NA Fabrication Platform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004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008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012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013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17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3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24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27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8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 rot="5400000">
            <a:off x="6139080" y="4985280"/>
            <a:ext cx="674640" cy="609480"/>
          </a:xfrm>
          <a:prstGeom prst="rightArrow">
            <a:avLst>
              <a:gd name="adj1" fmla="val 50000"/>
              <a:gd name="adj2" fmla="val 276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32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36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3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7010280" y="3276720"/>
            <a:ext cx="2057400" cy="1033920"/>
            <a:chOff x="7010280" y="3276720"/>
            <a:chExt cx="2057400" cy="1033920"/>
          </a:xfrm>
        </p:grpSpPr>
        <p:sp>
          <p:nvSpPr>
            <p:cNvPr id="1041" name=""/>
            <p:cNvSpPr/>
            <p:nvPr/>
          </p:nvSpPr>
          <p:spPr>
            <a:xfrm>
              <a:off x="7591680" y="40035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7010280" y="3276720"/>
              <a:ext cx="2057400" cy="726840"/>
              <a:chOff x="7010280" y="3276720"/>
              <a:chExt cx="2057400" cy="726840"/>
            </a:xfrm>
          </p:grpSpPr>
          <p:pic>
            <p:nvPicPr>
              <p:cNvPr id="1043" name="" descr=""/>
              <p:cNvPicPr/>
              <p:nvPr/>
            </p:nvPicPr>
            <p:blipFill>
              <a:blip r:embed="rId7"/>
              <a:srcRect l="32866" t="0" r="8392" b="52606"/>
              <a:stretch/>
            </p:blipFill>
            <p:spPr>
              <a:xfrm>
                <a:off x="7467480" y="3276720"/>
                <a:ext cx="1600200" cy="72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044" name=""/>
              <p:cNvSpPr/>
              <p:nvPr/>
            </p:nvSpPr>
            <p:spPr>
              <a:xfrm>
                <a:off x="7010280" y="354636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382320" y="5715000"/>
            <a:ext cx="6778440" cy="337320"/>
            <a:chOff x="382320" y="5715000"/>
            <a:chExt cx="6778440" cy="337320"/>
          </a:xfrm>
        </p:grpSpPr>
        <p:sp>
          <p:nvSpPr>
            <p:cNvPr id="1046" name=""/>
            <p:cNvSpPr/>
            <p:nvPr/>
          </p:nvSpPr>
          <p:spPr>
            <a:xfrm>
              <a:off x="5707440" y="571500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OLEC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2320" y="5715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77360" y="5715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91120" y="5867280"/>
              <a:ext cx="1371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71600" y="58672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8160" y="6369120"/>
            <a:ext cx="8201880" cy="399240"/>
            <a:chOff x="398160" y="6369120"/>
            <a:chExt cx="8201880" cy="399240"/>
          </a:xfrm>
        </p:grpSpPr>
        <p:sp>
          <p:nvSpPr>
            <p:cNvPr id="1052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98160" y="63691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35960" y="6400800"/>
              <a:ext cx="21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 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71600" y="65530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34120" y="6629400"/>
              <a:ext cx="2514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743200" y="2666880"/>
            <a:ext cx="4572000" cy="2438640"/>
            <a:chOff x="2743200" y="2666880"/>
            <a:chExt cx="4572000" cy="2438640"/>
          </a:xfrm>
        </p:grpSpPr>
        <p:grpSp>
          <p:nvGrpSpPr>
            <p:cNvPr id="1059" name=""/>
            <p:cNvGrpSpPr/>
            <p:nvPr/>
          </p:nvGrpSpPr>
          <p:grpSpPr>
            <a:xfrm>
              <a:off x="5638680" y="2743200"/>
              <a:ext cx="1676520" cy="2362320"/>
              <a:chOff x="5638680" y="2743200"/>
              <a:chExt cx="1676520" cy="2362320"/>
            </a:xfrm>
          </p:grpSpPr>
          <p:sp>
            <p:nvSpPr>
              <p:cNvPr id="1060" name=""/>
              <p:cNvSpPr/>
              <p:nvPr/>
            </p:nvSpPr>
            <p:spPr>
              <a:xfrm>
                <a:off x="5638680" y="2743200"/>
                <a:ext cx="167652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1" name="" descr=""/>
              <p:cNvPicPr/>
              <p:nvPr/>
            </p:nvPicPr>
            <p:blipFill>
              <a:blip r:embed="rId9"/>
              <a:srcRect l="0" t="2645" r="48869" b="65632"/>
              <a:stretch/>
            </p:blipFill>
            <p:spPr>
              <a:xfrm>
                <a:off x="5854680" y="3081240"/>
                <a:ext cx="1241280" cy="129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062" name=""/>
              <p:cNvSpPr/>
              <p:nvPr/>
            </p:nvSpPr>
            <p:spPr>
              <a:xfrm>
                <a:off x="5883480" y="4395960"/>
                <a:ext cx="1217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larger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064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429000" y="1309680"/>
            <a:ext cx="457200" cy="130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86200" y="1309680"/>
            <a:ext cx="455760" cy="130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43400" y="1309680"/>
            <a:ext cx="455760" cy="130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2040" y="1309680"/>
            <a:ext cx="455760" cy="1303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257800" y="1309680"/>
            <a:ext cx="455760" cy="130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00400" y="1614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p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33920" y="1233360"/>
            <a:ext cx="76176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7018200" y="2514600"/>
            <a:ext cx="1668600" cy="36576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304920" y="2595600"/>
            <a:ext cx="57909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079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082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NA Fabrication Platform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086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090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094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095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8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5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06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109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0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 rot="5400000">
            <a:off x="6139080" y="4985280"/>
            <a:ext cx="674640" cy="609480"/>
          </a:xfrm>
          <a:prstGeom prst="rightArrow">
            <a:avLst>
              <a:gd name="adj1" fmla="val 50000"/>
              <a:gd name="adj2" fmla="val 276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114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118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010280" y="3276720"/>
            <a:ext cx="2057400" cy="1033920"/>
            <a:chOff x="7010280" y="3276720"/>
            <a:chExt cx="2057400" cy="1033920"/>
          </a:xfrm>
        </p:grpSpPr>
        <p:sp>
          <p:nvSpPr>
            <p:cNvPr id="1123" name=""/>
            <p:cNvSpPr/>
            <p:nvPr/>
          </p:nvSpPr>
          <p:spPr>
            <a:xfrm>
              <a:off x="7591680" y="40035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7010280" y="3276720"/>
              <a:ext cx="2057400" cy="726840"/>
              <a:chOff x="7010280" y="3276720"/>
              <a:chExt cx="2057400" cy="72684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7"/>
              <a:srcRect l="32866" t="0" r="8392" b="52606"/>
              <a:stretch/>
            </p:blipFill>
            <p:spPr>
              <a:xfrm>
                <a:off x="7467480" y="3276720"/>
                <a:ext cx="1600200" cy="72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7010280" y="354636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382320" y="5715000"/>
            <a:ext cx="6778440" cy="337320"/>
            <a:chOff x="382320" y="5715000"/>
            <a:chExt cx="6778440" cy="337320"/>
          </a:xfrm>
        </p:grpSpPr>
        <p:sp>
          <p:nvSpPr>
            <p:cNvPr id="1128" name=""/>
            <p:cNvSpPr/>
            <p:nvPr/>
          </p:nvSpPr>
          <p:spPr>
            <a:xfrm>
              <a:off x="5707440" y="571500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OLEC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2320" y="5715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77360" y="5715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91120" y="5867280"/>
              <a:ext cx="1371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71600" y="58672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98160" y="6369120"/>
            <a:ext cx="8201880" cy="399240"/>
            <a:chOff x="398160" y="6369120"/>
            <a:chExt cx="8201880" cy="399240"/>
          </a:xfrm>
        </p:grpSpPr>
        <p:sp>
          <p:nvSpPr>
            <p:cNvPr id="1134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8160" y="63691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35960" y="6400800"/>
              <a:ext cx="21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 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71600" y="65530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34120" y="6629400"/>
              <a:ext cx="2514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2743200" y="2666880"/>
            <a:ext cx="6248520" cy="3810240"/>
            <a:chOff x="2743200" y="2666880"/>
            <a:chExt cx="6248520" cy="3810240"/>
          </a:xfrm>
        </p:grpSpPr>
        <p:grpSp>
          <p:nvGrpSpPr>
            <p:cNvPr id="1141" name=""/>
            <p:cNvGrpSpPr/>
            <p:nvPr/>
          </p:nvGrpSpPr>
          <p:grpSpPr>
            <a:xfrm>
              <a:off x="7391520" y="4114800"/>
              <a:ext cx="1600200" cy="2362320"/>
              <a:chOff x="7391520" y="4114800"/>
              <a:chExt cx="1600200" cy="23623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391520" y="4114800"/>
                <a:ext cx="160020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7489800" y="4454640"/>
                <a:ext cx="1433520" cy="1796040"/>
                <a:chOff x="7489800" y="4454640"/>
                <a:chExt cx="1433520" cy="1796040"/>
              </a:xfrm>
            </p:grpSpPr>
            <p:pic>
              <p:nvPicPr>
                <p:cNvPr id="11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42080" y="4454640"/>
                  <a:ext cx="112896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5" name=""/>
                <p:cNvSpPr/>
                <p:nvPr/>
              </p:nvSpPr>
              <p:spPr>
                <a:xfrm>
                  <a:off x="7489800" y="5943600"/>
                  <a:ext cx="143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rebuchet MS"/>
                    </a:rPr>
                    <a:t>express/ass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6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gene and protein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9480" y="6080040"/>
            <a:ext cx="502920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rallel synthesis of three genes followed by expression of fluorescent protein (dye simul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438280" cy="19206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7924680" y="25146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6629400" y="2971800"/>
            <a:ext cx="129528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381880" y="297180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629400" y="5911920"/>
            <a:ext cx="2438280" cy="68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nthetic EGFP observation by confocal fluorescence microscop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6248160" cy="42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2593080" y="1704960"/>
            <a:ext cx="39448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. Joseph Jac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vid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son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Franco Cer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Georg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. Shuguang Z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 Media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Bits and Atoms (N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0670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anks to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6324480" y="5918040"/>
            <a:ext cx="259092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28760" y="3174840"/>
            <a:ext cx="2419560" cy="1447920"/>
            <a:chOff x="2228760" y="3174840"/>
            <a:chExt cx="2419560" cy="1447920"/>
          </a:xfrm>
        </p:grpSpPr>
        <p:sp>
          <p:nvSpPr>
            <p:cNvPr id="58" name=""/>
            <p:cNvSpPr/>
            <p:nvPr/>
          </p:nvSpPr>
          <p:spPr>
            <a:xfrm>
              <a:off x="3124080" y="3174840"/>
              <a:ext cx="1524240" cy="1447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228760" y="3276360"/>
              <a:ext cx="2001960" cy="533520"/>
              <a:chOff x="2228760" y="3276360"/>
              <a:chExt cx="2001960" cy="533520"/>
            </a:xfrm>
          </p:grpSpPr>
          <p:sp>
            <p:nvSpPr>
              <p:cNvPr id="60" name=""/>
              <p:cNvSpPr/>
              <p:nvPr/>
            </p:nvSpPr>
            <p:spPr>
              <a:xfrm>
                <a:off x="2228760" y="327636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39920" y="339084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20800" y="339084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02040" y="339084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382920" y="339084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1558800" y="262080"/>
            <a:ext cx="59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NA and a few handy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09680" y="1371600"/>
            <a:ext cx="2001960" cy="533520"/>
            <a:chOff x="2209680" y="1371600"/>
            <a:chExt cx="2001960" cy="533520"/>
          </a:xfrm>
        </p:grpSpPr>
        <p:sp>
          <p:nvSpPr>
            <p:cNvPr id="67" name=""/>
            <p:cNvSpPr/>
            <p:nvPr/>
          </p:nvSpPr>
          <p:spPr>
            <a:xfrm>
              <a:off x="2209680" y="1371600"/>
              <a:ext cx="2001960" cy="533520"/>
            </a:xfrm>
            <a:prstGeom prst="rightArrow">
              <a:avLst>
                <a:gd name="adj1" fmla="val 59093"/>
                <a:gd name="adj2" fmla="val 88875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084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01720" y="148608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296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384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398640" y="358128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ase 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pies)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28760" y="3168720"/>
            <a:ext cx="2800440" cy="1447560"/>
            <a:chOff x="2228760" y="3168720"/>
            <a:chExt cx="2800440" cy="1447560"/>
          </a:xfrm>
        </p:grpSpPr>
        <p:sp>
          <p:nvSpPr>
            <p:cNvPr id="74" name=""/>
            <p:cNvSpPr/>
            <p:nvPr/>
          </p:nvSpPr>
          <p:spPr>
            <a:xfrm>
              <a:off x="3505320" y="3168720"/>
              <a:ext cx="1523880" cy="1447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3781440"/>
              <a:ext cx="0" cy="151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28760" y="3276360"/>
              <a:ext cx="2343240" cy="533160"/>
              <a:chOff x="2228760" y="3276360"/>
              <a:chExt cx="2343240" cy="533160"/>
            </a:xfrm>
          </p:grpSpPr>
          <p:sp>
            <p:nvSpPr>
              <p:cNvPr id="77" name=""/>
              <p:cNvSpPr/>
              <p:nvPr/>
            </p:nvSpPr>
            <p:spPr>
              <a:xfrm>
                <a:off x="2228760" y="3276360"/>
                <a:ext cx="2343240" cy="533160"/>
              </a:xfrm>
              <a:prstGeom prst="rightArrow">
                <a:avLst>
                  <a:gd name="adj1" fmla="val 58926"/>
                  <a:gd name="adj2" fmla="val 95062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7208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3992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20800" y="33904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0204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38292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2228760" y="3174840"/>
            <a:ext cx="3181320" cy="1447920"/>
            <a:chOff x="2228760" y="3174840"/>
            <a:chExt cx="3181320" cy="1447920"/>
          </a:xfrm>
        </p:grpSpPr>
        <p:sp>
          <p:nvSpPr>
            <p:cNvPr id="84" name=""/>
            <p:cNvSpPr/>
            <p:nvPr/>
          </p:nvSpPr>
          <p:spPr>
            <a:xfrm>
              <a:off x="3886200" y="3174840"/>
              <a:ext cx="1523880" cy="1447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56000" y="3781440"/>
              <a:ext cx="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228760" y="3276360"/>
              <a:ext cx="2800440" cy="533520"/>
              <a:chOff x="2228760" y="3276360"/>
              <a:chExt cx="2800440" cy="533520"/>
            </a:xfrm>
          </p:grpSpPr>
          <p:sp>
            <p:nvSpPr>
              <p:cNvPr id="87" name=""/>
              <p:cNvSpPr/>
              <p:nvPr/>
            </p:nvSpPr>
            <p:spPr>
              <a:xfrm>
                <a:off x="2228760" y="3276360"/>
                <a:ext cx="2800440" cy="533520"/>
              </a:xfrm>
              <a:prstGeom prst="rightArrow">
                <a:avLst>
                  <a:gd name="adj1" fmla="val 58926"/>
                  <a:gd name="adj2" fmla="val 97009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39920" y="33908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20800" y="339084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002040" y="33908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2920" y="33908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72080" y="338436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152960" y="338436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62520" y="3781440"/>
              <a:ext cx="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28760" y="3168720"/>
            <a:ext cx="3562560" cy="1447560"/>
            <a:chOff x="2228760" y="3168720"/>
            <a:chExt cx="3562560" cy="1447560"/>
          </a:xfrm>
        </p:grpSpPr>
        <p:sp>
          <p:nvSpPr>
            <p:cNvPr id="96" name=""/>
            <p:cNvSpPr/>
            <p:nvPr/>
          </p:nvSpPr>
          <p:spPr>
            <a:xfrm>
              <a:off x="4267080" y="3168720"/>
              <a:ext cx="1524240" cy="1447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228760" y="3276360"/>
              <a:ext cx="3105360" cy="533160"/>
              <a:chOff x="2228760" y="3276360"/>
              <a:chExt cx="3105360" cy="533160"/>
            </a:xfrm>
          </p:grpSpPr>
          <p:sp>
            <p:nvSpPr>
              <p:cNvPr id="98" name=""/>
              <p:cNvSpPr/>
              <p:nvPr/>
            </p:nvSpPr>
            <p:spPr>
              <a:xfrm>
                <a:off x="2228760" y="3276360"/>
                <a:ext cx="3105360" cy="533160"/>
              </a:xfrm>
              <a:prstGeom prst="rightArrow">
                <a:avLst>
                  <a:gd name="adj1" fmla="val 56546"/>
                  <a:gd name="adj2" fmla="val 91411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39920" y="33904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2116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02040" y="33904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82920" y="33904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72080" y="338400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52960" y="338400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33840" y="338400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962520" y="3781440"/>
              <a:ext cx="780840" cy="151920"/>
              <a:chOff x="3962520" y="3781440"/>
              <a:chExt cx="780840" cy="151920"/>
            </a:xfrm>
          </p:grpSpPr>
          <p:sp>
            <p:nvSpPr>
              <p:cNvPr id="107" name=""/>
              <p:cNvSpPr/>
              <p:nvPr/>
            </p:nvSpPr>
            <p:spPr>
              <a:xfrm>
                <a:off x="4743360" y="3781440"/>
                <a:ext cx="0" cy="151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62520" y="3781440"/>
                <a:ext cx="0" cy="151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9880" y="3781440"/>
                <a:ext cx="0" cy="151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752480" y="3781440"/>
            <a:ext cx="3600720" cy="657000"/>
            <a:chOff x="1752480" y="3781440"/>
            <a:chExt cx="3600720" cy="657000"/>
          </a:xfrm>
        </p:grpSpPr>
        <p:grpSp>
          <p:nvGrpSpPr>
            <p:cNvPr id="111" name=""/>
            <p:cNvGrpSpPr/>
            <p:nvPr/>
          </p:nvGrpSpPr>
          <p:grpSpPr>
            <a:xfrm>
              <a:off x="1752480" y="3781440"/>
              <a:ext cx="3600720" cy="657000"/>
              <a:chOff x="1752480" y="3781440"/>
              <a:chExt cx="3600720" cy="65700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1752480" y="3905280"/>
                <a:ext cx="3600720" cy="533160"/>
              </a:xfrm>
              <a:prstGeom prst="rightArrow">
                <a:avLst>
                  <a:gd name="adj1" fmla="val 60120"/>
                  <a:gd name="adj2" fmla="val 79917"/>
                </a:avLst>
              </a:prstGeom>
              <a:solidFill>
                <a:srgbClr val="ffb3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421000" y="3781440"/>
                <a:ext cx="1160280" cy="153360"/>
                <a:chOff x="2421000" y="3781440"/>
                <a:chExt cx="1160280" cy="153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1000" y="37814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06560" y="37814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193920" y="37814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581280" y="378288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2238480" y="4029120"/>
              <a:ext cx="3063600" cy="269640"/>
              <a:chOff x="2238480" y="4029120"/>
              <a:chExt cx="3063600" cy="2696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238480" y="4029120"/>
                <a:ext cx="1523880" cy="266400"/>
                <a:chOff x="2238480" y="4029120"/>
                <a:chExt cx="1523880" cy="26640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3381480" y="402912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3000600" y="402912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2618640" y="4029120"/>
                  <a:ext cx="38124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2238480" y="402912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778200" y="4032000"/>
                <a:ext cx="1523880" cy="266760"/>
                <a:chOff x="3778200" y="4032000"/>
                <a:chExt cx="1523880" cy="266760"/>
              </a:xfrm>
            </p:grpSpPr>
            <p:sp>
              <p:nvSpPr>
                <p:cNvPr id="125" name=""/>
                <p:cNvSpPr/>
                <p:nvPr/>
              </p:nvSpPr>
              <p:spPr>
                <a:xfrm flipH="1">
                  <a:off x="4921200" y="403200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4540320" y="403200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158360" y="4032000"/>
                  <a:ext cx="38124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3778200" y="403200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6628680" y="562284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S stic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s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525780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52480" y="5394240"/>
            <a:ext cx="3600720" cy="1158840"/>
            <a:chOff x="1752480" y="5394240"/>
            <a:chExt cx="3600720" cy="1158840"/>
          </a:xfrm>
        </p:grpSpPr>
        <p:grpSp>
          <p:nvGrpSpPr>
            <p:cNvPr id="132" name=""/>
            <p:cNvGrpSpPr/>
            <p:nvPr/>
          </p:nvGrpSpPr>
          <p:grpSpPr>
            <a:xfrm>
              <a:off x="3543120" y="5895720"/>
              <a:ext cx="76320" cy="152280"/>
              <a:chOff x="3543120" y="5895720"/>
              <a:chExt cx="763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3543480" y="5895720"/>
                <a:ext cx="7596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543120" y="5895720"/>
                <a:ext cx="7596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228760" y="5394240"/>
              <a:ext cx="3105360" cy="533520"/>
              <a:chOff x="2228760" y="5394240"/>
              <a:chExt cx="3105360" cy="533520"/>
            </a:xfrm>
          </p:grpSpPr>
          <p:sp>
            <p:nvSpPr>
              <p:cNvPr id="136" name=""/>
              <p:cNvSpPr/>
              <p:nvPr/>
            </p:nvSpPr>
            <p:spPr>
              <a:xfrm>
                <a:off x="2228760" y="5394240"/>
                <a:ext cx="3105360" cy="533520"/>
              </a:xfrm>
              <a:prstGeom prst="rightArrow">
                <a:avLst>
                  <a:gd name="adj1" fmla="val 56546"/>
                  <a:gd name="adj2" fmla="val 91350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39920" y="550872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21160" y="550872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02040" y="550872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82920" y="550872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72080" y="55022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52960" y="55022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33840" y="550224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962520" y="5898960"/>
              <a:ext cx="780840" cy="152280"/>
              <a:chOff x="3962520" y="5898960"/>
              <a:chExt cx="780840" cy="152280"/>
            </a:xfrm>
          </p:grpSpPr>
          <p:sp>
            <p:nvSpPr>
              <p:cNvPr id="145" name=""/>
              <p:cNvSpPr/>
              <p:nvPr/>
            </p:nvSpPr>
            <p:spPr>
              <a:xfrm>
                <a:off x="4743360" y="5898960"/>
                <a:ext cx="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62520" y="5898960"/>
                <a:ext cx="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49880" y="5898960"/>
                <a:ext cx="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H="1">
              <a:off x="1752480" y="6019560"/>
              <a:ext cx="3600720" cy="533520"/>
            </a:xfrm>
            <a:prstGeom prst="rightArrow">
              <a:avLst>
                <a:gd name="adj1" fmla="val 60120"/>
                <a:gd name="adj2" fmla="val 79863"/>
              </a:avLst>
            </a:prstGeom>
            <a:solidFill>
              <a:srgbClr val="ffb3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21000" y="5895720"/>
              <a:ext cx="0" cy="152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5895720"/>
              <a:ext cx="0" cy="152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3920" y="5895720"/>
              <a:ext cx="0" cy="152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38480" y="6146640"/>
              <a:ext cx="3063600" cy="269640"/>
              <a:chOff x="2238480" y="6146640"/>
              <a:chExt cx="3063600" cy="2696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238480" y="6146640"/>
                <a:ext cx="1523880" cy="266400"/>
                <a:chOff x="2238480" y="6146640"/>
                <a:chExt cx="1523880" cy="2664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3381480" y="614664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000600" y="614664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618640" y="6146640"/>
                  <a:ext cx="38124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2238480" y="6146640"/>
                  <a:ext cx="380880" cy="26640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78200" y="6149520"/>
                <a:ext cx="1523880" cy="266760"/>
                <a:chOff x="3778200" y="6149520"/>
                <a:chExt cx="1523880" cy="26676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4921200" y="614952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4540320" y="614952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158360" y="6149520"/>
                  <a:ext cx="38124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778200" y="6149520"/>
                  <a:ext cx="380880" cy="266760"/>
                </a:xfrm>
                <a:prstGeom prst="rect">
                  <a:avLst/>
                </a:prstGeom>
                <a:solidFill>
                  <a:srgbClr val="ffb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395520" y="5514840"/>
              <a:ext cx="381240" cy="284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752480" y="1471680"/>
            <a:ext cx="7140240" cy="1042200"/>
            <a:chOff x="1752480" y="1471680"/>
            <a:chExt cx="7140240" cy="1042200"/>
          </a:xfrm>
        </p:grpSpPr>
        <p:grpSp>
          <p:nvGrpSpPr>
            <p:cNvPr id="165" name=""/>
            <p:cNvGrpSpPr/>
            <p:nvPr/>
          </p:nvGrpSpPr>
          <p:grpSpPr>
            <a:xfrm>
              <a:off x="1752480" y="1868400"/>
              <a:ext cx="2001600" cy="645480"/>
              <a:chOff x="1752480" y="1868400"/>
              <a:chExt cx="2001600" cy="64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752480" y="1980720"/>
                <a:ext cx="2001600" cy="533160"/>
                <a:chOff x="1752480" y="1980720"/>
                <a:chExt cx="2001600" cy="533160"/>
              </a:xfrm>
            </p:grpSpPr>
            <p:sp>
              <p:nvSpPr>
                <p:cNvPr id="167" name=""/>
                <p:cNvSpPr/>
                <p:nvPr/>
              </p:nvSpPr>
              <p:spPr>
                <a:xfrm flipH="1">
                  <a:off x="1752480" y="198072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2218680" y="2123280"/>
                  <a:ext cx="1523160" cy="266400"/>
                  <a:chOff x="2218680" y="2123280"/>
                  <a:chExt cx="1523160" cy="2664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>
                    <a:off x="3360960" y="21232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2980440" y="212328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2598840" y="21232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2218320" y="21232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2401560" y="1868400"/>
                <a:ext cx="1160640" cy="153360"/>
                <a:chOff x="2401560" y="1868400"/>
                <a:chExt cx="1160640" cy="153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401560" y="18684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787480" y="18684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74840" y="18684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562200" y="186984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063120" y="1471680"/>
              <a:ext cx="2829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NA come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lementary stra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 with T; G with 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838080" y="1752480"/>
            <a:ext cx="5943600" cy="4267440"/>
            <a:chOff x="838080" y="1752480"/>
            <a:chExt cx="5943600" cy="4267440"/>
          </a:xfrm>
        </p:grpSpPr>
        <p:pic>
          <p:nvPicPr>
            <p:cNvPr id="1165" name="" descr=""/>
            <p:cNvPicPr/>
            <p:nvPr/>
          </p:nvPicPr>
          <p:blipFill>
            <a:blip r:embed="rId1"/>
            <a:srcRect l="0" t="1577" r="0" b="0"/>
            <a:stretch/>
          </p:blipFill>
          <p:spPr>
            <a:xfrm>
              <a:off x="838080" y="1752480"/>
              <a:ext cx="59436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6" name=""/>
            <p:cNvSpPr/>
            <p:nvPr/>
          </p:nvSpPr>
          <p:spPr>
            <a:xfrm>
              <a:off x="6248520" y="2209680"/>
              <a:ext cx="3045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7320" y="2270160"/>
              <a:ext cx="657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1 m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gene and protein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33720" y="1143000"/>
            <a:ext cx="44892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2057400" y="2108160"/>
            <a:ext cx="6873840" cy="1625760"/>
            <a:chOff x="2057400" y="2108160"/>
            <a:chExt cx="6873840" cy="1625760"/>
          </a:xfrm>
        </p:grpSpPr>
        <p:sp>
          <p:nvSpPr>
            <p:cNvPr id="1171" name=""/>
            <p:cNvSpPr/>
            <p:nvPr/>
          </p:nvSpPr>
          <p:spPr>
            <a:xfrm flipH="1">
              <a:off x="2057400" y="2666880"/>
              <a:ext cx="5105520" cy="10670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809880" y="2666880"/>
              <a:ext cx="3353040" cy="10670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638680" y="2666880"/>
              <a:ext cx="1524240" cy="10670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2108160"/>
              <a:ext cx="1768320" cy="1008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5 nL gene synthesis reactors x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285640" y="3581280"/>
            <a:ext cx="6645600" cy="1600200"/>
            <a:chOff x="2285640" y="3581280"/>
            <a:chExt cx="6645600" cy="1600200"/>
          </a:xfrm>
        </p:grpSpPr>
        <p:sp>
          <p:nvSpPr>
            <p:cNvPr id="1176" name=""/>
            <p:cNvSpPr/>
            <p:nvPr/>
          </p:nvSpPr>
          <p:spPr>
            <a:xfrm>
              <a:off x="7162920" y="3581280"/>
              <a:ext cx="1768320" cy="1008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 nL protein synthesis reactors x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285640" y="4114800"/>
              <a:ext cx="4876920" cy="91440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715000" y="4114800"/>
              <a:ext cx="1447920" cy="10666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038120" y="4114800"/>
              <a:ext cx="3124440" cy="99072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533520" y="5562720"/>
            <a:ext cx="7772400" cy="1066680"/>
          </a:xfrm>
          <a:prstGeom prst="rect">
            <a:avLst/>
          </a:prstGeom>
          <a:solidFill>
            <a:srgbClr val="b2b2b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5791320"/>
            <a:ext cx="725508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synthesize from oligos, in parallel, genes for multiple different proteins, express them, and assay their fun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NA Error Corre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11240" y="838080"/>
            <a:ext cx="3165480" cy="5823720"/>
            <a:chOff x="111240" y="838080"/>
            <a:chExt cx="3165480" cy="5823720"/>
          </a:xfrm>
        </p:grpSpPr>
        <p:sp>
          <p:nvSpPr>
            <p:cNvPr id="1184" name=""/>
            <p:cNvSpPr/>
            <p:nvPr/>
          </p:nvSpPr>
          <p:spPr>
            <a:xfrm>
              <a:off x="327672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111240" y="874800"/>
              <a:ext cx="3089160" cy="5787000"/>
              <a:chOff x="111240" y="874800"/>
              <a:chExt cx="3089160" cy="5787000"/>
            </a:xfrm>
          </p:grpSpPr>
          <p:pic>
            <p:nvPicPr>
              <p:cNvPr id="11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240" y="1523880"/>
                <a:ext cx="3089160" cy="45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89800" y="874800"/>
                <a:ext cx="269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Hybridization-sele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72240" y="6354720"/>
                <a:ext cx="258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an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et a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.  Nature 432 (2004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9" name=""/>
          <p:cNvGrpSpPr/>
          <p:nvPr/>
        </p:nvGrpSpPr>
        <p:grpSpPr>
          <a:xfrm>
            <a:off x="3430080" y="914400"/>
            <a:ext cx="3166200" cy="5747400"/>
            <a:chOff x="3430080" y="914400"/>
            <a:chExt cx="3166200" cy="5747400"/>
          </a:xfrm>
        </p:grpSpPr>
        <p:sp>
          <p:nvSpPr>
            <p:cNvPr id="1190" name=""/>
            <p:cNvSpPr/>
            <p:nvPr/>
          </p:nvSpPr>
          <p:spPr>
            <a:xfrm>
              <a:off x="3430080" y="914400"/>
              <a:ext cx="31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Mismatch Binding/Remo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3757680" y="1447920"/>
              <a:ext cx="2381760" cy="4540680"/>
              <a:chOff x="3757680" y="1447920"/>
              <a:chExt cx="2381760" cy="454068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3890520" y="5376600"/>
                <a:ext cx="1600560" cy="107640"/>
                <a:chOff x="3890520" y="5376600"/>
                <a:chExt cx="1600560" cy="1076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890880" y="537660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>
                  <a:off x="3890520" y="548424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3887280" y="1447920"/>
                <a:ext cx="1607040" cy="651600"/>
                <a:chOff x="3887280" y="1447920"/>
                <a:chExt cx="1607040" cy="651600"/>
              </a:xfrm>
            </p:grpSpPr>
            <p:grpSp>
              <p:nvGrpSpPr>
                <p:cNvPr id="1196" name=""/>
                <p:cNvGrpSpPr/>
                <p:nvPr/>
              </p:nvGrpSpPr>
              <p:grpSpPr>
                <a:xfrm>
                  <a:off x="3893760" y="1563480"/>
                  <a:ext cx="1600560" cy="107280"/>
                  <a:chOff x="3893760" y="1563480"/>
                  <a:chExt cx="1600560" cy="10728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3894120" y="156348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3893760" y="16707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3887280" y="1991880"/>
                  <a:ext cx="1600560" cy="107640"/>
                  <a:chOff x="3887280" y="1991880"/>
                  <a:chExt cx="1600560" cy="10764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3887640" y="199188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>
                    <a:off x="3887280" y="209952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2" name=""/>
                <p:cNvSpPr/>
                <p:nvPr/>
              </p:nvSpPr>
              <p:spPr>
                <a:xfrm>
                  <a:off x="4332240" y="1447920"/>
                  <a:ext cx="10944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" name=""/>
              <p:cNvSpPr/>
              <p:nvPr/>
            </p:nvSpPr>
            <p:spPr>
              <a:xfrm>
                <a:off x="4691160" y="232848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931640" y="2527200"/>
                <a:ext cx="12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ind Mu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5" name=""/>
              <p:cNvGrpSpPr/>
              <p:nvPr/>
            </p:nvGrpSpPr>
            <p:grpSpPr>
              <a:xfrm>
                <a:off x="3887280" y="3232080"/>
                <a:ext cx="1607040" cy="738720"/>
                <a:chOff x="3887280" y="3232080"/>
                <a:chExt cx="1607040" cy="7387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4192560" y="3232080"/>
                  <a:ext cx="380880" cy="456840"/>
                </a:xfrm>
                <a:custGeom>
                  <a:avLst/>
                  <a:gdLst>
                    <a:gd name="textAreaLeft" fmla="*/ 43920 w 380880"/>
                    <a:gd name="textAreaRight" fmla="*/ 336960 w 380880"/>
                    <a:gd name="textAreaTop" fmla="*/ 43920 h 456840"/>
                    <a:gd name="textAreaBottom" fmla="*/ 412920 h 456840"/>
                  </a:gdLst>
                  <a:ahLst/>
                  <a:rect l="textAreaLeft" t="textAreaTop" r="textAreaRight" b="textAreaBottom"/>
                  <a:pathLst>
                    <a:path w="21600" h="25904">
                      <a:moveTo>
                        <a:pt x="8550" y="0"/>
                      </a:moveTo>
                      <a:arcTo wR="8550" hR="8550" stAng="16200000" swAng="-5400000"/>
                      <a:lnTo>
                        <a:pt x="0" y="17354"/>
                      </a:lnTo>
                      <a:arcTo wR="8550" hR="8550" stAng="10800000" swAng="-5400000"/>
                      <a:lnTo>
                        <a:pt x="13050" y="25904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7" name=""/>
                <p:cNvGrpSpPr/>
                <p:nvPr/>
              </p:nvGrpSpPr>
              <p:grpSpPr>
                <a:xfrm>
                  <a:off x="3887280" y="3319200"/>
                  <a:ext cx="1607040" cy="651600"/>
                  <a:chOff x="3887280" y="3319200"/>
                  <a:chExt cx="1607040" cy="651600"/>
                </a:xfrm>
              </p:grpSpPr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3893760" y="3434760"/>
                    <a:ext cx="1600560" cy="107280"/>
                    <a:chOff x="3893760" y="3434760"/>
                    <a:chExt cx="1600560" cy="107280"/>
                  </a:xfrm>
                </p:grpSpPr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3894120" y="3434760"/>
                      <a:ext cx="160020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flipH="1">
                      <a:off x="3893760" y="3542040"/>
                      <a:ext cx="16002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1" name=""/>
                  <p:cNvGrpSpPr/>
                  <p:nvPr/>
                </p:nvGrpSpPr>
                <p:grpSpPr>
                  <a:xfrm>
                    <a:off x="3887280" y="3863160"/>
                    <a:ext cx="1600560" cy="107640"/>
                    <a:chOff x="3887280" y="3863160"/>
                    <a:chExt cx="1600560" cy="107640"/>
                  </a:xfrm>
                </p:grpSpPr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3887640" y="3863160"/>
                      <a:ext cx="160020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flipH="1">
                      <a:off x="3887280" y="3970800"/>
                      <a:ext cx="16002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4" name=""/>
                  <p:cNvSpPr/>
                  <p:nvPr/>
                </p:nvSpPr>
                <p:spPr>
                  <a:xfrm>
                    <a:off x="4332240" y="3319200"/>
                    <a:ext cx="109440" cy="10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4691160" y="423360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31280" y="4198680"/>
                <a:ext cx="1157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m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tS +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ismat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757680" y="5651280"/>
                <a:ext cx="1876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error-free DN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3804120" y="6354720"/>
              <a:ext cx="230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r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t a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 NAR 32 (200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6629400" y="838080"/>
            <a:ext cx="2454120" cy="5930640"/>
            <a:chOff x="6629400" y="838080"/>
            <a:chExt cx="2454120" cy="5930640"/>
          </a:xfrm>
        </p:grpSpPr>
        <p:sp>
          <p:nvSpPr>
            <p:cNvPr id="1220" name=""/>
            <p:cNvSpPr/>
            <p:nvPr/>
          </p:nvSpPr>
          <p:spPr>
            <a:xfrm>
              <a:off x="662940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784560" y="914400"/>
              <a:ext cx="2298960" cy="5854320"/>
              <a:chOff x="6784560" y="914400"/>
              <a:chExt cx="2298960" cy="585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7899480" y="3525840"/>
                <a:ext cx="0" cy="304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6784560" y="914400"/>
                <a:ext cx="2298960" cy="5854320"/>
                <a:chOff x="6784560" y="914400"/>
                <a:chExt cx="2298960" cy="58543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784560" y="914400"/>
                  <a:ext cx="2298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Mismatch Cleavag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7213680" y="1371600"/>
                  <a:ext cx="1371600" cy="4495680"/>
                  <a:chOff x="7213680" y="1371600"/>
                  <a:chExt cx="1371600" cy="4495680"/>
                </a:xfrm>
              </p:grpSpPr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7213680" y="5334120"/>
                    <a:ext cx="1371600" cy="533160"/>
                    <a:chOff x="7213680" y="5334120"/>
                    <a:chExt cx="1371600" cy="533160"/>
                  </a:xfrm>
                </p:grpSpPr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7213680" y="5334120"/>
                      <a:ext cx="1371600" cy="0"/>
                    </a:xfrm>
                    <a:prstGeom prst="line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7213680" y="5600520"/>
                      <a:ext cx="1371600" cy="0"/>
                    </a:xfrm>
                    <a:prstGeom prst="line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7213680" y="5867280"/>
                      <a:ext cx="1371600" cy="0"/>
                    </a:xfrm>
                    <a:prstGeom prst="line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7213680" y="1371600"/>
                    <a:ext cx="1371600" cy="677880"/>
                    <a:chOff x="7213680" y="1371600"/>
                    <a:chExt cx="1371600" cy="677880"/>
                  </a:xfrm>
                </p:grpSpPr>
                <p:grpSp>
                  <p:nvGrpSpPr>
                    <p:cNvPr id="1231" name=""/>
                    <p:cNvGrpSpPr/>
                    <p:nvPr/>
                  </p:nvGrpSpPr>
                  <p:grpSpPr>
                    <a:xfrm>
                      <a:off x="7213680" y="1447560"/>
                      <a:ext cx="1371600" cy="533520"/>
                      <a:chOff x="7213680" y="1447560"/>
                      <a:chExt cx="1371600" cy="533520"/>
                    </a:xfrm>
                  </p:grpSpPr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7213680" y="1447560"/>
                        <a:ext cx="13716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7213680" y="1714320"/>
                        <a:ext cx="13716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7213680" y="1981080"/>
                        <a:ext cx="13716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7450200" y="1912680"/>
                      <a:ext cx="136440" cy="136800"/>
                    </a:xfrm>
                    <a:prstGeom prst="flowChartSummingJunct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8356680" y="1371600"/>
                      <a:ext cx="136440" cy="136440"/>
                    </a:xfrm>
                    <a:prstGeom prst="flowChartSummingJunct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7675560" y="1652400"/>
                      <a:ext cx="136440" cy="136440"/>
                    </a:xfrm>
                    <a:prstGeom prst="flowChartSummingJunct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8" name=""/>
                  <p:cNvSpPr/>
                  <p:nvPr/>
                </p:nvSpPr>
                <p:spPr>
                  <a:xfrm>
                    <a:off x="7899480" y="2184480"/>
                    <a:ext cx="0" cy="304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7213680" y="2624040"/>
                    <a:ext cx="1371600" cy="766440"/>
                    <a:chOff x="7213680" y="2624040"/>
                    <a:chExt cx="1371600" cy="766440"/>
                  </a:xfrm>
                </p:grpSpPr>
                <p:grpSp>
                  <p:nvGrpSpPr>
                    <p:cNvPr id="1240" name=""/>
                    <p:cNvGrpSpPr/>
                    <p:nvPr/>
                  </p:nvGrpSpPr>
                  <p:grpSpPr>
                    <a:xfrm>
                      <a:off x="7213680" y="2668320"/>
                      <a:ext cx="1371600" cy="677880"/>
                      <a:chOff x="7213680" y="2668320"/>
                      <a:chExt cx="1371600" cy="677880"/>
                    </a:xfrm>
                  </p:grpSpPr>
                  <p:grpSp>
                    <p:nvGrpSpPr>
                      <p:cNvPr id="1241" name=""/>
                      <p:cNvGrpSpPr/>
                      <p:nvPr/>
                    </p:nvGrpSpPr>
                    <p:grpSpPr>
                      <a:xfrm>
                        <a:off x="7213680" y="2744280"/>
                        <a:ext cx="1371600" cy="533520"/>
                        <a:chOff x="7213680" y="2744280"/>
                        <a:chExt cx="1371600" cy="533520"/>
                      </a:xfrm>
                    </p:grpSpPr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7213680" y="27442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3" name=""/>
                        <p:cNvSpPr/>
                        <p:nvPr/>
                      </p:nvSpPr>
                      <p:spPr>
                        <a:xfrm>
                          <a:off x="7213680" y="301104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4" name=""/>
                        <p:cNvSpPr/>
                        <p:nvPr/>
                      </p:nvSpPr>
                      <p:spPr>
                        <a:xfrm>
                          <a:off x="7213680" y="327780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7450200" y="3209400"/>
                        <a:ext cx="136440" cy="13680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8356680" y="2668320"/>
                        <a:ext cx="136440" cy="13644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7675560" y="2949120"/>
                        <a:ext cx="136440" cy="13644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8331120" y="2624040"/>
                      <a:ext cx="0" cy="228600"/>
                    </a:xfrm>
                    <a:prstGeom prst="line">
                      <a:avLst/>
                    </a:prstGeom>
                    <a:ln w="442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837560" y="2889000"/>
                      <a:ext cx="0" cy="228600"/>
                    </a:xfrm>
                    <a:prstGeom prst="line">
                      <a:avLst/>
                    </a:prstGeom>
                    <a:ln w="442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7424640" y="3161880"/>
                      <a:ext cx="0" cy="228600"/>
                    </a:xfrm>
                    <a:prstGeom prst="line">
                      <a:avLst/>
                    </a:prstGeom>
                    <a:ln w="442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1" name=""/>
                  <p:cNvGrpSpPr/>
                  <p:nvPr/>
                </p:nvGrpSpPr>
                <p:grpSpPr>
                  <a:xfrm>
                    <a:off x="7213680" y="3965400"/>
                    <a:ext cx="1371600" cy="793800"/>
                    <a:chOff x="7213680" y="3965400"/>
                    <a:chExt cx="1371600" cy="793800"/>
                  </a:xfrm>
                </p:grpSpPr>
                <p:grpSp>
                  <p:nvGrpSpPr>
                    <p:cNvPr id="1252" name=""/>
                    <p:cNvGrpSpPr/>
                    <p:nvPr/>
                  </p:nvGrpSpPr>
                  <p:grpSpPr>
                    <a:xfrm>
                      <a:off x="7213680" y="4005000"/>
                      <a:ext cx="1371600" cy="677880"/>
                      <a:chOff x="7213680" y="4005000"/>
                      <a:chExt cx="1371600" cy="677880"/>
                    </a:xfrm>
                  </p:grpSpPr>
                  <p:grpSp>
                    <p:nvGrpSpPr>
                      <p:cNvPr id="1253" name=""/>
                      <p:cNvGrpSpPr/>
                      <p:nvPr/>
                    </p:nvGrpSpPr>
                    <p:grpSpPr>
                      <a:xfrm>
                        <a:off x="7213680" y="4080960"/>
                        <a:ext cx="1371600" cy="533520"/>
                        <a:chOff x="7213680" y="4080960"/>
                        <a:chExt cx="1371600" cy="533520"/>
                      </a:xfrm>
                    </p:grpSpPr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7213680" y="408096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5" name=""/>
                        <p:cNvSpPr/>
                        <p:nvPr/>
                      </p:nvSpPr>
                      <p:spPr>
                        <a:xfrm>
                          <a:off x="7213680" y="434772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7213680" y="46144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57" name=""/>
                      <p:cNvSpPr/>
                      <p:nvPr/>
                    </p:nvSpPr>
                    <p:spPr>
                      <a:xfrm>
                        <a:off x="7450200" y="4546080"/>
                        <a:ext cx="136440" cy="13680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8356680" y="4005000"/>
                        <a:ext cx="136440" cy="13644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7675560" y="4285800"/>
                        <a:ext cx="136440" cy="136440"/>
                      </a:xfrm>
                      <a:prstGeom prst="flowChartSummingJunction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7391520" y="4530600"/>
                      <a:ext cx="304920" cy="228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7620120" y="4225680"/>
                      <a:ext cx="304920" cy="228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8229600" y="3965400"/>
                      <a:ext cx="304920" cy="228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7899480" y="4894200"/>
                    <a:ext cx="0" cy="304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7137720" y="6248520"/>
                  <a:ext cx="1596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ith &amp; Modric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NAS 94 (1997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5" name=""/>
          <p:cNvGrpSpPr/>
          <p:nvPr/>
        </p:nvGrpSpPr>
        <p:grpSpPr>
          <a:xfrm>
            <a:off x="0" y="762120"/>
            <a:ext cx="9144000" cy="6095880"/>
            <a:chOff x="0" y="762120"/>
            <a:chExt cx="9144000" cy="6095880"/>
          </a:xfrm>
        </p:grpSpPr>
        <p:sp>
          <p:nvSpPr>
            <p:cNvPr id="1266" name=""/>
            <p:cNvSpPr/>
            <p:nvPr/>
          </p:nvSpPr>
          <p:spPr>
            <a:xfrm>
              <a:off x="6629400" y="762120"/>
              <a:ext cx="2514600" cy="6095880"/>
            </a:xfrm>
            <a:prstGeom prst="rect">
              <a:avLst/>
            </a:prstGeom>
            <a:blipFill rotWithShape="0">
              <a:blip r:embed="rId2">
                <a:alphaModFix amt="67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5875560" y="2990880"/>
              <a:ext cx="3182400" cy="2657160"/>
              <a:chOff x="5875560" y="2990880"/>
              <a:chExt cx="3182400" cy="2657160"/>
            </a:xfrm>
          </p:grpSpPr>
          <p:grpSp>
            <p:nvGrpSpPr>
              <p:cNvPr id="1268" name=""/>
              <p:cNvGrpSpPr/>
              <p:nvPr/>
            </p:nvGrpSpPr>
            <p:grpSpPr>
              <a:xfrm>
                <a:off x="6162480" y="2990880"/>
                <a:ext cx="2895480" cy="1752840"/>
                <a:chOff x="6162480" y="2990880"/>
                <a:chExt cx="2895480" cy="17528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6162480" y="2990880"/>
                  <a:ext cx="2895480" cy="1752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486480" y="3181680"/>
                  <a:ext cx="2247840" cy="137376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 error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er 10</a:t>
                  </a:r>
                  <a:r>
                    <a:rPr b="1" lang="en-US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ase pair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1" name=""/>
              <p:cNvSpPr/>
              <p:nvPr/>
            </p:nvSpPr>
            <p:spPr>
              <a:xfrm rot="19427400">
                <a:off x="5866920" y="4805280"/>
                <a:ext cx="1469880" cy="452160"/>
              </a:xfrm>
              <a:prstGeom prst="rightArrow">
                <a:avLst>
                  <a:gd name="adj1" fmla="val 50000"/>
                  <a:gd name="adj2" fmla="val 81270"/>
                </a:avLst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0" y="762120"/>
              <a:ext cx="3276720" cy="6095880"/>
            </a:xfrm>
            <a:prstGeom prst="rect">
              <a:avLst/>
            </a:prstGeom>
            <a:blipFill rotWithShape="0">
              <a:blip r:embed="rId3">
                <a:alphaModFix amt="67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ses for DNA On-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35449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1760" y="4114800"/>
            <a:ext cx="8566560" cy="459720"/>
            <a:chOff x="491760" y="4114800"/>
            <a:chExt cx="8566560" cy="459720"/>
          </a:xfrm>
        </p:grpSpPr>
        <p:sp>
          <p:nvSpPr>
            <p:cNvPr id="187" name=""/>
            <p:cNvSpPr/>
            <p:nvPr/>
          </p:nvSpPr>
          <p:spPr>
            <a:xfrm>
              <a:off x="49176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402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6068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984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808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972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4600" y="4681440"/>
            <a:ext cx="3200400" cy="2243160"/>
            <a:chOff x="2514600" y="4681440"/>
            <a:chExt cx="3200400" cy="224316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0" t="2645" r="48869" b="65632"/>
            <a:stretch/>
          </p:blipFill>
          <p:spPr>
            <a:xfrm>
              <a:off x="3238560" y="5095800"/>
              <a:ext cx="1752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269880" y="47037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tic circu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4681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781680" y="4681440"/>
            <a:ext cx="2133720" cy="1949400"/>
            <a:chOff x="6781680" y="4681440"/>
            <a:chExt cx="2133720" cy="194940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6946920" y="5148360"/>
              <a:ext cx="189216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000920" y="470376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ome re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1680" y="46814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81480" y="1166760"/>
            <a:ext cx="1909800" cy="2185920"/>
            <a:chOff x="5181480" y="1166760"/>
            <a:chExt cx="1909800" cy="2185920"/>
          </a:xfrm>
        </p:grpSpPr>
        <p:sp>
          <p:nvSpPr>
            <p:cNvPr id="202" name=""/>
            <p:cNvSpPr/>
            <p:nvPr/>
          </p:nvSpPr>
          <p:spPr>
            <a:xfrm>
              <a:off x="5562720" y="33526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3160" y="2922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5181480" y="1166760"/>
              <a:ext cx="190980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877320" y="887400"/>
            <a:ext cx="4379040" cy="2465280"/>
            <a:chOff x="877320" y="887400"/>
            <a:chExt cx="4379040" cy="2465280"/>
          </a:xfrm>
        </p:grpSpPr>
        <p:sp>
          <p:nvSpPr>
            <p:cNvPr id="206" name=""/>
            <p:cNvSpPr/>
            <p:nvPr/>
          </p:nvSpPr>
          <p:spPr>
            <a:xfrm>
              <a:off x="1604160" y="2895480"/>
              <a:ext cx="15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genes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914400" y="1130400"/>
              <a:ext cx="4341960" cy="2222280"/>
              <a:chOff x="914400" y="1130400"/>
              <a:chExt cx="4341960" cy="222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884760" y="3352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12800" y="1130400"/>
                <a:ext cx="139716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914400" y="3352680"/>
                <a:ext cx="297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rot="19410600">
              <a:off x="664200" y="1829160"/>
              <a:ext cx="3289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: your favorite gene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ding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E.coli</a:t>
            </a: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: 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rE.coli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(with Chur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 Isa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17200" y="2143080"/>
            <a:ext cx="2757960" cy="91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2.  &gt;4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rare Arg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two more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880" y="3370320"/>
            <a:ext cx="3200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.  &gt;70,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Leu and Ser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thogonal genetic cod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131840" y="1057320"/>
            <a:ext cx="6811200" cy="1839600"/>
            <a:chOff x="1131840" y="1057320"/>
            <a:chExt cx="6811200" cy="1839600"/>
          </a:xfrm>
        </p:grpSpPr>
        <p:sp>
          <p:nvSpPr>
            <p:cNvPr id="220" name=""/>
            <p:cNvSpPr/>
            <p:nvPr/>
          </p:nvSpPr>
          <p:spPr>
            <a:xfrm>
              <a:off x="3429720" y="1057320"/>
              <a:ext cx="451332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1. &gt;300 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 stops  become  TAA st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ves one codon 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131840" y="1133640"/>
              <a:ext cx="1763280" cy="1763280"/>
              <a:chOff x="1131840" y="1133640"/>
              <a:chExt cx="1763280" cy="1763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450080" y="1562040"/>
                <a:ext cx="105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E. Co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16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.6 M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131840" y="1133640"/>
                <a:ext cx="1763280" cy="1763280"/>
                <a:chOff x="1131840" y="1133640"/>
                <a:chExt cx="1763280" cy="176328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2021760" y="1188720"/>
                  <a:ext cx="108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74080" y="116856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2570760" y="1421640"/>
                  <a:ext cx="9576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99160" y="167976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>
                  <a:off x="2673360" y="2382840"/>
                  <a:ext cx="11196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933920" y="1137600"/>
                  <a:ext cx="936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59400" y="114804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850040" y="114984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1199160" y="230436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311480" y="247248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783440" y="2743920"/>
                  <a:ext cx="349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2162160" y="275616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2702160" y="2324880"/>
                  <a:ext cx="115920" cy="53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2766600" y="194508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2401560" y="1257840"/>
                  <a:ext cx="6444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2393640" y="1253520"/>
                  <a:ext cx="6480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2333880" y="1217160"/>
                  <a:ext cx="5256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1506240" y="2631960"/>
                  <a:ext cx="7308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1506240" y="2633040"/>
                  <a:ext cx="7308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830960" y="275472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2262600" y="2727720"/>
                  <a:ext cx="43200" cy="119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605680" y="248436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2613600" y="247464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2615400" y="247068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>
                  <a:off x="2715480" y="229212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2718000" y="228564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2718000" y="228564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722320" y="228024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2723760" y="2271960"/>
                  <a:ext cx="121680" cy="44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2766600" y="207612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>
                  <a:off x="2766600" y="206820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>
                  <a:off x="2766600" y="206820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>
                  <a:off x="2766600" y="206532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554200" y="1399680"/>
                  <a:ext cx="8892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550240" y="1395720"/>
                  <a:ext cx="9180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543400" y="1387800"/>
                  <a:ext cx="9036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2722320" y="228024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2605680" y="2482920"/>
                  <a:ext cx="10116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2766600" y="207216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19680" y="163260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929600" y="1137600"/>
                  <a:ext cx="118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707840" y="1188720"/>
                  <a:ext cx="45360" cy="119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1603800" y="2683440"/>
                  <a:ext cx="59400" cy="113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1851120" y="2756160"/>
                  <a:ext cx="241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2294640" y="2715840"/>
                  <a:ext cx="4752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2438280" y="2640240"/>
                  <a:ext cx="72720" cy="106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>
                  <a:off x="2603520" y="2488320"/>
                  <a:ext cx="9864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2693880" y="163260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331360" y="121608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46760" y="1440360"/>
                  <a:ext cx="95760" cy="83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>
                  <a:off x="2505600" y="2588760"/>
                  <a:ext cx="8388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609640" y="147312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38400" y="159732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1154520" y="21855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1158480" y="219924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>
                  <a:off x="2473200" y="261540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2735640" y="176112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2098800" y="2764800"/>
                  <a:ext cx="14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1146600" y="214776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2623680" y="246024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1323720" y="248688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35800" y="1935720"/>
                  <a:ext cx="127080" cy="11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47760" y="1577160"/>
                  <a:ext cx="11196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1783440" y="2743920"/>
                  <a:ext cx="3240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31840" y="2013840"/>
                  <a:ext cx="12816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234440" y="1601280"/>
                  <a:ext cx="1137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1262880" y="2412720"/>
                  <a:ext cx="10944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2706840" y="1668960"/>
                  <a:ext cx="11628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>
                  <a:off x="2058120" y="2768760"/>
                  <a:ext cx="50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2714040" y="1688040"/>
                  <a:ext cx="118800" cy="48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2695320" y="163656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2055600" y="2768760"/>
                  <a:ext cx="64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>
                  <a:off x="2661480" y="2407320"/>
                  <a:ext cx="108000" cy="64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2734200" y="2243520"/>
                  <a:ext cx="119880" cy="37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2469240" y="131184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863360" y="1145520"/>
                  <a:ext cx="2016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>
                  <a:off x="2752920" y="2171520"/>
                  <a:ext cx="124200" cy="27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974240" y="1133640"/>
                  <a:ext cx="5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2719440" y="1705680"/>
                  <a:ext cx="1216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2207160" y="116172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2546280" y="1388880"/>
                  <a:ext cx="8892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2390400" y="1252440"/>
                  <a:ext cx="6372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1463040" y="2604960"/>
                  <a:ext cx="79920" cy="100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554200" y="2541240"/>
                  <a:ext cx="91800" cy="90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2657160" y="155412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58480" y="180144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82360" y="1164600"/>
                  <a:ext cx="33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1422360" y="2574720"/>
                  <a:ext cx="84960" cy="96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438560" y="258732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2014920" y="277092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721960" y="170964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014920" y="1133640"/>
                  <a:ext cx="10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1538640" y="265068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1348200" y="251136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379160" y="2539800"/>
                  <a:ext cx="91800" cy="87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6360" y="166356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1376280" y="2537280"/>
                  <a:ext cx="91800" cy="87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32080" y="135252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767600" y="2739960"/>
                  <a:ext cx="3492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2149920" y="275868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2730240" y="2253240"/>
                  <a:ext cx="12024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191240" y="228564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2697480" y="1640520"/>
                  <a:ext cx="11628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2738160" y="222876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60280" y="179352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06160" y="137664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393920" y="1388880"/>
                  <a:ext cx="8928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2167920" y="275472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>
                  <a:off x="2623680" y="246024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362960" y="142164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2657160" y="155412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223640" y="162180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1242720" y="2379960"/>
                  <a:ext cx="111960" cy="63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1332000" y="2492280"/>
                  <a:ext cx="9864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663200" y="2707920"/>
                  <a:ext cx="51480" cy="117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2732040" y="1742040"/>
                  <a:ext cx="12168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50720" y="143604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2485080" y="1325520"/>
                  <a:ext cx="7956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63280" y="117000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2466720" y="261972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26520" y="162180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32000" y="1456920"/>
                  <a:ext cx="98640" cy="80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2346480" y="269280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142280" y="1885320"/>
                  <a:ext cx="12564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1771560" y="2742840"/>
                  <a:ext cx="3636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376280" y="2536920"/>
                  <a:ext cx="94680" cy="90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1483560" y="2616840"/>
                  <a:ext cx="7524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2527560" y="2567880"/>
                  <a:ext cx="8640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2135160" y="1145520"/>
                  <a:ext cx="201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2601720" y="2488320"/>
                  <a:ext cx="10008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63280" y="1170000"/>
                  <a:ext cx="3492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>
                  <a:off x="2730240" y="2252160"/>
                  <a:ext cx="123120" cy="38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191240" y="1697400"/>
                  <a:ext cx="11988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2370240" y="1237320"/>
                  <a:ext cx="608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8320" y="1909800"/>
                  <a:ext cx="125640" cy="14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455120" y="2599560"/>
                  <a:ext cx="7956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1634760" y="2696400"/>
                  <a:ext cx="554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2118960" y="1141560"/>
                  <a:ext cx="187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135800" y="2096280"/>
                  <a:ext cx="12816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150560" y="2165400"/>
                  <a:ext cx="124200" cy="24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322280" y="1470240"/>
                  <a:ext cx="99720" cy="78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745000" y="179748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>
                  <a:off x="2226960" y="2739960"/>
                  <a:ext cx="3636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2192040" y="2747880"/>
                  <a:ext cx="309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11400" y="164988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802520" y="274788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2201400" y="274644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2217960" y="274248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2217600" y="274284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2012400" y="277092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98640" y="1141560"/>
                  <a:ext cx="1764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2306520" y="271188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2315160" y="2707920"/>
                  <a:ext cx="5112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2306520" y="271188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2305800" y="2711880"/>
                  <a:ext cx="4968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338840" y="250056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2769120" y="2008440"/>
                  <a:ext cx="125640" cy="1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2439360" y="1288800"/>
                  <a:ext cx="7452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996200" y="1133640"/>
                  <a:ext cx="252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2769120" y="200988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2094840" y="114012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2693880" y="162972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2769120" y="201636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02720" y="2588400"/>
                  <a:ext cx="83880" cy="98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334520" y="14540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2627280" y="1504080"/>
                  <a:ext cx="104040" cy="72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2445840" y="129312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135800" y="193680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2689560" y="162180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2446200" y="1293120"/>
                  <a:ext cx="7272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2329920" y="2701080"/>
                  <a:ext cx="5256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243800" y="1587600"/>
                  <a:ext cx="11088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307520" y="148896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311480" y="148392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2241720" y="2736000"/>
                  <a:ext cx="3780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2270520" y="2725560"/>
                  <a:ext cx="4320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1393920" y="2552040"/>
                  <a:ext cx="89280" cy="89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1444320" y="2592720"/>
                  <a:ext cx="8244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2595240" y="249660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139760" y="189612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287000" y="1517400"/>
                  <a:ext cx="10404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1939320" y="276732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06360" y="166356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1430640" y="258048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26760" y="1280520"/>
                  <a:ext cx="68760" cy="106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2665440" y="1571400"/>
                  <a:ext cx="10944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2145960" y="114804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>
                  <a:off x="2741040" y="2216520"/>
                  <a:ext cx="12420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2459880" y="1305360"/>
                  <a:ext cx="7560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2393640" y="2668320"/>
                  <a:ext cx="6480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284480" y="2439360"/>
                  <a:ext cx="10548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943280" y="113580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223640" y="1625760"/>
                  <a:ext cx="11484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168200" y="2228760"/>
                  <a:ext cx="12276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2367720" y="1237320"/>
                  <a:ext cx="5976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>
                  <a:off x="2161800" y="2756160"/>
                  <a:ext cx="255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838880" y="115200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1840" y="1983960"/>
                  <a:ext cx="128160" cy="3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1227600" y="2356920"/>
                  <a:ext cx="114840" cy="59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1322280" y="248292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>
                  <a:off x="2703240" y="232344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>
                  <a:off x="2705760" y="2316600"/>
                  <a:ext cx="117720" cy="51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84400" y="1713600"/>
                  <a:ext cx="12168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334520" y="249660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471320" y="1321560"/>
                  <a:ext cx="7668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>
                  <a:off x="2626200" y="24577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2490840" y="1332360"/>
                  <a:ext cx="824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1450800" y="2597040"/>
                  <a:ext cx="80640" cy="98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2184120" y="115632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299600" y="150012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97800" y="1501200"/>
                  <a:ext cx="10404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135800" y="1931400"/>
                  <a:ext cx="12708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1550880" y="2658960"/>
                  <a:ext cx="6768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1438560" y="258732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2417760" y="127008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2104200" y="2764800"/>
                  <a:ext cx="172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2070360" y="1135800"/>
                  <a:ext cx="93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10320" y="165384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790640" y="1161720"/>
                  <a:ext cx="320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767600" y="1168560"/>
                  <a:ext cx="3492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138320" y="2108160"/>
                  <a:ext cx="12564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1196640" y="2300400"/>
                  <a:ext cx="118800" cy="47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1299600" y="2457720"/>
                  <a:ext cx="102600" cy="74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1299600" y="24577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2654640" y="2412720"/>
                  <a:ext cx="11088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2715480" y="169200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2589840" y="144576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2207160" y="116172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166760" y="177300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>
                  <a:off x="2121840" y="2762640"/>
                  <a:ext cx="172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2653200" y="1545840"/>
                  <a:ext cx="108000" cy="67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359000" y="142560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2769120" y="2005920"/>
                  <a:ext cx="125640" cy="2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1166760" y="222444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2510280" y="258732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895760" y="1141560"/>
                  <a:ext cx="1620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63280" y="117000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139760" y="1889640"/>
                  <a:ext cx="127080" cy="18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1171080" y="2239920"/>
                  <a:ext cx="122760" cy="37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1206360" y="231948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1246680" y="238716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V="1">
                  <a:off x="1477800" y="261288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1482120" y="261684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857960" y="275868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1991880" y="2770920"/>
                  <a:ext cx="396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2395080" y="2668320"/>
                  <a:ext cx="6336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2686680" y="235692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2748960" y="181368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2615400" y="148392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2395080" y="125352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2359440" y="1232280"/>
                  <a:ext cx="5796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2327400" y="1213200"/>
                  <a:ext cx="540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2477160" y="1317240"/>
                  <a:ext cx="766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2507400" y="258732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1134360" y="2055600"/>
                  <a:ext cx="125640" cy="5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2639880" y="152424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70800" y="154044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43800" y="158364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1579320" y="267264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1426320" y="2579040"/>
                  <a:ext cx="8388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2473200" y="1315800"/>
                  <a:ext cx="7704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986480" y="1133640"/>
                  <a:ext cx="39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851120" y="114984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820160" y="115632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682280" y="119808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1142280" y="2128680"/>
                  <a:ext cx="125640" cy="20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144080" y="2140560"/>
                  <a:ext cx="126720" cy="22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1155960" y="218988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203480" y="2315160"/>
                  <a:ext cx="11880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1226520" y="235296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1226520" y="2355840"/>
                  <a:ext cx="113400" cy="56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1311480" y="247248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1314000" y="2474640"/>
                  <a:ext cx="10008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1314000" y="247464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1314000" y="247464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1322280" y="248292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1487520" y="2621160"/>
                  <a:ext cx="784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1490400" y="262080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1490400" y="262368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1491480" y="262332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1650960" y="2703240"/>
                  <a:ext cx="52560" cy="116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1802520" y="274788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>
                  <a:off x="2041920" y="2770920"/>
                  <a:ext cx="504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2149920" y="275868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2314800" y="2707920"/>
                  <a:ext cx="522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>
                  <a:off x="2370240" y="2680200"/>
                  <a:ext cx="6084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flipV="1">
                  <a:off x="2427480" y="2645640"/>
                  <a:ext cx="7128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 flipV="1">
                  <a:off x="2439360" y="263988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>
                  <a:off x="2497680" y="2595240"/>
                  <a:ext cx="806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>
                  <a:off x="2531520" y="2563920"/>
                  <a:ext cx="8784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2635920" y="244116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2666880" y="2395440"/>
                  <a:ext cx="110880" cy="64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2734200" y="224352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2756880" y="215172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flipV="1">
                  <a:off x="2762640" y="210816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2765520" y="2080080"/>
                  <a:ext cx="12816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2766960" y="1973160"/>
                  <a:ext cx="128160" cy="6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2752920" y="1840680"/>
                  <a:ext cx="125640" cy="24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2726280" y="1724400"/>
                  <a:ext cx="12024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2718360" y="169596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2589840" y="144576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2359440" y="1232280"/>
                  <a:ext cx="5940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2267280" y="1184760"/>
                  <a:ext cx="4572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79000" y="1732680"/>
                  <a:ext cx="120240" cy="40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2531520" y="137268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2745000" y="179352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2201400" y="116028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171080" y="175932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2106360" y="2764800"/>
                  <a:ext cx="1620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407600" y="1374120"/>
                  <a:ext cx="87480" cy="94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270800" y="154044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254600" y="1568880"/>
                  <a:ext cx="10944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2094840" y="114012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34680" y="127404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199160" y="167976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1694160" y="2717280"/>
                  <a:ext cx="4464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1258920" y="1260360"/>
                <a:ext cx="1508040" cy="15076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838080" y="4619520"/>
            <a:ext cx="251460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rrent “price tag” &gt;$3 million per 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d we want several of th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nds in de novo 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286240" cy="502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47920" y="64450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lson, R. (2003) The Pace and Proliferation of Biologic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352680"/>
            <a:ext cx="628920" cy="6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913600">
            <a:off x="4156920" y="3417120"/>
            <a:ext cx="2976480" cy="3808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29240" y="403848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22680" y="5438880"/>
            <a:ext cx="3678120" cy="1522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32520" y="3997440"/>
            <a:ext cx="1447920" cy="1647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552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NA Fabrication Platform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563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567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568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79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582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83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 rot="5400000">
            <a:off x="6139080" y="4985280"/>
            <a:ext cx="674640" cy="609480"/>
          </a:xfrm>
          <a:prstGeom prst="rightArrow">
            <a:avLst>
              <a:gd name="adj1" fmla="val 50000"/>
              <a:gd name="adj2" fmla="val 276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587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591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5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010280" y="3276720"/>
            <a:ext cx="2057400" cy="1033920"/>
            <a:chOff x="7010280" y="3276720"/>
            <a:chExt cx="2057400" cy="1033920"/>
          </a:xfrm>
        </p:grpSpPr>
        <p:sp>
          <p:nvSpPr>
            <p:cNvPr id="596" name=""/>
            <p:cNvSpPr/>
            <p:nvPr/>
          </p:nvSpPr>
          <p:spPr>
            <a:xfrm>
              <a:off x="7591680" y="40035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010280" y="3276720"/>
              <a:ext cx="2057400" cy="726840"/>
              <a:chOff x="7010280" y="3276720"/>
              <a:chExt cx="2057400" cy="726840"/>
            </a:xfrm>
          </p:grpSpPr>
          <p:pic>
            <p:nvPicPr>
              <p:cNvPr id="598" name="" descr=""/>
              <p:cNvPicPr/>
              <p:nvPr/>
            </p:nvPicPr>
            <p:blipFill>
              <a:blip r:embed="rId7"/>
              <a:srcRect l="32866" t="0" r="8392" b="52606"/>
              <a:stretch/>
            </p:blipFill>
            <p:spPr>
              <a:xfrm>
                <a:off x="7467480" y="3276720"/>
                <a:ext cx="1600200" cy="72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7010280" y="354636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0" name=""/>
          <p:cNvGrpSpPr/>
          <p:nvPr/>
        </p:nvGrpSpPr>
        <p:grpSpPr>
          <a:xfrm>
            <a:off x="382320" y="5715000"/>
            <a:ext cx="6778440" cy="337320"/>
            <a:chOff x="382320" y="5715000"/>
            <a:chExt cx="6778440" cy="337320"/>
          </a:xfrm>
        </p:grpSpPr>
        <p:sp>
          <p:nvSpPr>
            <p:cNvPr id="601" name=""/>
            <p:cNvSpPr/>
            <p:nvPr/>
          </p:nvSpPr>
          <p:spPr>
            <a:xfrm>
              <a:off x="5707440" y="571500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OLEC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2320" y="5715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77360" y="5715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1120" y="5867280"/>
              <a:ext cx="1371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1600" y="58672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98160" y="6369120"/>
            <a:ext cx="8201880" cy="399240"/>
            <a:chOff x="398160" y="6369120"/>
            <a:chExt cx="8201880" cy="399240"/>
          </a:xfrm>
        </p:grpSpPr>
        <p:sp>
          <p:nvSpPr>
            <p:cNvPr id="607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8160" y="63691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35960" y="6400800"/>
              <a:ext cx="21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 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71600" y="65530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4120" y="6629400"/>
              <a:ext cx="2514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585800" y="2395440"/>
            <a:ext cx="1371600" cy="2176560"/>
            <a:chOff x="1585800" y="2395440"/>
            <a:chExt cx="1371600" cy="2176560"/>
          </a:xfrm>
        </p:grpSpPr>
        <p:sp>
          <p:nvSpPr>
            <p:cNvPr id="614" name=""/>
            <p:cNvSpPr/>
            <p:nvPr/>
          </p:nvSpPr>
          <p:spPr>
            <a:xfrm>
              <a:off x="1585800" y="2395440"/>
              <a:ext cx="1371600" cy="217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85880" y="2541600"/>
              <a:ext cx="1172880" cy="1649520"/>
              <a:chOff x="1685880" y="2541600"/>
              <a:chExt cx="1172880" cy="1649520"/>
            </a:xfrm>
          </p:grpSpPr>
          <p:pic>
            <p:nvPicPr>
              <p:cNvPr id="6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814400" y="32767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1685880" y="2541600"/>
                <a:ext cx="1172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olig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microarr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synthe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316160" y="1739880"/>
            <a:ext cx="2361960" cy="1536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295280" y="3352680"/>
            <a:ext cx="2382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kjet-printed microarr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.g. Agile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rcRect l="0" t="-2505" r="-2392" b="71120"/>
          <a:stretch/>
        </p:blipFill>
        <p:spPr>
          <a:xfrm>
            <a:off x="4495680" y="1801800"/>
            <a:ext cx="3581640" cy="13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1" name=""/>
          <p:cNvSpPr/>
          <p:nvPr/>
        </p:nvSpPr>
        <p:spPr>
          <a:xfrm>
            <a:off x="4978440" y="3414600"/>
            <a:ext cx="2494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kless array synthesiz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.g. Nimblege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Density Oligonucleotide Microarrays</a:t>
            </a:r>
            <a:br>
              <a:rPr sz="3200"/>
            </a:br>
            <a:r>
              <a:rPr b="0" i="1" lang="en-US" sz="2600" spc="-1" strike="noStrike">
                <a:solidFill>
                  <a:srgbClr val="0099ff"/>
                </a:solidFill>
                <a:latin typeface="Trebuchet MS"/>
              </a:rPr>
              <a:t>a massive feedstock of DNA building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30320" y="4648320"/>
            <a:ext cx="8898480" cy="825480"/>
            <a:chOff x="130320" y="4648320"/>
            <a:chExt cx="8898480" cy="825480"/>
          </a:xfrm>
        </p:grpSpPr>
        <p:sp>
          <p:nvSpPr>
            <p:cNvPr id="624" name=""/>
            <p:cNvSpPr/>
            <p:nvPr/>
          </p:nvSpPr>
          <p:spPr>
            <a:xfrm>
              <a:off x="6022440" y="4648320"/>
              <a:ext cx="3006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00x reductio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ligonucleotide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0320" y="4648320"/>
              <a:ext cx="2384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oligos 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icro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85760" y="4648320"/>
              <a:ext cx="2754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5 meg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f DNA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045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383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71160" y="5791320"/>
            <a:ext cx="8114760" cy="825480"/>
            <a:chOff x="371160" y="5791320"/>
            <a:chExt cx="8114760" cy="825480"/>
          </a:xfrm>
        </p:grpSpPr>
        <p:sp>
          <p:nvSpPr>
            <p:cNvPr id="630" name=""/>
            <p:cNvSpPr/>
            <p:nvPr/>
          </p:nvSpPr>
          <p:spPr>
            <a:xfrm>
              <a:off x="371160" y="5791320"/>
              <a:ext cx="811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an &amp; Church (2004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600 oligos            21 genes            15 kb constr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4324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640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635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NA Fabrication Platform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646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650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651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1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62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665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66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 rot="5400000">
            <a:off x="6139080" y="4985280"/>
            <a:ext cx="674640" cy="609480"/>
          </a:xfrm>
          <a:prstGeom prst="rightArrow">
            <a:avLst>
              <a:gd name="adj1" fmla="val 50000"/>
              <a:gd name="adj2" fmla="val 276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670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674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6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010280" y="3276720"/>
            <a:ext cx="2057400" cy="1033920"/>
            <a:chOff x="7010280" y="3276720"/>
            <a:chExt cx="2057400" cy="1033920"/>
          </a:xfrm>
        </p:grpSpPr>
        <p:sp>
          <p:nvSpPr>
            <p:cNvPr id="679" name=""/>
            <p:cNvSpPr/>
            <p:nvPr/>
          </p:nvSpPr>
          <p:spPr>
            <a:xfrm>
              <a:off x="7591680" y="40035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7010280" y="3276720"/>
              <a:ext cx="2057400" cy="726840"/>
              <a:chOff x="7010280" y="3276720"/>
              <a:chExt cx="2057400" cy="726840"/>
            </a:xfrm>
          </p:grpSpPr>
          <p:pic>
            <p:nvPicPr>
              <p:cNvPr id="681" name="" descr=""/>
              <p:cNvPicPr/>
              <p:nvPr/>
            </p:nvPicPr>
            <p:blipFill>
              <a:blip r:embed="rId7"/>
              <a:srcRect l="32866" t="0" r="8392" b="52606"/>
              <a:stretch/>
            </p:blipFill>
            <p:spPr>
              <a:xfrm>
                <a:off x="7467480" y="3276720"/>
                <a:ext cx="1600200" cy="72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7010280" y="354636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382320" y="5715000"/>
            <a:ext cx="6778440" cy="337320"/>
            <a:chOff x="382320" y="5715000"/>
            <a:chExt cx="6778440" cy="337320"/>
          </a:xfrm>
        </p:grpSpPr>
        <p:sp>
          <p:nvSpPr>
            <p:cNvPr id="684" name=""/>
            <p:cNvSpPr/>
            <p:nvPr/>
          </p:nvSpPr>
          <p:spPr>
            <a:xfrm>
              <a:off x="5707440" y="571500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OLEC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2320" y="57150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77360" y="5715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91120" y="5867280"/>
              <a:ext cx="1371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71600" y="58672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98160" y="6369120"/>
            <a:ext cx="8201880" cy="399240"/>
            <a:chOff x="398160" y="6369120"/>
            <a:chExt cx="8201880" cy="399240"/>
          </a:xfrm>
        </p:grpSpPr>
        <p:sp>
          <p:nvSpPr>
            <p:cNvPr id="690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8160" y="63691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35960" y="6400800"/>
              <a:ext cx="21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VICE 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71600" y="6553080"/>
              <a:ext cx="16765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34120" y="6629400"/>
              <a:ext cx="251460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600200" y="2514600"/>
            <a:ext cx="2743200" cy="2438280"/>
            <a:chOff x="1600200" y="2514600"/>
            <a:chExt cx="2743200" cy="2438280"/>
          </a:xfrm>
        </p:grpSpPr>
        <p:sp>
          <p:nvSpPr>
            <p:cNvPr id="697" name=""/>
            <p:cNvSpPr/>
            <p:nvPr/>
          </p:nvSpPr>
          <p:spPr>
            <a:xfrm>
              <a:off x="1600200" y="2514600"/>
              <a:ext cx="2743200" cy="24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9"/>
            <a:stretch/>
          </p:blipFill>
          <p:spPr>
            <a:xfrm>
              <a:off x="1808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67976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0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rcRect l="0" t="0" r="0" b="83540"/>
          <a:stretch/>
        </p:blipFill>
        <p:spPr>
          <a:xfrm>
            <a:off x="2257560" y="1066680"/>
            <a:ext cx="4524120" cy="9144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Polymerase Construction and Amplification (PC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rcRect l="0" t="801" r="0" b="64003"/>
          <a:stretch/>
        </p:blipFill>
        <p:spPr>
          <a:xfrm>
            <a:off x="1971720" y="2009880"/>
            <a:ext cx="5191200" cy="16761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"/>
          <a:srcRect l="0" t="36004" r="0" b="33600"/>
          <a:stretch/>
        </p:blipFill>
        <p:spPr>
          <a:xfrm>
            <a:off x="1981080" y="3733920"/>
            <a:ext cx="5191200" cy="14475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4"/>
          <a:srcRect l="0" t="66407" r="0" b="17598"/>
          <a:stretch/>
        </p:blipFill>
        <p:spPr>
          <a:xfrm>
            <a:off x="1981080" y="5334120"/>
            <a:ext cx="5191200" cy="7617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362320" y="57913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6324120" y="614376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28:55Z</dcterms:created>
  <dc:creator>Peter Carr</dc:creator>
  <dc:description/>
  <dc:language>en-US</dc:language>
  <cp:lastModifiedBy>Peter Carr</cp:lastModifiedBy>
  <dcterms:modified xsi:type="dcterms:W3CDTF">2007-08-23T12:38:29Z</dcterms:modified>
  <cp:revision>138</cp:revision>
  <dc:subject/>
  <dc:title>PowerPoint Presentation</dc:title>
</cp:coreProperties>
</file>