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033-3FB4-4AA7-9F23-5FC61940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AAF9-1E78-4D4A-904F-68AEBAE3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92B-9B79-4CCA-8CE4-4C04D595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B1F-9449-41EE-AC69-523C8BA8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08D1-A273-4909-B472-1A58BAA0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C51B-BC4A-4855-9F9B-0C6C8C32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1840-CC2C-4640-9AF5-A01F8D33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9F76-3CC5-4514-9D3B-A81E4DB0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F799-8A2E-4B95-9C01-62A0D448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4BDF-CEA1-42A1-9305-90A2CCA8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F43A-DA3C-4C41-B7F9-FAD2B94A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1ED-9D37-4696-93D8-9A180B7B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CD45-B65B-4399-A529-37BF02D7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9FEE-FB8B-4AE6-804D-1FE18BBC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1EF8-1A0E-4700-875F-21C7B58B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6DE6-5891-42D3-A698-064A0406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85C0-5735-4C90-9F2C-E19349D9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A67-64E8-4A7A-BDBB-32C73D15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685-E22B-410E-826F-C50DE19A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55A-00EB-4C0D-998A-0FBEFBDC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769-309E-4407-A8ED-36BB331B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A8C-7BC9-4A22-AB9C-8BFA8074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FF8-7486-41F8-B2AC-88F10F4E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0EC3-8854-4712-A583-727E243C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A634-44E4-4823-850C-FF6FC2F5F1E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22CE-2AB8-4452-B80F-0EDA70B6EF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3D33-7A06-4DEF-8551-435010B52F6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7B12-A4B6-4E4E-B651-3BB9CA613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928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Century </a:t>
            </a:r>
            <a:r>
              <a:rPr b="0" lang="en-US" sz="5400" spc="-1" strike="noStrike">
                <a:solidFill>
                  <a:srgbClr val="cbcbcb"/>
                </a:solidFill>
                <a:latin typeface="Times New Roman"/>
              </a:rPr>
              <a:t>College-Fab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cbcbcb"/>
                </a:solidFill>
                <a:latin typeface="Times New Roman"/>
              </a:rPr>
              <a:t>Lab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te Bear Lake, Minnes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ob La Fav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eff Jahnk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im Greb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ott Simen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ternational Fab Lab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5A12-D351-4A70-90C8-BEE98017DF7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26E3FDE-10F5-48FA-804B-4B0FF2F906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entury College Fab Lab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rchased Equi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red a full time lab manag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ing a new Fab Lab facility (2008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Fab Lab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E88-13C8-469B-9EDD-C5A4D2BC57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C1D26-FE0F-425F-9145-6B61651573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C-Fab Lab Go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e Students to Pursue STEM fiel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ive Students Practical Ski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ster Innov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novation Lab for Business &amp; Industry-Technology Transf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Fab Lab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626-DD16-499F-857E-26A2764117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E1E5B-C238-4582-B682-1EC7B5048C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C-Fab Lab Go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Technical Program Foc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orporate Fab into all Engineering &amp; Technology Progra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t Students excited about Engr and Techn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 to Eng. course students will design, program, and fabricate a microprocessor controlled mach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Fab Lab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392E-8BF1-4CA9-B180-6A241E9156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452AD-667D-4931-BC9F-A2A4F555EF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ormation Technology</cp:lastModifiedBy>
  <dcterms:modified xsi:type="dcterms:W3CDTF">2007-08-20T14:52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