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1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ftr" idx="1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 type="sldNum" idx="1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120c8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7A8A460-3AD8-413C-977B-7A650717BD11}" type="slidenum">
              <a:rPr b="0" lang="en-US" sz="1200" spc="-1" strike="noStrike">
                <a:solidFill>
                  <a:srgbClr val="120c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E04EACF-6AF6-466F-916E-C41B55A3DDB0}" type="slidenum">
              <a:rPr b="0" lang="en-US" sz="1200" spc="-1" strike="noStrike">
                <a:solidFill>
                  <a:srgbClr val="120c8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VTC is considered the top college in WTCS; striving to be one of the best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ity is very progressive &amp; entrepreneu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key programs include Criminal Justice, Healthcare, &amp; Mfg 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industry affinity; on campus logos seen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 role in number of special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industry outreach track recor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27DCD77-9164-4673-B534-6CCEEE375B91}" type="slidenum">
              <a:rPr b="0" lang="en-US" sz="1200" spc="-1" strike="noStrike">
                <a:solidFill>
                  <a:srgbClr val="120c8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W-Stout 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878D12-3B00-4CA5-916F-26DEE09F4DC2}" type="slidenum">
              <a:rPr b="0" lang="en-US" sz="1200" spc="-1" strike="noStrike">
                <a:solidFill>
                  <a:srgbClr val="120c8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1d05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4281CAC-82C4-4DE4-9802-22A24EAA58A9}" type="slidenum">
              <a:rPr b="0" lang="en-US" sz="1200" spc="-1" strike="noStrike">
                <a:solidFill>
                  <a:srgbClr val="120c8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fld id="{C05BC3A4-6515-4F5B-AACF-C56E81CFE3E0}" type="slidenum">
              <a:rPr b="0" lang="en-US" sz="1200" spc="-1" strike="noStrike">
                <a:solidFill>
                  <a:srgbClr val="120c8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3333cc"/>
                </a:solidFill>
                <a:latin typeface="Times New Roman"/>
              </a:rPr>
              <a:t>FVTC Confidential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8351280" y="647712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EC3C-D7AE-4468-A186-32C0F2902D98}" type="slidenum">
              <a:rPr b="1" lang="fr-FR" sz="8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8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8351280" y="647712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A208-60DA-4A9F-A066-0BAD8990812F}" type="slidenum">
              <a:rPr b="1" lang="fr-FR" sz="8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9"/>
          </p:nvPr>
        </p:nvSpPr>
        <p:spPr>
          <a:xfrm>
            <a:off x="259056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VTC Confidential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Line 8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9" name="Rectangle 13"/>
          <p:cNvSpPr/>
          <p:nvPr/>
        </p:nvSpPr>
        <p:spPr>
          <a:xfrm>
            <a:off x="8351280" y="647712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2CBE-6402-4E57-96B7-63F8517A4E66}" type="slidenum">
              <a:rPr b="1" lang="fr-FR" sz="8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10"/>
          </p:nvPr>
        </p:nvSpPr>
        <p:spPr>
          <a:xfrm>
            <a:off x="259056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VTC Confidential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Line 8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8351280" y="647712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52C6-94B0-4D3A-BD97-4A7776C78183}" type="slidenum">
              <a:rPr b="1" lang="fr-FR" sz="8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1"/>
          </p:nvPr>
        </p:nvSpPr>
        <p:spPr>
          <a:xfrm>
            <a:off x="259056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VTC Confidential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Line 8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8351280" y="647712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42DD-B401-40E1-A6E3-DFFA63C45AAE}" type="slidenum">
              <a:rPr b="1" lang="fr-FR" sz="8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8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8351280" y="647712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A1D5-5A2C-4D64-A730-6963DB36986D}" type="slidenum">
              <a:rPr b="1" lang="fr-FR" sz="8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2"/>
          </p:nvPr>
        </p:nvSpPr>
        <p:spPr>
          <a:xfrm>
            <a:off x="259056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VTC Confidential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8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8351280" y="647712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33FA-9558-4F62-A658-4E1802A054D1}" type="slidenum">
              <a:rPr b="1" lang="fr-FR" sz="8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3"/>
          </p:nvPr>
        </p:nvSpPr>
        <p:spPr>
          <a:xfrm>
            <a:off x="259056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VTC Confidential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8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8351280" y="647712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EA8A-7A83-4117-9434-DF7F843E3A1B}" type="slidenum">
              <a:rPr b="1" lang="fr-FR" sz="8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4"/>
          </p:nvPr>
        </p:nvSpPr>
        <p:spPr>
          <a:xfrm>
            <a:off x="259056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VTC Confidential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8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8351280" y="647712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AA13-F032-4FB9-869D-6A713580FD2C}" type="slidenum">
              <a:rPr b="1" lang="fr-FR" sz="8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5"/>
          </p:nvPr>
        </p:nvSpPr>
        <p:spPr>
          <a:xfrm>
            <a:off x="259056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VTC Confidential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8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8351280" y="647712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1A96-6345-438D-B5C8-81FDF94CC35A}" type="slidenum">
              <a:rPr b="1" lang="fr-FR" sz="8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6"/>
          </p:nvPr>
        </p:nvSpPr>
        <p:spPr>
          <a:xfrm>
            <a:off x="259056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VTC Confidential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8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8351280" y="647712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0BE0-4D11-4644-89B0-5786D1E9D22C}" type="slidenum">
              <a:rPr b="1" lang="fr-FR" sz="8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7"/>
          </p:nvPr>
        </p:nvSpPr>
        <p:spPr>
          <a:xfrm>
            <a:off x="259056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VTC Confidential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8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8351280" y="647712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E04C-2ED0-474D-9873-F982D4BA7D94}" type="slidenum">
              <a:rPr b="1" lang="fr-FR" sz="8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Clr>
                <a:srgbClr val="120c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8"/>
          </p:nvPr>
        </p:nvSpPr>
        <p:spPr>
          <a:xfrm>
            <a:off x="259056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VTC Confidential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sconline.org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6"/>
          <p:cNvGrpSpPr/>
          <p:nvPr/>
        </p:nvGrpSpPr>
        <p:grpSpPr>
          <a:xfrm>
            <a:off x="304920" y="304920"/>
            <a:ext cx="2481120" cy="1755720"/>
            <a:chOff x="304920" y="304920"/>
            <a:chExt cx="2481120" cy="1755720"/>
          </a:xfrm>
        </p:grpSpPr>
        <p:pic>
          <p:nvPicPr>
            <p:cNvPr id="538" name="Picture 7" descr="081_M_Abstract"/>
            <p:cNvPicPr/>
            <p:nvPr/>
          </p:nvPicPr>
          <p:blipFill>
            <a:blip r:embed="rId1"/>
            <a:stretch/>
          </p:blipFill>
          <p:spPr>
            <a:xfrm>
              <a:off x="304920" y="304920"/>
              <a:ext cx="2481120" cy="17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8" descr="KnowledgeLogo"/>
            <p:cNvPicPr/>
            <p:nvPr/>
          </p:nvPicPr>
          <p:blipFill>
            <a:blip r:embed="rId2"/>
            <a:stretch/>
          </p:blipFill>
          <p:spPr>
            <a:xfrm>
              <a:off x="425880" y="594000"/>
              <a:ext cx="2178360" cy="133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0" name="Rectangle 12"/>
          <p:cNvSpPr/>
          <p:nvPr/>
        </p:nvSpPr>
        <p:spPr>
          <a:xfrm>
            <a:off x="2063880" y="2727360"/>
            <a:ext cx="5752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Fox Valley </a:t>
            </a:r>
            <a:br>
              <a:rPr sz="3900"/>
            </a:b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Technical College</a:t>
            </a: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ab Lab Profile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900"/>
            </a:b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1" name="Rectangle 13"/>
          <p:cNvSpPr/>
          <p:nvPr/>
        </p:nvSpPr>
        <p:spPr>
          <a:xfrm>
            <a:off x="1330200" y="5114880"/>
            <a:ext cx="71312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URTH INTERNATIONAL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AB LAB FORUM &amp; SYMPOSIUM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UGUST 2007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2" name="Picture 11" descr=""/>
          <p:cNvPicPr/>
          <p:nvPr/>
        </p:nvPicPr>
        <p:blipFill>
          <a:blip r:embed="rId3"/>
          <a:stretch/>
        </p:blipFill>
        <p:spPr>
          <a:xfrm>
            <a:off x="3106800" y="3616200"/>
            <a:ext cx="3763800" cy="974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4"/>
          <a:stretch/>
        </p:blipFill>
        <p:spPr>
          <a:xfrm>
            <a:off x="6669000" y="347760"/>
            <a:ext cx="21574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1"/>
          <p:cNvSpPr/>
          <p:nvPr/>
        </p:nvSpPr>
        <p:spPr>
          <a:xfrm>
            <a:off x="259092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b2b2b2"/>
                </a:solidFill>
                <a:latin typeface="Arial"/>
              </a:rPr>
              <a:t>FVTC - Date    Page</a:t>
            </a:r>
            <a:endParaRPr b="1" lang="en-US" sz="7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Rectangle 13"/>
          <p:cNvSpPr/>
          <p:nvPr/>
        </p:nvSpPr>
        <p:spPr>
          <a:xfrm>
            <a:off x="0" y="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41280" indent="-1241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20c80"/>
                </a:solidFill>
                <a:latin typeface="Arial"/>
              </a:rPr>
              <a:t>Profile: Fox Valley Technical College  </a:t>
            </a:r>
            <a:br>
              <a:rPr sz="2600"/>
            </a:br>
            <a:endParaRPr b="1" lang="en-US" sz="2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0" y="720720"/>
            <a:ext cx="914400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799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Leading institution in the Wisconsin Technical College</a:t>
            </a:r>
            <a:br>
              <a:rPr sz="1600"/>
            </a:b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System (WTCS) for both Advanced Technical Education</a:t>
            </a:r>
            <a:br>
              <a:rPr sz="1600"/>
            </a:b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and Industry Outreach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Recognized nationally as a model entrepreneurial college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Key FVTC Facts :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Delivers 79 programs to over 50,000 students each year; extensive labs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Early adaptor &amp; leader in technology-based alternative delivery (10,000 students served annually)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International Institute offers 13 Languages and cultural training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Extensive industry partnerships (e.g. Kuka Robotics, Xerox, Kodak, Rockwell)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Global Host for :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World-wide Instructional Development System (WIDS) (Curriculum Management)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Wisconsin Online Resource Center (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wisconline.org</a:t>
            </a: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) (Digital library of interactive multimedia learning objects available for worldwide use at no cost) 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Long-term success in contracted education, training and technical assistance to business and industry :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More than 1,700 employers and 21,000 employees served each year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28% outside immediate district in Wisconsin or out of state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Customers range from large multi-national corporations to small-and medium-sized businesses to governmental agencies and schools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2004-05 contract revenue generation $6.4 million or over 20% of total state revenue in WTCS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1428840" indent="-285840">
              <a:lnSpc>
                <a:spcPct val="100000"/>
              </a:lnSpc>
              <a:buClr>
                <a:srgbClr val="eb8b1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7" name="Picture 11" descr=""/>
          <p:cNvPicPr/>
          <p:nvPr/>
        </p:nvPicPr>
        <p:blipFill>
          <a:blip r:embed="rId2"/>
          <a:stretch/>
        </p:blipFill>
        <p:spPr>
          <a:xfrm>
            <a:off x="5907240" y="320760"/>
            <a:ext cx="30096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1"/>
          <p:cNvSpPr/>
          <p:nvPr/>
        </p:nvSpPr>
        <p:spPr>
          <a:xfrm>
            <a:off x="259092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b2b2b2"/>
                </a:solidFill>
                <a:latin typeface="Arial"/>
              </a:rPr>
              <a:t>FVTC - Date    Page</a:t>
            </a:r>
            <a:endParaRPr b="1" lang="en-US" sz="7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77840" y="2160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41280" indent="-1241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20c80"/>
                </a:solidFill>
                <a:latin typeface="Arial"/>
              </a:rPr>
              <a:t>Partner: University of Wisconsin-Stout  </a:t>
            </a:r>
            <a:br>
              <a:rPr sz="2600"/>
            </a:br>
            <a:endParaRPr b="1" lang="en-US" sz="2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932040"/>
            <a:ext cx="914400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9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que, highly respected university within the UW System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ated as Wisconsin’s Polytechnic University 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y UW-Stout Facts :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000 students in 27 undergraduate and 16 graduate degree program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re than 300 laboratories and extensive industry partnership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ecializations- 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plied Technology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gineering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ong hands-on, minds-on philosophy in all academic programs.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phasizes real-world field experience for students, faculty and performance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 applied research that directly impacts regional economy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eb8b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ut Technology Transfer Institute (STTI) has 11 centers: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tablished to promote technology transfer between UW-Stout and industry 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 of UW-Stout's College of Technology, Engineering, and Management 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&gt; 4,000 technical assistance activities at over 1,000 companie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&gt; $160 million in client reported impact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551" name="Group 8"/>
          <p:cNvGrpSpPr/>
          <p:nvPr/>
        </p:nvGrpSpPr>
        <p:grpSpPr>
          <a:xfrm>
            <a:off x="5553000" y="-174600"/>
            <a:ext cx="4101840" cy="3913200"/>
            <a:chOff x="5553000" y="-174600"/>
            <a:chExt cx="4101840" cy="3913200"/>
          </a:xfrm>
        </p:grpSpPr>
        <p:sp>
          <p:nvSpPr>
            <p:cNvPr id="552" name="AutoShape 7"/>
            <p:cNvSpPr/>
            <p:nvPr/>
          </p:nvSpPr>
          <p:spPr>
            <a:xfrm>
              <a:off x="5553000" y="-174600"/>
              <a:ext cx="4101840" cy="39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3" name="Freeform 23"/>
            <p:cNvSpPr/>
            <p:nvPr/>
          </p:nvSpPr>
          <p:spPr>
            <a:xfrm>
              <a:off x="7459560" y="546120"/>
              <a:ext cx="919080" cy="96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4" name="Rectangle 31"/>
            <p:cNvSpPr/>
            <p:nvPr/>
          </p:nvSpPr>
          <p:spPr>
            <a:xfrm>
              <a:off x="7659360" y="1184400"/>
              <a:ext cx="66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ISCONSIN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5" name="Freeform 40"/>
            <p:cNvSpPr/>
            <p:nvPr/>
          </p:nvSpPr>
          <p:spPr>
            <a:xfrm>
              <a:off x="7551720" y="795240"/>
              <a:ext cx="168120" cy="12384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6" name="Rectangle 41"/>
            <p:cNvSpPr/>
            <p:nvPr/>
          </p:nvSpPr>
          <p:spPr>
            <a:xfrm>
              <a:off x="7841520" y="777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W-STOUT</a:t>
              </a:r>
              <a:endParaRPr b="1" lang="en-US" sz="11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7" name="Line 42"/>
            <p:cNvSpPr/>
            <p:nvPr/>
          </p:nvSpPr>
          <p:spPr>
            <a:xfrm flipH="1">
              <a:off x="7683120" y="58680"/>
              <a:ext cx="152280" cy="70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259092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b2b2b2"/>
                </a:solidFill>
                <a:latin typeface="Arial"/>
              </a:rPr>
              <a:t>FVTC - Date    Page</a:t>
            </a:r>
            <a:endParaRPr b="1" lang="en-US" sz="7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0284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20c80"/>
                </a:solidFill>
                <a:latin typeface="Arial"/>
              </a:rPr>
              <a:t>FOX VALLEY TECHNICAL COLLEGE FAB LAB PROFILE</a:t>
            </a:r>
            <a:br>
              <a:rPr sz="2200"/>
            </a:br>
            <a:endParaRPr b="1" lang="en-US" sz="22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0" y="852480"/>
            <a:ext cx="500688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1199"/>
              </a:spcBef>
              <a:buClr>
                <a:srgbClr val="eb8b18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0c80"/>
                </a:solidFill>
                <a:latin typeface="Arial"/>
              </a:rPr>
              <a:t>Located in Appleton, Wisconsin (NE)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eb8b18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0c80"/>
                </a:solidFill>
                <a:latin typeface="Arial"/>
              </a:rPr>
              <a:t>Key Driver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Experiential learning infused into 28 courses in 4 Program areas (IT, AET, MD, EET) at FVTC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STEM (Science / Technology / Engineering /Math) Recruitment in Middle &amp; High Schools 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Proof-of-Concept Prototyping for entrepreneurs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Stimulating innovation and invention in region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Collaboration with other technical colleges, universities, and international institutions 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Become active participant in a global innovation network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1199"/>
              </a:spcBef>
              <a:buClr>
                <a:srgbClr val="eb8b18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eb8b18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561" name="Group 14"/>
          <p:cNvGrpSpPr/>
          <p:nvPr/>
        </p:nvGrpSpPr>
        <p:grpSpPr>
          <a:xfrm>
            <a:off x="5041800" y="934920"/>
            <a:ext cx="4101840" cy="3913200"/>
            <a:chOff x="5041800" y="934920"/>
            <a:chExt cx="4101840" cy="3913200"/>
          </a:xfrm>
        </p:grpSpPr>
        <p:sp>
          <p:nvSpPr>
            <p:cNvPr id="562" name="AutoShape 13"/>
            <p:cNvSpPr/>
            <p:nvPr/>
          </p:nvSpPr>
          <p:spPr>
            <a:xfrm>
              <a:off x="5041800" y="934920"/>
              <a:ext cx="4101840" cy="39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7318080" y="1511280"/>
              <a:ext cx="997200" cy="51408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7961040" y="1827000"/>
              <a:ext cx="671760" cy="91440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6702120" y="3944880"/>
              <a:ext cx="878040" cy="78876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7215120" y="2593800"/>
              <a:ext cx="679320" cy="123192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7818120" y="2706480"/>
              <a:ext cx="540000" cy="92880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6376680" y="2411280"/>
              <a:ext cx="1038240" cy="68724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5408280" y="3159000"/>
              <a:ext cx="1293840" cy="69840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6295680" y="1141200"/>
              <a:ext cx="1146240" cy="128592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6505560" y="3049560"/>
              <a:ext cx="1155600" cy="100656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5140080" y="2473200"/>
              <a:ext cx="1436760" cy="72072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5238720" y="1166760"/>
              <a:ext cx="1147680" cy="72396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8285040" y="2571480"/>
              <a:ext cx="730080" cy="82260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5" name="Freeform 27"/>
            <p:cNvSpPr/>
            <p:nvPr/>
          </p:nvSpPr>
          <p:spPr>
            <a:xfrm>
              <a:off x="5233680" y="3809880"/>
              <a:ext cx="1503360" cy="78408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6" name="Freeform 28"/>
            <p:cNvSpPr/>
            <p:nvPr/>
          </p:nvSpPr>
          <p:spPr>
            <a:xfrm>
              <a:off x="5178240" y="1828800"/>
              <a:ext cx="1222200" cy="822240"/>
            </a:xfrm>
            <a:prstGeom prst="pie">
              <a:avLst/>
            </a:prstGeom>
            <a:solidFill>
              <a:srgbClr val="38b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7" name="Freeform 29"/>
            <p:cNvSpPr/>
            <p:nvPr/>
          </p:nvSpPr>
          <p:spPr>
            <a:xfrm>
              <a:off x="6948360" y="1655640"/>
              <a:ext cx="919080" cy="96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8" name="Rectangle 30"/>
            <p:cNvSpPr/>
            <p:nvPr/>
          </p:nvSpPr>
          <p:spPr>
            <a:xfrm>
              <a:off x="5599800" y="138888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599440" y="1536480"/>
              <a:ext cx="47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AKOTA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5631480" y="2073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5631480" y="2222280"/>
              <a:ext cx="47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AKOTA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547240" y="2787480"/>
              <a:ext cx="62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BRASKA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728760" y="2698560"/>
              <a:ext cx="305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OWA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6412680" y="1528560"/>
              <a:ext cx="67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NNESOTA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7148160" y="2293920"/>
              <a:ext cx="66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ISCONSIN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7353000" y="3063600"/>
              <a:ext cx="47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LLINOIS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7888680" y="290340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DIANA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8541360" y="2916000"/>
              <a:ext cx="29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HIO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6790680" y="3538440"/>
              <a:ext cx="56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SOURI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5869080" y="345096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ANSAS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5898240" y="4113000"/>
              <a:ext cx="64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KLAHOMA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6790320" y="4113000"/>
              <a:ext cx="62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RKANSAS</a:t>
              </a:r>
              <a:endParaRPr b="1" lang="en-US" sz="9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93" name="Rectangle 45"/>
            <p:cNvSpPr/>
            <p:nvPr/>
          </p:nvSpPr>
          <p:spPr>
            <a:xfrm>
              <a:off x="8165160" y="190188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ICHIGAN</a:t>
              </a:r>
              <a:endParaRPr b="1" lang="en-US" sz="11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94" name="Rectangle 49"/>
            <p:cNvSpPr/>
            <p:nvPr/>
          </p:nvSpPr>
          <p:spPr>
            <a:xfrm>
              <a:off x="7796880" y="1160280"/>
              <a:ext cx="36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VTC</a:t>
              </a:r>
              <a:endParaRPr b="1" lang="en-US" sz="11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95" name="Freeform 50"/>
            <p:cNvSpPr/>
            <p:nvPr/>
          </p:nvSpPr>
          <p:spPr>
            <a:xfrm>
              <a:off x="7532640" y="2093760"/>
              <a:ext cx="166680" cy="1252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96" name="Line 51"/>
            <p:cNvSpPr/>
            <p:nvPr/>
          </p:nvSpPr>
          <p:spPr>
            <a:xfrm flipH="1">
              <a:off x="7644960" y="1398600"/>
              <a:ext cx="152280" cy="70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8" descr="C:\$$FAB LAB\FAB LAB PIX\2007 GARY G\P5300691.JPG"/>
          <p:cNvPicPr/>
          <p:nvPr/>
        </p:nvPicPr>
        <p:blipFill>
          <a:blip r:embed="rId1"/>
          <a:stretch/>
        </p:blipFill>
        <p:spPr>
          <a:xfrm>
            <a:off x="210960" y="560520"/>
            <a:ext cx="3878280" cy="29080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C:\$$FAB LAB\FAB LAB PIX\2007 GARY G\P5300694.JPG"/>
          <p:cNvPicPr/>
          <p:nvPr/>
        </p:nvPicPr>
        <p:blipFill>
          <a:blip r:embed="rId2"/>
          <a:stretch/>
        </p:blipFill>
        <p:spPr>
          <a:xfrm>
            <a:off x="4432320" y="609480"/>
            <a:ext cx="3765600" cy="2826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0" descr="C:\$$FAB LAB\FAB LAB PIX\2007 GARY G\P5300680.JPG"/>
          <p:cNvPicPr/>
          <p:nvPr/>
        </p:nvPicPr>
        <p:blipFill>
          <a:blip r:embed="rId3"/>
          <a:stretch/>
        </p:blipFill>
        <p:spPr>
          <a:xfrm>
            <a:off x="241200" y="3786120"/>
            <a:ext cx="3851280" cy="280188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0284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20c80"/>
                </a:solidFill>
                <a:latin typeface="Arial"/>
              </a:rPr>
              <a:t>FOX VALLEY TECHNICAL COLLEGE FAB LAB PROFILE</a:t>
            </a:r>
            <a:br>
              <a:rPr sz="2200"/>
            </a:br>
            <a:endParaRPr b="1" lang="en-US" sz="22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601" name="Picture 2" descr="C:\$$FAB LAB\FAB LAB PIX\KIDS WORKSHOP 2007\IMG_1517.jpg"/>
          <p:cNvPicPr/>
          <p:nvPr/>
        </p:nvPicPr>
        <p:blipFill>
          <a:blip r:embed="rId4"/>
          <a:stretch/>
        </p:blipFill>
        <p:spPr>
          <a:xfrm>
            <a:off x="4498920" y="3741840"/>
            <a:ext cx="391176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3"/>
          <p:cNvSpPr/>
          <p:nvPr/>
        </p:nvSpPr>
        <p:spPr>
          <a:xfrm>
            <a:off x="2590920" y="66294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</a:rPr>
              <a:t>FVTC Confidential</a:t>
            </a:r>
            <a:r>
              <a:rPr b="1" lang="en-US" sz="700" spc="-1" strike="noStrike">
                <a:solidFill>
                  <a:srgbClr val="b2b2b2"/>
                </a:solidFill>
                <a:latin typeface="Arial"/>
              </a:rPr>
              <a:t>            </a:t>
            </a:r>
            <a:endParaRPr b="1" lang="en-US" sz="7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603" name="Group 19"/>
          <p:cNvGrpSpPr/>
          <p:nvPr/>
        </p:nvGrpSpPr>
        <p:grpSpPr>
          <a:xfrm>
            <a:off x="792000" y="493560"/>
            <a:ext cx="7089840" cy="5932800"/>
            <a:chOff x="792000" y="493560"/>
            <a:chExt cx="7089840" cy="5932800"/>
          </a:xfrm>
        </p:grpSpPr>
        <p:pic>
          <p:nvPicPr>
            <p:cNvPr id="604" name="Picture 5" descr=""/>
            <p:cNvPicPr/>
            <p:nvPr/>
          </p:nvPicPr>
          <p:blipFill>
            <a:blip r:embed="rId1"/>
            <a:stretch/>
          </p:blipFill>
          <p:spPr>
            <a:xfrm>
              <a:off x="792000" y="1224360"/>
              <a:ext cx="7089840" cy="51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4"/>
            <p:cNvSpPr/>
            <p:nvPr/>
          </p:nvSpPr>
          <p:spPr>
            <a:xfrm>
              <a:off x="5512320" y="1498680"/>
              <a:ext cx="322200" cy="515880"/>
            </a:xfrm>
            <a:prstGeom prst="rect">
              <a:avLst/>
            </a:prstGeom>
            <a:noFill/>
            <a:ln w="4428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cxnSp>
          <p:nvCxnSpPr>
            <p:cNvPr id="606" name="AutoShape 7"/>
            <p:cNvCxnSpPr/>
            <p:nvPr/>
          </p:nvCxnSpPr>
          <p:spPr>
            <a:xfrm>
              <a:off x="2991600" y="1337400"/>
              <a:ext cx="2539800" cy="150120"/>
            </a:xfrm>
            <a:prstGeom prst="straightConnector1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oval" w="med"/>
              <a:tailEnd len="med" type="oval" w="med"/>
            </a:ln>
          </p:spPr>
        </p:cxnSp>
        <p:cxnSp>
          <p:nvCxnSpPr>
            <p:cNvPr id="607" name="AutoShape 8"/>
            <p:cNvCxnSpPr>
              <a:endCxn id="605" idx="1"/>
            </p:cNvCxnSpPr>
            <p:nvPr/>
          </p:nvCxnSpPr>
          <p:spPr>
            <a:xfrm flipV="1">
              <a:off x="3888000" y="1757160"/>
              <a:ext cx="1595520" cy="1558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608" name="AutoShape 9"/>
            <p:cNvCxnSpPr/>
            <p:nvPr/>
          </p:nvCxnSpPr>
          <p:spPr>
            <a:xfrm flipV="1">
              <a:off x="1687320" y="1996920"/>
              <a:ext cx="3825000" cy="34887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609" name="AutoShape 10"/>
            <p:cNvCxnSpPr/>
            <p:nvPr/>
          </p:nvCxnSpPr>
          <p:spPr>
            <a:xfrm>
              <a:off x="5849280" y="1761480"/>
              <a:ext cx="1710720" cy="1673640"/>
            </a:xfrm>
            <a:prstGeom prst="straightConnector1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oval" w="med"/>
              <a:tailEnd len="med" type="oval" w="med"/>
            </a:ln>
          </p:spPr>
        </p:cxnSp>
        <p:cxnSp>
          <p:nvCxnSpPr>
            <p:cNvPr id="610" name="AutoShape 11"/>
            <p:cNvCxnSpPr/>
            <p:nvPr/>
          </p:nvCxnSpPr>
          <p:spPr>
            <a:xfrm flipV="1">
              <a:off x="4838040" y="2014200"/>
              <a:ext cx="975960" cy="2654280"/>
            </a:xfrm>
            <a:prstGeom prst="straightConnector1">
              <a:avLst/>
            </a:prstGeom>
            <a:ln w="38160">
              <a:solidFill>
                <a:srgbClr val="0000ff"/>
              </a:solidFill>
              <a:prstDash val="sysDot"/>
              <a:miter/>
              <a:headEnd len="med" type="oval" w="med"/>
              <a:tailEnd len="med" type="oval" w="med"/>
            </a:ln>
          </p:spPr>
        </p:cxnSp>
        <p:sp>
          <p:nvSpPr>
            <p:cNvPr id="611" name="Text Box 14"/>
            <p:cNvSpPr/>
            <p:nvPr/>
          </p:nvSpPr>
          <p:spPr>
            <a:xfrm>
              <a:off x="1551600" y="6119280"/>
              <a:ext cx="1406520" cy="3070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Welding-Fabrication</a:t>
              </a:r>
              <a:br>
                <a:rPr sz="700"/>
              </a:b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 Lab</a:t>
              </a:r>
              <a:endParaRPr b="1" lang="en-US" sz="7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3364560" y="2020680"/>
              <a:ext cx="1314360" cy="3070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Automated Manufacturing </a:t>
              </a:r>
              <a:br>
                <a:rPr sz="700"/>
              </a:b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Systems (AMS) Lab</a:t>
              </a:r>
              <a:endParaRPr b="1" lang="en-US" sz="7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940080" y="3744000"/>
              <a:ext cx="941760" cy="3070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Electronics </a:t>
              </a:r>
              <a:br>
                <a:rPr sz="700"/>
              </a:b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Lab</a:t>
              </a:r>
              <a:endParaRPr b="1" lang="en-US" sz="7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2736720" y="861840"/>
              <a:ext cx="1594800" cy="3070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Applied Engineering Technology (AET) Area</a:t>
              </a:r>
              <a:endParaRPr b="1" lang="en-US" sz="7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3925440" y="4772160"/>
              <a:ext cx="1042200" cy="3070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Machine Tool </a:t>
              </a:r>
              <a:br>
                <a:rPr sz="700"/>
              </a:b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Lab</a:t>
              </a:r>
              <a:endParaRPr b="1" lang="en-US" sz="7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5399280" y="811800"/>
              <a:ext cx="523080" cy="4136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Pilot</a:t>
              </a:r>
              <a:br>
                <a:rPr sz="700"/>
              </a:b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Fab </a:t>
              </a:r>
              <a:br>
                <a:rPr sz="700"/>
              </a:b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Lab</a:t>
              </a:r>
              <a:endParaRPr b="1" lang="en-US" sz="7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7" name="Text Box 20"/>
            <p:cNvSpPr/>
            <p:nvPr/>
          </p:nvSpPr>
          <p:spPr>
            <a:xfrm>
              <a:off x="6287040" y="493560"/>
              <a:ext cx="1594800" cy="413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External Fab Labs</a:t>
              </a:r>
              <a:br>
                <a:rPr sz="700"/>
              </a:b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(UW-Stout, MIT, WTCS, Global Partners, etc.)</a:t>
              </a:r>
              <a:endParaRPr b="1" lang="en-US" sz="700" spc="-1" strike="noStrike">
                <a:solidFill>
                  <a:srgbClr val="006600"/>
                </a:solidFill>
                <a:latin typeface="Arial"/>
              </a:endParaRPr>
            </a:p>
          </p:txBody>
        </p:sp>
        <p:cxnSp>
          <p:nvCxnSpPr>
            <p:cNvPr id="618" name="AutoShape 21"/>
            <p:cNvCxnSpPr/>
            <p:nvPr/>
          </p:nvCxnSpPr>
          <p:spPr>
            <a:xfrm flipV="1">
              <a:off x="5838480" y="1081800"/>
              <a:ext cx="1271160" cy="46692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oval" w="med"/>
              <a:tailEnd len="med" type="oval" w="med"/>
            </a:ln>
          </p:spPr>
        </p:cxn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14160" y="0"/>
            <a:ext cx="6180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412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VTC Fab Lab Network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96560" y="1184040"/>
            <a:ext cx="829764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LEARNING PILOTS- SUMMER ‘07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FREE FOR EVERYONE: Monthly “Explore the FAB LAB” sessions starting in Fall ‘07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PROGRAM STUDENTS enrolled at FVTC in over twenty Applied Engineering, Mechanical Design, and Electrical-Electronics-based program courses will start using the Fab Lab for hands-on learning activities in Fall ‘07. 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INDEPENDENT STUDENTS: We are developing a one-credit, independent study course in Basic and Advanced Personal Fabrication for standard course and material fees for $150-200 for Fall ‘07. Coordinated via BlackBoard.com  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eb8b1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20c80"/>
                </a:solidFill>
                <a:latin typeface="Arial"/>
              </a:rPr>
              <a:t>ENTREPRENEURS, INVENTORS, AND EXTERNAL CLIENTS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work through the Venture Center to determine whether a packaged or custom solution is right for them. Our initial offerings will include: 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Proof-of-Concept Entrepreneur (“Do-It-Yourself”) Package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Proof-of-Concept Services Package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Clr>
                <a:srgbClr val="120c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Custom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539280" y="204840"/>
            <a:ext cx="745812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412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0c80"/>
                </a:solidFill>
                <a:latin typeface="Arial"/>
              </a:rPr>
              <a:t>Initial Fab Lab Pilots &amp; Offerings</a:t>
            </a:r>
            <a:endParaRPr b="1" lang="en-US" sz="32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622" name="Picture 10" descr=""/>
          <p:cNvPicPr/>
          <p:nvPr/>
        </p:nvPicPr>
        <p:blipFill>
          <a:blip r:embed="rId1"/>
          <a:stretch/>
        </p:blipFill>
        <p:spPr>
          <a:xfrm>
            <a:off x="7662960" y="5753160"/>
            <a:ext cx="14810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19:25:22Z</dcterms:created>
  <dc:creator>PPL</dc:creator>
  <dc:description/>
  <dc:language>en-US</dc:language>
  <cp:lastModifiedBy>James J. Janisse</cp:lastModifiedBy>
  <dcterms:modified xsi:type="dcterms:W3CDTF">2007-08-20T12:54:34Z</dcterms:modified>
  <cp:revision>656</cp:revision>
  <dc:subject/>
  <dc:title>E2E BIW Process</dc:title>
</cp:coreProperties>
</file>