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5.jpeg" ContentType="image/jpeg"/>
  <Override PartName="/ppt/media/image7.pct" ContentType="image/x-pict"/>
  <Override PartName="/ppt/media/image10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5B37-A503-4786-BCD6-1442799C0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0B5B-C7B6-4C57-9D15-F966EBBCC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7FE8-9A80-463A-AB4D-B8FFB0826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B685-4AC7-4723-B98D-18AD10488F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776D-6694-4513-899F-35EF68FE71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F7D9-3FD2-4BC9-ACB3-8842F6986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EFF0-553C-4F48-BE93-EAB03AD27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93A1-9E20-4163-968D-64E4BF191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109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0AAA-9541-4DD3-ACFE-E30F612D0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DB18-1EF5-421B-80E3-F66B9C342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4C3C-0400-4311-BB74-C5DC5329B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3396-C42D-45C2-922F-81AE7C9E7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3e1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56200" y="4694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34CF-0A1D-471D-BBED-08D9325972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162920" y="152280"/>
            <a:ext cx="1801800" cy="3128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-81000" y="5651640"/>
            <a:ext cx="9282240" cy="124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ct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447920" y="2044800"/>
            <a:ext cx="6400800" cy="4101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ing Ringsaker and Nærose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 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æro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saker kom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dmark Fyl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Manager Morten Røk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24160" y="1003320"/>
            <a:ext cx="4648320" cy="8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41200" y="1473120"/>
            <a:ext cx="535968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r Stig Ørnv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19040" y="126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3e13"/>
                </a:solidFill>
                <a:latin typeface="Arial"/>
              </a:rPr>
              <a:t>Høylandet</a:t>
            </a: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448240" y="546120"/>
            <a:ext cx="3429000" cy="606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8030-F6A4-4B59-84AF-06DEC2CD3613}" type="slidenum">
              <a:t>10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40080" y="2298600"/>
            <a:ext cx="2374920" cy="2095560"/>
          </a:xfrm>
          <a:prstGeom prst="ellipse">
            <a:avLst/>
          </a:prstGeom>
          <a:solidFill>
            <a:srgbClr val="f1c7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5920"/>
            <a:ext cx="7772400" cy="1473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e13"/>
                </a:solidFill>
                <a:latin typeface="Arial"/>
              </a:rPr>
              <a:t>Norway</a:t>
            </a:r>
            <a:endParaRPr b="0" lang="en-US" sz="2800" spc="-1" strike="noStrike">
              <a:solidFill>
                <a:srgbClr val="1c3e13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9480" y="355680"/>
            <a:ext cx="3251160" cy="580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77960" y="2679840"/>
            <a:ext cx="2130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y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øylan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ucky Næro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1511280"/>
            <a:ext cx="66024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222640" y="3301560"/>
            <a:ext cx="11556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286000" y="3683160"/>
            <a:ext cx="116856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48240" y="939960"/>
            <a:ext cx="332748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T FabLab Lyngen, Høylandet and Lucky Næroset will form Fab Foundation Nor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xes of creativity and madn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4889520"/>
            <a:ext cx="19044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EDCD-ECFA-4D1B-A3B3-86157631BBB9}" type="slidenum">
              <a:t>2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3e13"/>
                </a:solidFill>
                <a:latin typeface="Arial"/>
              </a:rPr>
              <a:t>Present work:</a:t>
            </a: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range meetings with the local government, the national government and possible partners in our region and try to explain WHAT a FabLab is and what we’re doing ther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important but time-consu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project now and to dec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23EB-2DB1-4E6D-8F74-D3EEE7E5081D}" type="slidenum">
              <a:t>3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3e13"/>
                </a:solidFill>
                <a:latin typeface="Arial"/>
              </a:rPr>
              <a:t>Focus</a:t>
            </a: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focus on the large industries in our region - which is timber and wood processing, but our door will be open to an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lso establish a close relationship to all the public schools and high schools in our re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2E26-4F51-48E6-98FB-55F08BBC46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5920"/>
            <a:ext cx="7772400" cy="1473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e13"/>
                </a:solidFill>
                <a:latin typeface="Arial"/>
              </a:rPr>
              <a:t>The Region - INNLANDET</a:t>
            </a:r>
            <a:endParaRPr b="0" lang="en-US" sz="2800" spc="-1" strike="noStrike">
              <a:solidFill>
                <a:srgbClr val="1c3e13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39960" y="1092240"/>
            <a:ext cx="4736880" cy="4673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08360" y="3772080"/>
            <a:ext cx="19044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3920" y="1308240"/>
            <a:ext cx="311148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otential is big and the different local communities need a success-story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r municipality has around 30.000 in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gion Innlandet has approximately 320.000 in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409040" y="4635360"/>
            <a:ext cx="4406760" cy="6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872880" y="3479400"/>
            <a:ext cx="2057400" cy="34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F454-00D7-4180-B2D2-3886D3721BD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2880" y="277920"/>
            <a:ext cx="4330800" cy="6165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86400" y="1778040"/>
            <a:ext cx="332748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ntpage from one of the regions biggest Newspapers in Ju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cing Lucky Næroset right in the middle of the wor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9C28-AF4A-4FB5-8439-0090C869081E}" type="slidenum">
              <a:t>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3e13"/>
                </a:solidFill>
                <a:latin typeface="Arial"/>
              </a:rPr>
              <a:t>When?</a:t>
            </a: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ope to move into a temporary building during spring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ng summ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hope to be able to start building our new FabLab early nex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6A69-27AB-4478-9ADE-D5D30A75C371}" type="slidenum">
              <a:t>7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7337160" cy="3033000"/>
            <a:chOff x="0" y="0"/>
            <a:chExt cx="7337160" cy="3033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70504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283520" y="2707920"/>
              <a:ext cx="536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0" y="0"/>
            <a:ext cx="7797240" cy="3770280"/>
            <a:chOff x="0" y="0"/>
            <a:chExt cx="7797240" cy="3770280"/>
          </a:xfrm>
        </p:grpSpPr>
        <p:pic>
          <p:nvPicPr>
            <p:cNvPr id="70" name="" descr=""/>
            <p:cNvPicPr/>
            <p:nvPr/>
          </p:nvPicPr>
          <p:blipFill>
            <a:blip r:embed="rId2"/>
            <a:srcRect l="400782" t="0" r="400782" b="0"/>
            <a:stretch/>
          </p:blipFill>
          <p:spPr>
            <a:xfrm>
              <a:off x="0" y="0"/>
              <a:ext cx="2222640" cy="19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700760" y="3149640"/>
              <a:ext cx="964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88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3e13"/>
                </a:solidFill>
                <a:latin typeface="Arial"/>
              </a:rPr>
              <a:t>Where?</a:t>
            </a:r>
            <a:endParaRPr b="0" lang="en-US" sz="4400" spc="-1" strike="noStrike">
              <a:solidFill>
                <a:srgbClr val="1c3e13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3520" y="1828800"/>
            <a:ext cx="179388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666880" y="2514600"/>
            <a:ext cx="2779920" cy="2236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V="1">
            <a:off x="1370880" y="388620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6360" y="3580920"/>
            <a:ext cx="2514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054760"/>
            <a:ext cx="56260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gernes school - an old building on campus -   could be a possible Fab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4533840" cy="4368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te 2009 - we hope to move into our new fac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will build this tower of birdhouses aside the FabLab-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people who want to fl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54640" y="1344600"/>
            <a:ext cx="2451240" cy="4170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889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3e13"/>
                </a:solidFill>
                <a:latin typeface="Arial"/>
                <a:ea typeface="Arial"/>
              </a:rPr>
              <a:t>A new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rten Røkke</dc:creator>
  <dc:description/>
  <dc:language>en-US</dc:language>
  <cp:lastModifiedBy/>
  <cp:revision>0</cp:revision>
  <dc:subject/>
  <dc:title>Lucky FabLab Norway</dc:title>
</cp:coreProperties>
</file>