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76E-2578-4181-9432-4720D420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2D0-F94B-42E3-AD26-7FD7A86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EAB-FB8A-4F12-9EBF-96B6131F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ACE-5627-4E6C-BEF4-8F8E4D30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0F9-BDB6-463A-A7A5-9BD17A36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C66-9C71-437D-A378-89002AA5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8D2-9362-4140-9C4C-10A09895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CD9-83D7-4B82-95D8-B446E9B6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FE3-2334-46F8-AE07-F569B6F6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92A-8F17-4AEA-9EB2-048810B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9DC-7DB2-4D6B-8DEA-6E1BBD36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F8B-5D41-4A0B-BB0C-AC7A774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3C03-C525-458C-B5F1-EED656D14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481560"/>
            <a:ext cx="4952880" cy="3376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800600" y="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3486240"/>
            <a:ext cx="434340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572000" cy="3117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7241" t="0" r="10136" b="0"/>
          <a:stretch/>
        </p:blipFill>
        <p:spPr>
          <a:xfrm>
            <a:off x="5457960" y="0"/>
            <a:ext cx="36846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815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8600" cy="647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81280" y="2336760"/>
            <a:ext cx="5486400" cy="139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505320" y="4637160"/>
            <a:ext cx="5562360" cy="145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6122880"/>
            <a:ext cx="9144000" cy="73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543480" y="25560"/>
            <a:ext cx="2361960" cy="218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94040" y="88920"/>
            <a:ext cx="42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0803"/>
                </a:solidFill>
                <a:latin typeface="Arial"/>
              </a:rPr>
              <a:t>http://cba.mit.edu/events/04.09.I0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9200" y="3809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f"/>
                </a:solidFill>
                <a:latin typeface="Arial"/>
              </a:rPr>
              <a:t>end-to-end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08080" y="419112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f"/>
                </a:solidFill>
                <a:latin typeface="Arial"/>
              </a:rPr>
              <a:t>interdevice inter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286680" y="698400"/>
            <a:ext cx="2425680" cy="1460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638680" y="609480"/>
            <a:ext cx="3505320" cy="1067040"/>
          </a:xfrm>
          <a:custGeom>
            <a:avLst/>
            <a:gdLst/>
            <a:ahLst/>
            <a:rect l="l" t="t" r="r" b="b"/>
            <a:pathLst>
              <a:path w="2016" h="864">
                <a:moveTo>
                  <a:pt x="0" y="864"/>
                </a:moveTo>
                <a:lnTo>
                  <a:pt x="240" y="864"/>
                </a:lnTo>
                <a:lnTo>
                  <a:pt x="240" y="0"/>
                </a:lnTo>
                <a:lnTo>
                  <a:pt x="1824" y="0"/>
                </a:lnTo>
                <a:lnTo>
                  <a:pt x="1824" y="864"/>
                </a:lnTo>
                <a:lnTo>
                  <a:pt x="2016" y="864"/>
                </a:lnTo>
              </a:path>
            </a:pathLst>
          </a:custGeom>
          <a:noFill/>
          <a:ln w="38160">
            <a:solidFill>
              <a:srgbClr val="d108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4800" y="744480"/>
            <a:ext cx="1219320" cy="1401840"/>
          </a:xfrm>
          <a:custGeom>
            <a:avLst/>
            <a:gdLst/>
            <a:ahLst/>
            <a:rect l="l" t="t" r="r" b="b"/>
            <a:pathLst>
              <a:path w="3748" h="1315">
                <a:moveTo>
                  <a:pt x="0" y="0"/>
                </a:moveTo>
                <a:cubicBezTo>
                  <a:pt x="15" y="20"/>
                  <a:pt x="69" y="31"/>
                  <a:pt x="111" y="123"/>
                </a:cubicBezTo>
                <a:cubicBezTo>
                  <a:pt x="153" y="215"/>
                  <a:pt x="223" y="387"/>
                  <a:pt x="255" y="555"/>
                </a:cubicBezTo>
                <a:cubicBezTo>
                  <a:pt x="287" y="723"/>
                  <a:pt x="255" y="1043"/>
                  <a:pt x="303" y="1131"/>
                </a:cubicBezTo>
                <a:cubicBezTo>
                  <a:pt x="351" y="1219"/>
                  <a:pt x="487" y="1147"/>
                  <a:pt x="543" y="1083"/>
                </a:cubicBezTo>
                <a:cubicBezTo>
                  <a:pt x="599" y="1019"/>
                  <a:pt x="615" y="867"/>
                  <a:pt x="639" y="747"/>
                </a:cubicBezTo>
                <a:cubicBezTo>
                  <a:pt x="663" y="627"/>
                  <a:pt x="639" y="379"/>
                  <a:pt x="687" y="363"/>
                </a:cubicBezTo>
                <a:cubicBezTo>
                  <a:pt x="735" y="347"/>
                  <a:pt x="863" y="547"/>
                  <a:pt x="927" y="651"/>
                </a:cubicBezTo>
                <a:cubicBezTo>
                  <a:pt x="991" y="755"/>
                  <a:pt x="1015" y="979"/>
                  <a:pt x="1071" y="987"/>
                </a:cubicBezTo>
                <a:cubicBezTo>
                  <a:pt x="1127" y="995"/>
                  <a:pt x="1207" y="835"/>
                  <a:pt x="1263" y="699"/>
                </a:cubicBezTo>
                <a:cubicBezTo>
                  <a:pt x="1319" y="563"/>
                  <a:pt x="1351" y="203"/>
                  <a:pt x="1407" y="171"/>
                </a:cubicBezTo>
                <a:cubicBezTo>
                  <a:pt x="1463" y="139"/>
                  <a:pt x="1551" y="331"/>
                  <a:pt x="1599" y="507"/>
                </a:cubicBezTo>
                <a:cubicBezTo>
                  <a:pt x="1647" y="683"/>
                  <a:pt x="1607" y="1139"/>
                  <a:pt x="1695" y="1227"/>
                </a:cubicBezTo>
                <a:cubicBezTo>
                  <a:pt x="1783" y="1315"/>
                  <a:pt x="2039" y="1155"/>
                  <a:pt x="2127" y="1035"/>
                </a:cubicBezTo>
                <a:cubicBezTo>
                  <a:pt x="2215" y="915"/>
                  <a:pt x="2151" y="555"/>
                  <a:pt x="2223" y="507"/>
                </a:cubicBezTo>
                <a:cubicBezTo>
                  <a:pt x="2295" y="459"/>
                  <a:pt x="2487" y="659"/>
                  <a:pt x="2559" y="747"/>
                </a:cubicBezTo>
                <a:cubicBezTo>
                  <a:pt x="2631" y="835"/>
                  <a:pt x="2591" y="1011"/>
                  <a:pt x="2655" y="1035"/>
                </a:cubicBezTo>
                <a:cubicBezTo>
                  <a:pt x="2719" y="1059"/>
                  <a:pt x="2871" y="955"/>
                  <a:pt x="2943" y="891"/>
                </a:cubicBezTo>
                <a:cubicBezTo>
                  <a:pt x="3015" y="827"/>
                  <a:pt x="3031" y="675"/>
                  <a:pt x="3087" y="651"/>
                </a:cubicBezTo>
                <a:cubicBezTo>
                  <a:pt x="3143" y="627"/>
                  <a:pt x="3207" y="707"/>
                  <a:pt x="3279" y="747"/>
                </a:cubicBezTo>
                <a:cubicBezTo>
                  <a:pt x="3351" y="787"/>
                  <a:pt x="3463" y="883"/>
                  <a:pt x="3519" y="891"/>
                </a:cubicBezTo>
                <a:cubicBezTo>
                  <a:pt x="3575" y="899"/>
                  <a:pt x="3577" y="816"/>
                  <a:pt x="3615" y="795"/>
                </a:cubicBezTo>
                <a:cubicBezTo>
                  <a:pt x="3653" y="774"/>
                  <a:pt x="3720" y="770"/>
                  <a:pt x="3748" y="76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143760" y="752400"/>
            <a:ext cx="142560" cy="1244160"/>
            <a:chOff x="6143760" y="752400"/>
            <a:chExt cx="142560" cy="1244160"/>
          </a:xfrm>
        </p:grpSpPr>
        <p:sp>
          <p:nvSpPr>
            <p:cNvPr id="62" name=""/>
            <p:cNvSpPr/>
            <p:nvPr/>
          </p:nvSpPr>
          <p:spPr>
            <a:xfrm>
              <a:off x="6143760" y="752400"/>
              <a:ext cx="71280" cy="1244160"/>
            </a:xfrm>
            <a:custGeom>
              <a:avLst/>
              <a:gdLst/>
              <a:ahLst/>
              <a:rect l="l" t="t" r="r" b="b"/>
              <a:pathLst>
                <a:path w="1048" h="972">
                  <a:moveTo>
                    <a:pt x="0" y="972"/>
                  </a:moveTo>
                  <a:cubicBezTo>
                    <a:pt x="72" y="951"/>
                    <a:pt x="131" y="919"/>
                    <a:pt x="202" y="897"/>
                  </a:cubicBezTo>
                  <a:cubicBezTo>
                    <a:pt x="262" y="867"/>
                    <a:pt x="310" y="845"/>
                    <a:pt x="359" y="793"/>
                  </a:cubicBezTo>
                  <a:cubicBezTo>
                    <a:pt x="400" y="720"/>
                    <a:pt x="457" y="657"/>
                    <a:pt x="494" y="583"/>
                  </a:cubicBezTo>
                  <a:cubicBezTo>
                    <a:pt x="521" y="529"/>
                    <a:pt x="526" y="469"/>
                    <a:pt x="569" y="426"/>
                  </a:cubicBezTo>
                  <a:cubicBezTo>
                    <a:pt x="591" y="367"/>
                    <a:pt x="600" y="307"/>
                    <a:pt x="651" y="269"/>
                  </a:cubicBezTo>
                  <a:cubicBezTo>
                    <a:pt x="703" y="146"/>
                    <a:pt x="744" y="118"/>
                    <a:pt x="860" y="52"/>
                  </a:cubicBezTo>
                  <a:cubicBezTo>
                    <a:pt x="912" y="7"/>
                    <a:pt x="978" y="0"/>
                    <a:pt x="1048" y="0"/>
                  </a:cubicBezTo>
                </a:path>
              </a:pathLst>
            </a:custGeom>
            <a:noFill/>
            <a:ln w="38160">
              <a:solidFill>
                <a:srgbClr val="d108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214320" y="752400"/>
              <a:ext cx="71640" cy="1244160"/>
            </a:xfrm>
            <a:custGeom>
              <a:avLst/>
              <a:gdLst/>
              <a:ahLst/>
              <a:rect l="l" t="t" r="r" b="b"/>
              <a:pathLst>
                <a:path w="1048" h="972">
                  <a:moveTo>
                    <a:pt x="0" y="972"/>
                  </a:moveTo>
                  <a:cubicBezTo>
                    <a:pt x="72" y="951"/>
                    <a:pt x="131" y="919"/>
                    <a:pt x="202" y="897"/>
                  </a:cubicBezTo>
                  <a:cubicBezTo>
                    <a:pt x="262" y="867"/>
                    <a:pt x="310" y="845"/>
                    <a:pt x="359" y="793"/>
                  </a:cubicBezTo>
                  <a:cubicBezTo>
                    <a:pt x="400" y="720"/>
                    <a:pt x="457" y="657"/>
                    <a:pt x="494" y="583"/>
                  </a:cubicBezTo>
                  <a:cubicBezTo>
                    <a:pt x="521" y="529"/>
                    <a:pt x="526" y="469"/>
                    <a:pt x="569" y="426"/>
                  </a:cubicBezTo>
                  <a:cubicBezTo>
                    <a:pt x="591" y="367"/>
                    <a:pt x="600" y="307"/>
                    <a:pt x="651" y="269"/>
                  </a:cubicBezTo>
                  <a:cubicBezTo>
                    <a:pt x="703" y="146"/>
                    <a:pt x="744" y="118"/>
                    <a:pt x="860" y="52"/>
                  </a:cubicBezTo>
                  <a:cubicBezTo>
                    <a:pt x="912" y="7"/>
                    <a:pt x="978" y="0"/>
                    <a:pt x="1048" y="0"/>
                  </a:cubicBezTo>
                </a:path>
              </a:pathLst>
            </a:custGeom>
            <a:noFill/>
            <a:ln w="38160">
              <a:solidFill>
                <a:srgbClr val="d108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829040"/>
            <a:ext cx="4667400" cy="2028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82440" y="5804640"/>
            <a:ext cx="4618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70602"/>
                </a:solidFill>
                <a:latin typeface="Arial"/>
              </a:rPr>
              <a:t>Internet 0: A Proposal for End-to-End Modu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3320" y="6153120"/>
            <a:ext cx="4001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70602"/>
                </a:solidFill>
                <a:latin typeface="Arial"/>
              </a:rPr>
              <a:t>Trivial Hypertext Transfer Protocol (THTP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26240" y="638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0602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2560" y="16668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hneider Elec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3680" y="1522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3640" y="510552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29040" y="0"/>
            <a:ext cx="3962520" cy="286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29240" y="2943360"/>
            <a:ext cx="2384640" cy="358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39560" y="0"/>
            <a:ext cx="4267440" cy="284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9280" y="2959200"/>
            <a:ext cx="5875200" cy="3551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3320" y="6491160"/>
            <a:ext cx="87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0124"/>
                </a:solidFill>
                <a:latin typeface="Arial"/>
              </a:rPr>
              <a:t>Hyperhabitat</a:t>
            </a:r>
            <a:r>
              <a:rPr b="1" lang="en-US" sz="1800" spc="-1" strike="noStrike">
                <a:solidFill>
                  <a:srgbClr val="008582"/>
                </a:solidFill>
                <a:latin typeface="Arial"/>
              </a:rPr>
              <a:t> Vicente Guallart, Institute for Advanced Architecture of Catal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133720"/>
            <a:ext cx="40384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452680" y="2238480"/>
            <a:ext cx="3871800" cy="247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49680" y="6262560"/>
            <a:ext cx="72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582"/>
                </a:solidFill>
                <a:latin typeface="Arial"/>
              </a:rPr>
              <a:t>Vicente Guallart, Institute for Advanced Architecture of Catal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64640" cy="457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2E: Intelligent Infrastructure for Energy Efficiency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60" y="609120"/>
            <a:ext cx="9067680" cy="678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uilding demand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~40% energy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~70% electricity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portunity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~1/3 recovery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lligent infrastructur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windows </a:t>
            </a:r>
            <a:r>
              <a:rPr b="1" lang="en-US" sz="1700" spc="-1" strike="noStrike">
                <a:solidFill>
                  <a:srgbClr val="008080"/>
                </a:solidFill>
                <a:latin typeface="Arial"/>
                <a:ea typeface="Arial"/>
              </a:rPr>
              <a:t>↔ </a:t>
            </a: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air handlers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natural </a:t>
            </a:r>
            <a:r>
              <a:rPr b="1" lang="en-US" sz="1700" spc="-1" strike="noStrike">
                <a:solidFill>
                  <a:srgbClr val="008080"/>
                </a:solidFill>
                <a:latin typeface="Arial"/>
                <a:ea typeface="Arial"/>
              </a:rPr>
              <a:t>↔</a:t>
            </a: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 artificial light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installation, operation errors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searc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user and economic interfaces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interfaces with active, passive building systems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distributed control systems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online measurement, modeling, prediction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fine-grained sensors and actuators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heterogeneous embedded networks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rtner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MIT: CBA, Energy Initiative, Building Tech., ...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industry: Schneider Electric, Cisco, Sun, ...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DOE: Argonne National Laboratory, ...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  <a:p>
            <a:pPr lvl="1" marL="566640" indent="-222120">
              <a:lnSpc>
                <a:spcPct val="80000"/>
              </a:lnSpc>
              <a:spcBef>
                <a:spcPts val="638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Arial"/>
              </a:rPr>
              <a:t>testbeds: MIT, ANL, Spain, ...</a:t>
            </a:r>
            <a:endParaRPr b="1" lang="en-US" sz="17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0" t="31481" r="0" b="0"/>
          <a:stretch/>
        </p:blipFill>
        <p:spPr>
          <a:xfrm>
            <a:off x="5943600" y="4038480"/>
            <a:ext cx="308628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8320" y="635040"/>
            <a:ext cx="4381560" cy="329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577960" y="635040"/>
            <a:ext cx="1981440" cy="5428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4680" y="1295280"/>
            <a:ext cx="7777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12:00-12:10 Neil Gershenfeld: in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12:10-12:20 David Kopp, Todd Snide: demo, commerc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12:20-12:30 Stephen Samouhos: preliminary results, MIT testbe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12:30-12:40 Vicente Guallart, Antoni Martinez: San Cugat, Madrid testbe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12:40-12:50 Argonne testbe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12:50-1:00 Kent Larson: buildings and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1:00-1:10 Harvey Michaels: smart grid, ut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1:10-1:20 Cisco: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1:20-2:00 discu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2:00-4:00 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i0 (bit), i0.5 (byte), i1 (packet)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transports: three-wire, DC, AC, RF, 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2-16-2 vs 2-8 click 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MAC, CSMA, CD, C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(T/)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sensors and actu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data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cryp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7f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71280"/>
            <a:ext cx="83818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Intelligent Infrastructure for Energy Efficiency (I2E) Working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0602"/>
                </a:solidFill>
                <a:latin typeface="Arial"/>
              </a:rPr>
              <a:t>E15-283A (Roth Ro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0602"/>
                </a:solidFill>
                <a:latin typeface="Arial"/>
              </a:rPr>
              <a:t>mcu.cba.mit.edu (18.85.8.46, H.323, Meetings videoconfe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1:02Z</dcterms:created>
  <dc:creator>Physics and Media</dc:creator>
  <dc:description/>
  <cp:keywords/>
  <dc:language>en-US</dc:language>
  <cp:lastModifiedBy>Neil Gershenfeld</cp:lastModifiedBy>
  <cp:lastPrinted>1997-02-02T14:23:30Z</cp:lastPrinted>
  <dcterms:modified xsi:type="dcterms:W3CDTF">2009-03-11T01:03:20Z</dcterms:modified>
  <cp:revision>3295</cp:revision>
  <dc:subject/>
  <dc:title>Th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mp\tmp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