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2"/>
          </p:nvPr>
        </p:nvSpPr>
        <p:spPr>
          <a:xfrm>
            <a:off x="543888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2978280" y="547200"/>
            <a:ext cx="3659040" cy="27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3"/>
          </p:nvPr>
        </p:nvSpPr>
        <p:spPr>
          <a:xfrm>
            <a:off x="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4"/>
          </p:nvPr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8A92A96-4F71-4846-A526-3A3D8A681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body"/>
          </p:nvPr>
        </p:nvSpPr>
        <p:spPr>
          <a:xfrm>
            <a:off x="1282680" y="3462120"/>
            <a:ext cx="7035840" cy="32763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1859D18-10A4-4D4E-99CF-F547A45F3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43888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811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65160" y="3474720"/>
            <a:ext cx="767088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2DA1685-EB53-41C1-A674-8A68B78EF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43888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811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65160" y="3474720"/>
            <a:ext cx="767088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260EE5F-A84E-4634-9216-42522C162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43888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0480" y="3475080"/>
            <a:ext cx="76802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51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62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62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6858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51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51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62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62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6858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851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4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851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90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62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90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962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6858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851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4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851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90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62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90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962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6858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51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1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28752"/>
          <a:stretch/>
        </p:blipFill>
        <p:spPr>
          <a:xfrm>
            <a:off x="0" y="0"/>
            <a:ext cx="457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43000" y="304920"/>
            <a:ext cx="78487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91720" y="304920"/>
            <a:ext cx="0" cy="63244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18284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3962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048120"/>
            <a:ext cx="2286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28752"/>
          <a:stretch/>
        </p:blipFill>
        <p:spPr>
          <a:xfrm>
            <a:off x="0" y="762120"/>
            <a:ext cx="1219320" cy="6095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320" y="120600"/>
            <a:ext cx="12189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61760" y="1289160"/>
            <a:ext cx="8001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0066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0120" y="664236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Confidential   © Nexus Energy Software                           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629400"/>
            <a:ext cx="89917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17520"/>
            <a:ext cx="89917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629400"/>
            <a:ext cx="89917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991720" y="317520"/>
            <a:ext cx="0" cy="63118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0" r="0" b="28752"/>
          <a:stretch/>
        </p:blipFill>
        <p:spPr>
          <a:xfrm>
            <a:off x="0" y="0"/>
            <a:ext cx="3808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87480" y="644832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E26D-9C84-4078-9E14-F63C05BE6D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899480" y="6432480"/>
          <a:ext cx="91440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9480" y="6432480"/>
                    <a:ext cx="9144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14440" y="155700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0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57200"/>
            <a:ext cx="3962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3048120"/>
            <a:ext cx="2286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152280"/>
          <a:ext cx="152424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15242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4"/>
          <a:srcRect l="0" t="0" r="0" b="28752"/>
          <a:stretch/>
        </p:blipFill>
        <p:spPr>
          <a:xfrm>
            <a:off x="0" y="762120"/>
            <a:ext cx="1143000" cy="6095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ftr" idx="1"/>
          </p:nvPr>
        </p:nvSpPr>
        <p:spPr>
          <a:xfrm>
            <a:off x="5257440" y="6322320"/>
            <a:ext cx="34290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An ESCO Technologie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5760" y="664236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Confidential                  © Nexus Energy Software                           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162920" y="304920"/>
            <a:ext cx="116028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mit.edu/site/aboutsite.html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hyperlink" Target="mailto:hgm@mit.edu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mit.edu/site/aboutsite.html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hyperlink" Target="mailto:hgm@mit.edu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7.jpeg"/><Relationship Id="rId6" Type="http://schemas.openxmlformats.org/officeDocument/2006/relationships/image" Target="../media/image22.png"/><Relationship Id="rId7" Type="http://schemas.openxmlformats.org/officeDocument/2006/relationships/image" Target="../media/image20.jpeg"/><Relationship Id="rId8" Type="http://schemas.openxmlformats.org/officeDocument/2006/relationships/hyperlink" Target="C:\Program Files\NexusAutoHouse\AutoHouse.Exe" TargetMode="External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About this si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76320"/>
            <a:ext cx="1219320" cy="609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7620120" y="3733920"/>
            <a:ext cx="968400" cy="1295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rcRect l="0" t="9179" r="0" b="0"/>
          <a:stretch/>
        </p:blipFill>
        <p:spPr>
          <a:xfrm>
            <a:off x="5348160" y="3962520"/>
            <a:ext cx="1879560" cy="2361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1295280" y="1693800"/>
            <a:ext cx="1752840" cy="1343160"/>
          </a:xfrm>
          <a:prstGeom prst="rect">
            <a:avLst/>
          </a:prstGeom>
          <a:ln w="12600">
            <a:solidFill>
              <a:srgbClr val="99cc99"/>
            </a:solidFill>
            <a:miter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Informing Utilities and Policymakers on                     the Customer Side of Smart Grid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724280"/>
            <a:ext cx="42670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arvey Michaels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Scientist/Lectur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DUSP Environmental Policy and MITEI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617-253-2084   </a:t>
            </a:r>
            <a:r>
              <a:rPr b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hgm@mit.edu</a:t>
            </a:r>
            <a:r>
              <a:rPr b="1" lang="en-US" sz="1600" spc="-1" strike="noStrike" u="sng">
                <a:solidFill>
                  <a:srgbClr val="006666"/>
                </a:solidFill>
                <a:uFillTx/>
                <a:latin typeface="Arial"/>
              </a:rPr>
              <a:t>  9-32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Instructor:</a:t>
            </a: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                                 Enabling an Energy Efficient Society</a:t>
            </a: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1066680" y="3200400"/>
            <a:ext cx="2210040" cy="1208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543800" y="5254560"/>
            <a:ext cx="1066680" cy="1054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3809880" y="1676520"/>
            <a:ext cx="2514600" cy="2165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6553080" y="1752480"/>
            <a:ext cx="2286000" cy="165096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9320" y="9907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Questions: </a:t>
            </a:r>
            <a:br>
              <a:rPr sz="2400"/>
            </a:b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Utilities in the </a:t>
            </a: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Responsive Energy World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Utility-controlled vs. Customer-controlled optimization?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Home network gateway and/or Meter network gateway? 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Arial"/>
              </a:rPr>
              <a:t>AMI :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wo way, high bandwidth communications?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eter-to-Home Network Communications?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eb Workspaces vs. In-home display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Working with the Market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ross-campus Responsive energy research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Intelligent Infrastructure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for Energy Efficiency (I2EE) research on in-building communication methods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nergy Box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- consumer-managed modulation systems.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ehavioral systems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to encourage energy efficiency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uilding energy analysis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based on control schema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valuating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munity-level measurement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and modulation syst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Innovation Pathways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-  for energy efficiency and smart grid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429000" y="4572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371600" cy="1355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393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33520" y="304920"/>
          <a:ext cx="8610480" cy="6449760"/>
        </p:xfrm>
        <a:graphic>
          <a:graphicData uri="http://schemas.openxmlformats.org/drawingml/2006/table">
            <a:tbl>
              <a:tblPr/>
              <a:tblGrid>
                <a:gridCol w="1447560"/>
                <a:gridCol w="3562560"/>
                <a:gridCol w="3600360"/>
              </a:tblGrid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  <a:ea typeface="ＭＳ 明朝"/>
                        </a:rPr>
                        <a:t>Customer Contro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  <a:ea typeface="ＭＳ 明朝"/>
                        </a:rPr>
                        <a:t>Utility Contro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Control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Customer decisions/control -   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HAN optimized by utility - Customer opt in/out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Pric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Time-based - dynamic pricing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Incentive for participating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HAN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Owned/purchased by customer.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Possible utility incentives/NC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Provided by utility/ recovered as part of regulated filing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Gatewa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HAN via internet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Meter via proprietary system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1)To customer via internet.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2)To utility via proprietary system 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– hourly reads once/day; low bandwidth. 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3) Also Meter directly to home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To customer and utility via proprietary system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Two way and high bandwidth –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Large amounts of data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Utility Cost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Inexpensive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Expensive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Impacts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Creates </a:t>
                      </a: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efficiency and DR.</a:t>
                      </a: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Primary impact </a:t>
                      </a: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is DR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Evaluation/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Additionality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Indirect </a:t>
                      </a: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- utility provides pricing, hourly reads, meter to home, and internet support.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Market forces create outcomes.  New paradigm for regulators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Direct </a:t>
                      </a: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- due to utility control.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  <a:ea typeface="ＭＳ 明朝"/>
                        </a:rPr>
                        <a:t>Easier for regulator –  Like current load control programs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Vision - Applications for the Smart Consumer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2481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Utility, thermostat, appliance, Google, etc. make app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View on home PC, work PC, TV, cell phone (at least until next year)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298440"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Application ideas: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ake my AC, water heater, pool pump, refrigerator use pattern smarter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nd out what anything costs to run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oose the best rate for me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788"/>
              </a:spcBef>
              <a:spcAft>
                <a:spcPts val="561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oose a theme – understand the consequences- do it </a:t>
            </a: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(ie. More Green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ll a DR option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010280" y="990720"/>
            <a:ext cx="1706760" cy="2438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3352680" cy="1860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About this si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76320"/>
            <a:ext cx="1219320" cy="609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7620120" y="3733920"/>
            <a:ext cx="968400" cy="1295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rcRect l="0" t="9179" r="0" b="0"/>
          <a:stretch/>
        </p:blipFill>
        <p:spPr>
          <a:xfrm>
            <a:off x="5348160" y="3962520"/>
            <a:ext cx="1879560" cy="2361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1295280" y="1693800"/>
            <a:ext cx="1752840" cy="1343160"/>
          </a:xfrm>
          <a:prstGeom prst="rect">
            <a:avLst/>
          </a:prstGeom>
          <a:ln w="12600">
            <a:solidFill>
              <a:srgbClr val="99cc99"/>
            </a:solidFill>
            <a:miter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Informing Utilities and Policymakers on                     the Customer Side of Smart Grid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724280"/>
            <a:ext cx="42670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arvey Michaels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Scientist/Lectur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DUSP Environmental Policy and MITEI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617-253-2084   </a:t>
            </a:r>
            <a:r>
              <a:rPr b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hgm@mit.edu</a:t>
            </a:r>
            <a:r>
              <a:rPr b="1" lang="en-US" sz="1600" spc="-1" strike="noStrike" u="sng">
                <a:solidFill>
                  <a:srgbClr val="006666"/>
                </a:solidFill>
                <a:uFillTx/>
                <a:latin typeface="Arial"/>
              </a:rPr>
              <a:t>  9-32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Instructor:</a:t>
            </a: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                                 Enabling an Energy Efficient Society</a:t>
            </a: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0"/>
          <a:stretch/>
        </p:blipFill>
        <p:spPr>
          <a:xfrm>
            <a:off x="1066680" y="3200400"/>
            <a:ext cx="2210040" cy="12081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1"/>
          <a:stretch/>
        </p:blipFill>
        <p:spPr>
          <a:xfrm>
            <a:off x="7543800" y="5254560"/>
            <a:ext cx="1066680" cy="1054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2"/>
          <a:stretch/>
        </p:blipFill>
        <p:spPr>
          <a:xfrm>
            <a:off x="3809880" y="1676520"/>
            <a:ext cx="2514600" cy="21654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3"/>
          <a:stretch/>
        </p:blipFill>
        <p:spPr>
          <a:xfrm>
            <a:off x="6553080" y="1752480"/>
            <a:ext cx="2286000" cy="165096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Efficiency in US Homes and Buildings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           ( 71% of all electricity, 54% of all natural gas)</a:t>
            </a:r>
            <a:r>
              <a:rPr b="1" lang="en-US" sz="2700" spc="-1" strike="noStrike">
                <a:solidFill>
                  <a:srgbClr val="cc66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85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Potential: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557280" indent="-214200">
              <a:lnSpc>
                <a:spcPct val="85000"/>
              </a:lnSpc>
              <a:spcBef>
                <a:spcPts val="700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Est. </a:t>
            </a:r>
            <a:r>
              <a:rPr b="1" i="1" lang="en-US" sz="1900" spc="-1" strike="noStrike">
                <a:solidFill>
                  <a:srgbClr val="003366"/>
                </a:solidFill>
                <a:latin typeface="Arial"/>
              </a:rPr>
              <a:t>50%+ Savings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at Lower Cost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over 20 years.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557280" indent="-214200">
              <a:lnSpc>
                <a:spcPct val="85000"/>
              </a:lnSpc>
              <a:spcBef>
                <a:spcPts val="825"/>
              </a:spcBef>
              <a:spcAft>
                <a:spcPts val="587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3366"/>
                </a:solidFill>
                <a:latin typeface="Arial"/>
              </a:rPr>
              <a:t>Without sacrificing comfort or function</a:t>
            </a: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557280" indent="0">
              <a:lnSpc>
                <a:spcPct val="85000"/>
              </a:lnSpc>
              <a:spcBef>
                <a:spcPts val="176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3366"/>
              </a:solidFill>
              <a:latin typeface="Arial"/>
            </a:endParaRPr>
          </a:p>
          <a:p>
            <a:pPr marL="257040" indent="0">
              <a:lnSpc>
                <a:spcPct val="85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Technology Examples: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557280" indent="-214200">
              <a:lnSpc>
                <a:spcPct val="85000"/>
              </a:lnSpc>
              <a:spcBef>
                <a:spcPts val="700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Home Central AC tune-up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an displace 25000 MW (25 plants) for $12B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557280" indent="-214200">
              <a:lnSpc>
                <a:spcPct val="85000"/>
              </a:lnSpc>
              <a:spcBef>
                <a:spcPts val="612"/>
              </a:spcBef>
              <a:spcAft>
                <a:spcPts val="437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CFL’s in “recessed cans”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will save 5% overall (LED’s 7%)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57280" indent="-214200">
              <a:lnSpc>
                <a:spcPct val="85000"/>
              </a:lnSpc>
              <a:spcBef>
                <a:spcPts val="700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Optimization/storage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an reduce peak load AND ENERGY USE by 25%.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557280" indent="0">
              <a:lnSpc>
                <a:spcPct val="85000"/>
              </a:lnSpc>
              <a:spcBef>
                <a:spcPts val="3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marL="257040" indent="0">
              <a:lnSpc>
                <a:spcPct val="85000"/>
              </a:lnSpc>
              <a:spcBef>
                <a:spcPts val="788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Deployment Methods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examples):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  <a:p>
            <a:pPr lvl="1" marL="557280" indent="-214200">
              <a:lnSpc>
                <a:spcPct val="85000"/>
              </a:lnSpc>
              <a:spcBef>
                <a:spcPts val="700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Smart Grid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ricing/AMI, and info/behavioral technologies, 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557280" indent="-214200">
              <a:lnSpc>
                <a:spcPct val="85000"/>
              </a:lnSpc>
              <a:spcBef>
                <a:spcPts val="700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Rebates/Direct-install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unded by utilities, carbon cap-and-trade, 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557280" indent="-214200">
              <a:lnSpc>
                <a:spcPct val="85000"/>
              </a:lnSpc>
              <a:spcBef>
                <a:spcPts val="825"/>
              </a:spcBef>
              <a:spcAft>
                <a:spcPts val="587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New building codes, upgrade on transfer, appliance standards.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1219320"/>
            <a:ext cx="5943600" cy="5333760"/>
          </a:xfrm>
          <a:prstGeom prst="can">
            <a:avLst>
              <a:gd name="adj" fmla="val 0"/>
            </a:avLst>
          </a:prstGeom>
          <a:solidFill>
            <a:srgbClr val="00ffff">
              <a:alpha val="13000"/>
            </a:srgbClr>
          </a:solidFill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4724640" cy="5333760"/>
          </a:xfrm>
          <a:prstGeom prst="can">
            <a:avLst>
              <a:gd name="adj" fmla="val 0"/>
            </a:avLst>
          </a:prstGeom>
          <a:solidFill>
            <a:srgbClr val="ff9900">
              <a:alpha val="12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191120" y="5745240"/>
          <a:ext cx="99036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5745240"/>
                    <a:ext cx="990360" cy="731880"/>
                  </a:xfrm>
                  <a:prstGeom prst="rect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 flipV="1">
            <a:off x="4952880" y="5029200"/>
            <a:ext cx="304920" cy="533520"/>
          </a:xfrm>
          <a:prstGeom prst="line">
            <a:avLst/>
          </a:prstGeom>
          <a:ln w="22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981080" y="4267080"/>
            <a:ext cx="838440" cy="789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>
            <a:off x="5105520" y="5029200"/>
            <a:ext cx="304560" cy="53352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5029200"/>
            <a:ext cx="152640" cy="60948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14640" y="5028840"/>
            <a:ext cx="152280" cy="609480"/>
          </a:xfrm>
          <a:prstGeom prst="line">
            <a:avLst/>
          </a:prstGeom>
          <a:ln w="22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1981080"/>
            <a:ext cx="1676160" cy="9144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209680" y="2971440"/>
            <a:ext cx="0" cy="1143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mart Grid – Utility Private Network Architecture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– utility provides meter-to-devices communication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2362320"/>
            <a:ext cx="1676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DM/Head-e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5715000"/>
            <a:ext cx="22096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Utility-sid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2209680"/>
            <a:ext cx="1828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4038480"/>
            <a:ext cx="1600200" cy="228600"/>
          </a:xfrm>
          <a:custGeom>
            <a:avLst/>
            <a:gdLst/>
            <a:ahLst/>
            <a:rect l="l" t="t" r="r" b="b"/>
            <a:pathLst>
              <a:path w="1624" h="405">
                <a:moveTo>
                  <a:pt x="0" y="405"/>
                </a:moveTo>
                <a:cubicBezTo>
                  <a:pt x="158" y="275"/>
                  <a:pt x="316" y="146"/>
                  <a:pt x="496" y="85"/>
                </a:cubicBezTo>
                <a:cubicBezTo>
                  <a:pt x="676" y="24"/>
                  <a:pt x="892" y="0"/>
                  <a:pt x="1080" y="37"/>
                </a:cubicBezTo>
                <a:cubicBezTo>
                  <a:pt x="1268" y="74"/>
                  <a:pt x="1533" y="264"/>
                  <a:pt x="1624" y="309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950760" cy="1066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438280" y="3048120"/>
            <a:ext cx="0" cy="106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5"/>
          <a:srcRect l="23890" t="0" r="0" b="32146"/>
          <a:stretch/>
        </p:blipFill>
        <p:spPr>
          <a:xfrm>
            <a:off x="7086600" y="3581280"/>
            <a:ext cx="1214280" cy="1447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91120" y="220968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Utility-network devices in ho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rot="21546600">
            <a:off x="3200400" y="4265640"/>
            <a:ext cx="1519200" cy="151920"/>
          </a:xfrm>
          <a:custGeom>
            <a:avLst/>
            <a:gdLst/>
            <a:ahLst/>
            <a:rect l="l" t="t" r="r" b="b"/>
            <a:pathLst>
              <a:path w="1624" h="405">
                <a:moveTo>
                  <a:pt x="0" y="405"/>
                </a:moveTo>
                <a:cubicBezTo>
                  <a:pt x="158" y="275"/>
                  <a:pt x="316" y="146"/>
                  <a:pt x="496" y="85"/>
                </a:cubicBezTo>
                <a:cubicBezTo>
                  <a:pt x="676" y="24"/>
                  <a:pt x="892" y="0"/>
                  <a:pt x="1080" y="37"/>
                </a:cubicBezTo>
                <a:cubicBezTo>
                  <a:pt x="1268" y="74"/>
                  <a:pt x="1533" y="264"/>
                  <a:pt x="1624" y="309"/>
                </a:cubicBezTo>
              </a:path>
            </a:pathLst>
          </a:custGeom>
          <a:noFill/>
          <a:ln w="2232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486400" y="5803920"/>
            <a:ext cx="990720" cy="590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66760" y="41904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5520" y="7761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he Customer Side of AMI: 2 strategies 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68640"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1: AMI – </a:t>
            </a:r>
            <a:r>
              <a:rPr b="1" i="1" lang="en-US" sz="2200" spc="-1" strike="noStrike">
                <a:solidFill>
                  <a:srgbClr val="006666"/>
                </a:solidFill>
                <a:latin typeface="Arial"/>
              </a:rPr>
              <a:t>Responsive Energy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6666"/>
                </a:solidFill>
                <a:latin typeface="Arial"/>
              </a:rPr>
              <a:t>Strategy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368640" indent="-36864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Arial"/>
              </a:rPr>
              <a:t>Price-based 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demand response,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using time-differentiated rates, which requires AMI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37280" indent="-33516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ision: Customers view data, make choices, in time automatic response by customers thermostat and other devices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68640"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2: Smart Grid</a:t>
            </a:r>
            <a:r>
              <a:rPr b="1" i="1" lang="en-US" sz="2200" spc="-1" strike="noStrike">
                <a:solidFill>
                  <a:srgbClr val="006666"/>
                </a:solidFill>
                <a:latin typeface="Arial"/>
              </a:rPr>
              <a:t> – Utility Control Strategy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368640" indent="-36864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Arial"/>
              </a:rPr>
              <a:t>Push-button Control-based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 demand response –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Utility monitors and controls end use equipment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37280" indent="-33516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ision: Generation, transmission, distribution, and end use equipment as part of a single system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7280" indent="-33516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terval meter reads not essential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Do we want “Smart Grid” - Utility Control?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End use equipment is visible and controllable by the  utility or third party–  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Smart Grid” is more dispatchable (perhaps) and therefore can replace spinning reserve                      </a:t>
            </a:r>
            <a:r>
              <a:rPr b="1" i="1" lang="en-US" sz="2200" spc="-1" strike="noStrike">
                <a:solidFill>
                  <a:srgbClr val="006666"/>
                </a:solidFill>
                <a:latin typeface="Arial"/>
              </a:rPr>
              <a:t>….but some find it kind of scary.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562720"/>
            <a:ext cx="320040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Resistance is Futi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Prepare to be Assimilat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191120" y="31813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6600"/>
                </a:solidFill>
                <a:latin typeface="Arial"/>
              </a:rPr>
              <a:t>Customer Side of Smart Grid = </a:t>
            </a:r>
            <a:r>
              <a:rPr b="1" i="1" lang="en-US" sz="2200" spc="-1" strike="noStrike">
                <a:solidFill>
                  <a:srgbClr val="cc6600"/>
                </a:solidFill>
                <a:latin typeface="Arial"/>
              </a:rPr>
              <a:t>Responsive Energy</a:t>
            </a:r>
            <a:br>
              <a:rPr sz="2200"/>
            </a:b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Providing consumers with energy diagnostics, feedback, control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1600200"/>
            <a:ext cx="641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5015" t="11950" r="36586" b="22937"/>
          <a:stretch/>
        </p:blipFill>
        <p:spPr>
          <a:xfrm>
            <a:off x="5715000" y="1424160"/>
            <a:ext cx="3200400" cy="2247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6019920" cy="4923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878120" cy="2514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352680" y="4419720"/>
            <a:ext cx="838440" cy="352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2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Definition: “Responsive Energy”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able responsive, smart energy environments               that are </a:t>
            </a: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gracefully integrated with people.”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6600"/>
                </a:solidFill>
                <a:latin typeface="Arial"/>
              </a:rPr>
              <a:t>*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964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SUCH AS: systems for optimizing consumers’ end-use needs                                                              (especially air conditioning, heat, hot water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based on weather, schedules, and time differentiated costs.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Smart/Responsive energy holds great potential for                    displacing the need for other energy resources.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But what will be the ultimate delivery model: utility or marketplace?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876"/>
              </a:spcBef>
              <a:spcAft>
                <a:spcPts val="624"/>
              </a:spcAft>
              <a:buClr>
                <a:srgbClr val="cc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And who will control the “smarts”: utility or customer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9179" r="0" b="0"/>
          <a:stretch/>
        </p:blipFill>
        <p:spPr>
          <a:xfrm>
            <a:off x="7808760" y="0"/>
            <a:ext cx="1335240" cy="1676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948440" y="5257800"/>
            <a:ext cx="1195560" cy="1600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543800" y="4114800"/>
            <a:ext cx="1600200" cy="1225440"/>
          </a:xfrm>
          <a:prstGeom prst="rect">
            <a:avLst/>
          </a:prstGeom>
          <a:ln w="12600">
            <a:solidFill>
              <a:srgbClr val="99cc99"/>
            </a:solidFill>
            <a:miter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038480" y="1219320"/>
            <a:ext cx="4724640" cy="5333760"/>
          </a:xfrm>
          <a:prstGeom prst="can">
            <a:avLst>
              <a:gd name="adj" fmla="val 0"/>
            </a:avLst>
          </a:prstGeom>
          <a:solidFill>
            <a:srgbClr val="ff9900">
              <a:alpha val="12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219320"/>
            <a:ext cx="3124080" cy="5333760"/>
          </a:xfrm>
          <a:prstGeom prst="can">
            <a:avLst>
              <a:gd name="adj" fmla="val 0"/>
            </a:avLst>
          </a:prstGeom>
          <a:solidFill>
            <a:srgbClr val="00ffff">
              <a:alpha val="1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733920"/>
            <a:ext cx="1295280" cy="60948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486400" y="5745240"/>
            <a:ext cx="106668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4191120" y="5745240"/>
          <a:ext cx="990360" cy="73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5745240"/>
                    <a:ext cx="990360" cy="731880"/>
                  </a:xfrm>
                  <a:prstGeom prst="rect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 flipV="1">
            <a:off x="4952880" y="5181480"/>
            <a:ext cx="0" cy="457200"/>
          </a:xfrm>
          <a:prstGeom prst="line">
            <a:avLst/>
          </a:prstGeom>
          <a:ln w="22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2971800"/>
            <a:ext cx="0" cy="144792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4952880"/>
            <a:ext cx="99036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981080" y="5029200"/>
            <a:ext cx="838440" cy="789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105520" y="5181480"/>
            <a:ext cx="0" cy="45720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5105520"/>
            <a:ext cx="533160" cy="53316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333760" y="5105160"/>
            <a:ext cx="533160" cy="533160"/>
          </a:xfrm>
          <a:prstGeom prst="line">
            <a:avLst/>
          </a:prstGeom>
          <a:ln w="22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733920"/>
            <a:ext cx="1295280" cy="60948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1595160" cy="2133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V="1">
            <a:off x="2209680" y="4343040"/>
            <a:ext cx="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 rot="5400000">
            <a:off x="5013000" y="4479840"/>
            <a:ext cx="41292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Vision – Web/IP Collaboration of Workspaces- 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customer/home network has access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on demand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  to real time, high frequency meter reads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1295280"/>
            <a:ext cx="2133360" cy="1752840"/>
          </a:xfrm>
          <a:prstGeom prst="can">
            <a:avLst>
              <a:gd name="adj" fmla="val 0"/>
            </a:avLst>
          </a:prstGeom>
          <a:solidFill>
            <a:srgbClr val="99cc99">
              <a:alpha val="51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413080"/>
            <a:ext cx="21337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Utility’s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Web Workspa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962520"/>
            <a:ext cx="7617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D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3962520"/>
            <a:ext cx="7621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CR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286000" y="3047760"/>
            <a:ext cx="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1371600"/>
            <a:ext cx="1447920" cy="1447920"/>
          </a:xfrm>
          <a:prstGeom prst="can">
            <a:avLst>
              <a:gd name="adj" fmla="val 0"/>
            </a:avLst>
          </a:prstGeom>
          <a:solidFill>
            <a:srgbClr val="99cc99">
              <a:alpha val="51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2209680"/>
            <a:ext cx="129528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vice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Workspac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6095880"/>
            <a:ext cx="2210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Utility-sid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2209680"/>
            <a:ext cx="2210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Customer-sid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2133720"/>
            <a:ext cx="60984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3124080"/>
            <a:ext cx="1295640" cy="137160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724280"/>
            <a:ext cx="2133360" cy="381240"/>
          </a:xfrm>
          <a:custGeom>
            <a:avLst/>
            <a:gdLst/>
            <a:ahLst/>
            <a:rect l="l" t="t" r="r" b="b"/>
            <a:pathLst>
              <a:path w="1624" h="405">
                <a:moveTo>
                  <a:pt x="0" y="405"/>
                </a:moveTo>
                <a:cubicBezTo>
                  <a:pt x="158" y="275"/>
                  <a:pt x="316" y="146"/>
                  <a:pt x="496" y="85"/>
                </a:cubicBezTo>
                <a:cubicBezTo>
                  <a:pt x="676" y="24"/>
                  <a:pt x="892" y="0"/>
                  <a:pt x="1080" y="37"/>
                </a:cubicBezTo>
                <a:cubicBezTo>
                  <a:pt x="1268" y="74"/>
                  <a:pt x="1533" y="264"/>
                  <a:pt x="1624" y="309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5046" t="11874" r="36579" b="22889"/>
          <a:stretch/>
        </p:blipFill>
        <p:spPr>
          <a:xfrm>
            <a:off x="1523880" y="1365120"/>
            <a:ext cx="1524240" cy="1073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2951280"/>
            <a:ext cx="1600200" cy="11761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>
            <a:off x="4572000" y="1447920"/>
            <a:ext cx="990720" cy="7477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2:45:31Z</dcterms:created>
  <dc:creator>Nexus Energy</dc:creator>
  <dc:description/>
  <dc:language>en-US</dc:language>
  <cp:lastModifiedBy>Harvey Michaels</cp:lastModifiedBy>
  <cp:lastPrinted>2005-05-25T14:49:00Z</cp:lastPrinted>
  <dcterms:modified xsi:type="dcterms:W3CDTF">2009-03-10T16:35:09Z</dcterms:modified>
  <cp:revision>330</cp:revision>
  <dc:subject/>
  <dc:title>Slide 1</dc:title>
</cp:coreProperties>
</file>