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BE5-806C-45C9-8CC3-1B062558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3A5-F964-48FC-8021-81C563F8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64A-AE7A-4042-A936-4AB458B2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2C2-351C-4F7A-978A-2284B531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ED7-F230-4DBC-A56B-6D2B444A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9BB-EBFD-4C11-80B3-C23F715D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0E7-3537-46D4-8D12-59105B3B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9FD-89E6-4D3D-B2B3-F7069EF8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4D4-3BF0-4E80-8FBB-54DACF00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C1F-3580-4658-929B-4A24048D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A44-EBB6-442C-B9AC-12EC32B3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7CF-3EE0-4EE2-9952-1953CE4F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A89AC-7794-4408-9BB7-5AE6B5EF28D6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BE591-E019-49CC-AADB-F9BB58D9C9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mart Matter Software Workfl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nathan Bachr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therla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acintosh HD:Users:jrb:Documents:makani:talks:fab5:voxels-mallet-fine.mov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16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steriz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ild gri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termine which voxels are inside sha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Macintosh HD:Users:jrb:Documents:makani:talks:fab5:raster-square.mov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76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acintosh HD:Users:jrb:Documents:makani:talks:fab5:raster-cube.mov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02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Macintosh HD:Users:jrb:Documents:makani:talks:fab5:raster-wrench.mov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504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arget configur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Hamiltonian pa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inverse kinemati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rt with mini tou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rementally merge neighboring tou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ntil one big tou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Macintosh HD:Users:jrb:Documents:makani:talks:fab5:merge-square.mov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32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Macintosh HD:Users:jrb:Documents:makani:talks:fab5:merge-cube.mov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2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Macintosh HD:Users:jrb:Documents:makani:talks:fab5:merge-wrench.mov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08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erarchical pat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rge cost fun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vor compact path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mart Mat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hapes built out of smart compon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onents conspire to form target sha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ild shapes from folding chain robo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Macintosh HD:Users:jrb:Documents:makani:talks:fab5:merge-hierarchical-square.mov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576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ding sequ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collision fr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rget joint ang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om unfolded to fold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nfolding is easi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cord joint angle targets during explo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lay back in rever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Macintosh HD:Users:jrb:Documents:makani:talks:fab5:plan-mallet.mov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28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Macintosh HD:Users:jrb:Documents:makani:talks:fab5:plan-wrench.mov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21835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Macintosh HD:Users:jrb:Documents:makani:talks:fab5:plan-tet-cube.mov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2216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ut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polyhedr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mechanis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tter contro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erarch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Content Placeholder 5" descr="tiny-dancer.png"/>
          <p:cNvPicPr/>
          <p:nvPr/>
        </p:nvPicPr>
        <p:blipFill>
          <a:blip r:embed="rId1"/>
          <a:srcRect l="-6088" t="0" r="-6088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ider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npu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iangulated mes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mens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dule geomet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oint mechan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ximum joint for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nimal material streng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utpu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lled solid with single cha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llision free folding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 streng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ximum joint for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acintosh HD:Users:jrb:Documents:makani:talks:fab5:motion-box.mov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8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acintosh HD:Users:jrb:Documents:makani:talks:fab5:motion-tet.mov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524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e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vox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ild to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n fol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Macintosh HD:Users:jrb:Documents:makani:talks:fab5:mesh-mallet.mov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32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steriz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ce grid over sha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voxels which are insi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Macintosh HD:Users:jrb:Documents:makani:talks:fab5:voxels-mallet-coarse.mov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32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23:50:02Z</dcterms:created>
  <dc:creator>Jonathan Bachrach</dc:creator>
  <dc:description/>
  <dc:language>en-US</dc:language>
  <cp:lastModifiedBy>Jonathan Bachrach</cp:lastModifiedBy>
  <dcterms:modified xsi:type="dcterms:W3CDTF">2009-08-20T00:42:09Z</dcterms:modified>
  <cp:revision>14</cp:revision>
  <dc:subject/>
  <dc:title>Smart Matter Software Workflow</dc:title>
</cp:coreProperties>
</file>