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7E2D8-5C33-4C92-9CFA-8E9D8D1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A9BD-A3D5-4278-81E0-A1C6A3F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8C95-8DB3-45DB-A513-AE1407E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2ABF-359D-4EFE-99B2-DFF92B6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3868-B0F9-4DA6-913D-B5077CA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F84D-9262-48FD-A8FF-27F6DCB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FD61D-666E-49A8-A9B8-0BBF909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02BD-F86B-4B64-8EB8-D8690601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0B86-563B-4153-BDC8-9BBB483F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2866D-DD68-4907-9229-96050F1A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9D1EA-1031-4DF6-A443-65392EA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B6D4-23B4-4B87-B3E5-72A4D59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88771-BC6C-4527-AF14-E0FB5CA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C3341-F495-4B94-AD08-4A61D42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CAC8C-54D5-4A7E-8D36-2019AAE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A6C52-F9A2-405A-AC29-B8545D6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098E3-8F15-47D4-9DD2-C046787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368C-7B47-4810-B367-2752B56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A3B0-AA97-468E-8276-88151D6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4ED15-3B6A-45E6-850F-128595B4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0846A-BA5F-4856-9C05-193F2607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83FB2-6DFB-48F9-A4A2-AF7D844E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88216-FDED-49E3-A7FF-31DFACD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3BC8C-8024-4EA3-A092-DBDFBAD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D9EA4-3ED4-4CAC-8B41-6EEA312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AD53A-069E-42EA-B6A7-373AE84B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77093-3547-417E-904B-4694BE3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88C1B-DA1C-4797-9784-F507390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DBE60-8F2A-47D9-A66B-6C379C7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4BF0-CB7F-4592-9326-B882B29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620-8A69-4EA1-A436-ACBCE881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EC4D5-553A-422D-BD2C-108B68BF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86805-077B-4883-98DC-77A56A5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19E3E-B9F2-47B1-8ACB-13DD7429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955-CA22-4B58-BD60-6624581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16C-9366-495D-940D-BD54318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39D-8D67-4FD4-BFE4-BE465697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0E6-228D-4BD0-A397-3D0F841D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75B-AD1E-44CD-9CC7-0B073E1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998-4F69-447F-B735-1BC19BE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16E-D4D2-4F2B-9B61-A622CE5E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449-C767-4544-9CAE-E79D81F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7A9-DA49-45FC-8229-858D7D3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535-2C25-40D3-B799-FDD5A990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E5E-B8D4-4485-928D-86A7C4C5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5B4B-BDAE-4F54-AD2C-8436C730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CEEA-9A8E-482F-9494-91EF3EC5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7234-5C87-4C28-8451-6F79E0F1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954B-A977-45A3-A8E8-F1EF7390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A91-6A6C-4AF4-AF55-DAF42E9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36E-3060-4BCF-97FE-1B0B232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8AEA-86E2-442F-9528-E6D5C55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CD34-6038-4706-99D0-0C3D687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16CD-E892-4C31-AB86-077BE6B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0BB-1C78-4E08-B076-43A532F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7477-3C81-4E4A-BE76-DC631CC8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01F-FB72-4D5B-8957-06F71ED4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8737-2C2B-4440-9AEC-9C925C02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5229-12B1-48C8-B14A-418A012C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B3C4-447B-402F-8DC8-732ECEF7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B97E-328A-42E5-B5A2-7AEAC48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2AD2-058E-4EBA-865C-E827B50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360B-35BC-472B-AACD-F15B08D1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C7D8-73BB-4D85-A217-402401C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698B-20A1-4C22-9850-1A58EF9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3456-1355-40EE-9F78-75403BF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0CB7-7EF3-482E-B700-BC69E59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0185-D20F-43DA-A77D-454F8691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E78B-231C-4B21-89E4-125A5690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6FD4-2E27-4357-AB98-72ED6690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4794-5B79-43E7-B969-37BC8B7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A9AB-029F-40DD-B0A9-8B040FBE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F0A4-757B-40E1-986B-87179E4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1CEF-2C33-4D45-B61A-03E6388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0368-DA73-4E75-AB4F-2634F14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99D4-60E4-4AE1-925C-D44E6CE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488D-5C3A-4535-9155-C7B6CA4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CEE8-E85A-4EAB-B3AC-B16B4A7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0561-2F4F-486B-A73A-10330D8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ED75-9CDB-4376-85A9-90A38C9C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DCC6-D7A1-4A47-97AB-9E6E1F5B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E850-E458-49EB-83E9-73F79211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EFC6-756A-4D44-A889-4C1450B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10D3-C690-4B5A-A559-97A1389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5269-4498-4B11-BD2F-73B419B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D09F-61F3-4036-87AC-7066A8FC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5E84-F7F6-4B1A-8742-CCA71B4E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E76E-99BE-429C-8408-94AB228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3E41-5E4B-4E04-B81B-D6B9ADF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AD7D-68B5-448A-AD96-3D382A1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19F3-B8C4-4324-89F1-9EEC99C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1639-CD6F-4DA3-BB1D-12065A7E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A779-2430-4F85-A28E-34891D55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1E1C7-AF92-4901-9A78-822DC2EB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BBCC-7D05-426C-9C52-77E6DC88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1FEB-6C56-4525-9B04-48F951E0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A517-9B7D-4781-808F-CBE1C25C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B7E9-51E9-486A-9520-7C39BFC7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33177-CC97-4218-B745-CDEF352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BB818-86FF-48D6-A8C5-093DB10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4856-F7AD-418E-8062-AAAB472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F34D-B697-4AA0-83D4-E5EC5DF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A6835-C14E-4C5E-AB61-E635124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535B-B913-483E-A7FF-81B03DC0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3B23-4151-4D2C-A0DD-B8D7AB7B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BEAB-59D5-479A-A2B9-CF737548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FEF7-3DDB-4B95-9A5C-3DEB77D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0460-5198-4494-83B0-FEB1650E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A20A-028B-459B-936A-38DE773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F66D-F0A4-4A98-BD55-F77F83F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17B3C-32C9-4671-B9EF-F18D12AD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CF9B-7A80-4E3E-9A85-90B30F6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3C72-29E1-4AF5-9DC2-BB83320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15EC3-1D85-48F8-974B-46F0D3E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351240"/>
            <a:ext cx="822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89C1-9AD0-4614-BCDE-8CB3CF81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351240"/>
            <a:ext cx="4015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42CE1-83A1-4A26-87CF-7470D58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351240"/>
            <a:ext cx="2649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61416-DFC5-4368-B451-D18C7DB8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B96A-8764-4526-8416-BB532DD4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3743-16E1-4196-BC05-028BE38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3681-8E2F-4B88-97C1-347118C9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4210-588B-4804-A2C4-83F020A96B7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648F-2B6D-4E12-97BD-4EC2BEBBC0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0D1B-DC1E-4B3B-A1C5-BA58756C18F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102888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92A-24FE-4F9E-A4E0-536371EEC35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1E8-F482-405F-B612-E33B3F4E22A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26E-E00E-45D2-9785-B44F1E1BF88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F606-371E-442F-AF84-CA42B63C4E7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ED3-2805-4FB7-9E12-A1996235CC8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FFC-F32E-475E-93A7-7612121D19D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5638680"/>
            <a:ext cx="9144000" cy="152640"/>
          </a:xfrm>
          <a:prstGeom prst="rect">
            <a:avLst/>
          </a:prstGeom>
          <a:solidFill>
            <a:srgbClr val="0000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2455920" y="6004080"/>
            <a:ext cx="577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College of Engineering Pune (COE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6c"/>
                </a:solidFill>
                <a:latin typeface="Arial"/>
              </a:rPr>
              <a:t>Forerunners in Technical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c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42B-1E36-4625-A12D-0565794E9FE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FAB5 Conference</a:t>
            </a:r>
            <a:br>
              <a:rPr sz="40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(16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o 21 August 2009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482" name="Content Placeholder 3" descr="http://upload.wikimedia.org/wikipedia/commons/thumb/1/12/Saraswati.jpg/180px-Saraswati.jpg"/>
          <p:cNvPicPr/>
          <p:nvPr/>
        </p:nvPicPr>
        <p:blipFill>
          <a:blip r:embed="rId1"/>
          <a:stretch/>
        </p:blipFill>
        <p:spPr>
          <a:xfrm>
            <a:off x="3352680" y="2057400"/>
            <a:ext cx="2286000" cy="3162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final logo"/>
          <p:cNvPicPr/>
          <p:nvPr/>
        </p:nvPicPr>
        <p:blipFill>
          <a:blip r:embed="rId2"/>
          <a:stretch/>
        </p:blipFill>
        <p:spPr>
          <a:xfrm>
            <a:off x="533520" y="2666880"/>
            <a:ext cx="1908000" cy="1752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s1_r_g"/>
          <p:cNvPicPr/>
          <p:nvPr/>
        </p:nvPicPr>
        <p:blipFill>
          <a:blip r:embed="rId3"/>
          <a:stretch/>
        </p:blipFill>
        <p:spPr>
          <a:xfrm>
            <a:off x="6113520" y="2743200"/>
            <a:ext cx="22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onsors </a:t>
            </a:r>
            <a:br>
              <a:rPr sz="3600"/>
            </a:b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088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llege of Engineering, Pune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coep.org.in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ab Foundation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fabfoundation.org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IT-India Program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IT’s Center for Bits &amp; Atoms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cba.mit.edu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dian Institute of Technology, Kanpur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iitk.ac.in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etaji Subhas Institute of Technology, New Delhi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nsit.ac.in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ymbiosis International University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symbiosis.ac.in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Vigyan Ashram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vigyanashram.com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dia's National Innovation Foundation (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http://www.nif.org.in/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ow it all started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0880" y="914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r. Raghunath Mashelkar, Former Director General CSIR, Govt. of India informed about FABLAB during a meeting with the Hon’ble Minister for Higher and Technical Education  on 7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November 2008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r. Mashelkar introduced COEP to Dr. Neil Gershenfeld  on Dec 17, 2008 for considering COEP as a possible venue for FAB5.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r. Mashelkar introduced Vigyan Ashram and Mr. Yogesh Kulakarni on Dec 20, 2008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re were a few meetings between Mr .Yogesh and COEP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rs. Deepti, MIT, USA visited COEP on March 11, 2009 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ow it all moved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0880" y="685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pril 16, Prof. Neil Gershenfeld sent an e-mail stating the requirements for hosting FAB5 and invited for a teleconference call on April 17, 2009.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 am sure Prof. Neil must have been surprised that COEP was eager and teleconference call on April 17 did work at a short notice. 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pril 28, 2009, current fab lab inventory details were rolled out by Prof. Neil.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re were several teleconference calls from then on to decide on specifications of all the equipment for Fablab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une 24, 2009 orders were still not placed, specifications, quotations were underway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mpossible!! Nay Possible …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0880" y="761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anwhile, Dr. Dhananjay Gadre and Mr Yogesh made visits to COEP to see the location where Fablab would be set up.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y were both confident that at such a short notice of next one and a half months lab would be set up in COEP rearing to go during the FAB5 conference from August 16-21, 2009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rders for equipment were placed in July 2009, renovation of god forsaken place started by removing old debris..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August 3, 2009 when Mrs Sherry arrived, the work was still on …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August  9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wine Flu had hit the city of Pune and there were anxious moments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e made it 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0880" y="16765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y August 15, Independence Day of India 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 were ready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ream had come True …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aming ceremony : Aug 16, 2009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0880" y="16761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uring preparatory meeting in the Fablab, the two labs were named as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ryabhatta and Bhaskara after  the two great mathematician scientists of ancient India. 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enclosure outside would be named after C V Raman, a nobel laureate 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8-17T04:09:32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