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738-E595-44FF-B7B9-E50AC9EF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926-9F01-42BF-8968-D88188B6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485-2573-433E-93BE-3F440EDD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DD9-5AD1-44DD-8346-1CD64CA6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CD3-912E-49A3-91A0-47353947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215-B2E0-4D0C-A74C-658A604A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E89-1E1D-47B0-9D2B-8940D449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91D-EDE9-4DAD-B180-70A26353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696-16BC-4CD5-B03C-92AA253B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EC8-C3F7-460F-B3EE-0796F594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A01-75C2-4398-B65D-573DA41C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13D-3837-4212-99F4-86EFB394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049-288E-4B87-83DB-9B723F4D0B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083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Documents and Settings\grebneti\Desktop\fablab\n504192181_1841987_5259098.jpg"/>
          <p:cNvPicPr/>
          <p:nvPr/>
        </p:nvPicPr>
        <p:blipFill>
          <a:blip r:embed="rId2"/>
          <a:stretch/>
        </p:blipFill>
        <p:spPr>
          <a:xfrm>
            <a:off x="838080" y="304920"/>
            <a:ext cx="7543800" cy="565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0" y="556272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749600" y="2432160"/>
            <a:ext cx="5321160" cy="2457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295280" y="12952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3048120" y="49528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entury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250 Engineering/Technology Students use the Fab Lab per semest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How to Make Almost Anything Cour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STEM Outreach to area Schools (250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Lunch and Learn for College Faculty and Administr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Construction of Mobil Fab Lab (donations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Solar Boar, Electric Car, Saun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Install Fab Lab Private STEM HS Fall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30466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 to Engineering Students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ric Generator Proj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5635800"/>
            <a:ext cx="2590920" cy="1222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Administrator\My Documents\My Pictures\Picture\Picture 010.jpg"/>
          <p:cNvPicPr/>
          <p:nvPr/>
        </p:nvPicPr>
        <p:blipFill>
          <a:blip r:embed="rId2"/>
          <a:stretch/>
        </p:blipFill>
        <p:spPr>
          <a:xfrm>
            <a:off x="2743200" y="15238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8 - final design - new handle, vinyl sitckers, new LED design, rubber on bottom.JPG"/>
          <p:cNvPicPr/>
          <p:nvPr/>
        </p:nvPicPr>
        <p:blipFill>
          <a:blip r:embed="rId1"/>
          <a:stretch/>
        </p:blipFill>
        <p:spPr>
          <a:xfrm>
            <a:off x="1447920" y="0"/>
            <a:ext cx="7238880" cy="542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M Outreac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nford Middle School - Minneapo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roject (Learning by Doing) was a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re effectiv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 of teaching engineering design than textbook/lecture approa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-6480" y="232884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ering Club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 Turb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 Car – Done! (but tinkering continu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ar Bo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grebneti\Desktop\fablab\Car.jpg"/>
          <p:cNvPicPr/>
          <p:nvPr/>
        </p:nvPicPr>
        <p:blipFill>
          <a:blip r:embed="rId1"/>
          <a:stretch/>
        </p:blipFill>
        <p:spPr>
          <a:xfrm>
            <a:off x="3352680" y="2895480"/>
            <a:ext cx="459756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2420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Boat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grebneti\Desktop\boat pictures\42.jpg"/>
          <p:cNvPicPr/>
          <p:nvPr/>
        </p:nvPicPr>
        <p:blipFill>
          <a:blip r:embed="rId2"/>
          <a:stretch/>
        </p:blipFill>
        <p:spPr>
          <a:xfrm>
            <a:off x="685800" y="1295280"/>
            <a:ext cx="7505640" cy="4314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0" y="556272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grebneti\Desktop\boat pictures\7.jpg"/>
          <p:cNvPicPr/>
          <p:nvPr/>
        </p:nvPicPr>
        <p:blipFill>
          <a:blip r:embed="rId2"/>
          <a:stretch/>
        </p:blipFill>
        <p:spPr>
          <a:xfrm>
            <a:off x="1066680" y="152280"/>
            <a:ext cx="7239240" cy="542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0" y="556272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56:13Z</dcterms:created>
  <dc:creator> </dc:creator>
  <dc:description/>
  <dc:language>en-US</dc:language>
  <cp:lastModifiedBy>joinx</cp:lastModifiedBy>
  <cp:lastPrinted>2009-08-18T17:17:43Z</cp:lastPrinted>
  <dcterms:modified xsi:type="dcterms:W3CDTF">2009-08-18T17:22:00Z</dcterms:modified>
  <cp:revision>86</cp:revision>
  <dc:subject/>
  <dc:title>Integrating a Fabrication Experience into Intro to Engineering</dc:title>
</cp:coreProperties>
</file>