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342720" y="114120"/>
            <a:ext cx="9461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2720" y="4507200"/>
            <a:ext cx="946116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0840" y="18540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90840" y="4507200"/>
            <a:ext cx="461700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168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40640" y="18540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4272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168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40640" y="4507200"/>
            <a:ext cx="3046320" cy="2422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476080"/>
            <a:ext cx="946116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4178160"/>
            <a:ext cx="9461160" cy="96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1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2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3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4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5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6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564480" indent="-2523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1" marL="888120" indent="-2527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2" marL="1200240" indent="-2523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3" marL="1523880" indent="-2523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4" marL="1847520" indent="-2527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5" marL="1847520" indent="-2527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6" marL="1847520" indent="-2527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43080" y="1854000"/>
            <a:ext cx="513072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5000"/>
          </a:bodyPr>
          <a:p>
            <a:pPr marL="527400" indent="-23580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1" marL="82980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2" marL="1121040" indent="-23580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3" marL="1423440" indent="-23580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4" marL="172584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5" marL="172584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6" marL="172584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070320" y="1854000"/>
            <a:ext cx="374652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40640" indent="-1969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1" marL="693000" indent="-19728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2" marL="936360" indent="-1969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3" marL="1188720" indent="-19692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4" marL="1441440" indent="-19728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5" marL="1441440" indent="-19728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6" marL="1441440" indent="-19728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585720" indent="-27684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1" marL="905760" indent="-27720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2" marL="1214280" indent="-27684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3" marL="1534320" indent="-27684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4" marL="1854360" indent="-27720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5" marL="1854360" indent="-27720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6" marL="1854360" indent="-277200">
              <a:spcBef>
                <a:spcPts val="28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3080" y="1104840"/>
            <a:ext cx="513072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54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43080" y="3746160"/>
            <a:ext cx="513072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1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2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3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4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5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6" algn="ctr">
              <a:buClr>
                <a:srgbClr val="597ab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5105160"/>
            <a:ext cx="9461160" cy="173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2476080"/>
            <a:ext cx="9461160" cy="2654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342720" y="990360"/>
            <a:ext cx="946116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618120" indent="-29232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1" marL="956160" indent="-29268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2" marL="1281600" indent="-29232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3" marL="1619640" indent="-29232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4" marL="1957320" indent="-29268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5" marL="1957320" indent="-29268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lvl="6" marL="1957320" indent="-292680">
              <a:spcBef>
                <a:spcPts val="3200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43080" y="1854000"/>
            <a:ext cx="513072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5000"/>
          </a:bodyPr>
          <a:p>
            <a:pPr marL="527400" indent="-23580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1" marL="82980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2" marL="1121040" indent="-23580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3" marL="1423440" indent="-23580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4" marL="172584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5" marL="172584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lvl="6" marL="1725840" indent="-236160">
              <a:spcBef>
                <a:spcPts val="3501"/>
              </a:spcBef>
              <a:buClr>
                <a:srgbClr val="597ab0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2476080"/>
            <a:ext cx="946116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The Delhi Fablab</a:t>
            </a:r>
            <a:br>
              <a:rPr sz="5400"/>
            </a:b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at</a:t>
            </a:r>
            <a:br>
              <a:rPr sz="5400"/>
            </a:b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Netaji Subhas Institute of Technology, New Delhi</a:t>
            </a:r>
            <a:endParaRPr b="0" lang="en-US" sz="54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4178160"/>
            <a:ext cx="9461160" cy="96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7ab0"/>
                </a:solidFill>
                <a:latin typeface="Palatino"/>
              </a:rPr>
              <a:t>Dhananjay V. Gadre</a:t>
            </a: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Herculanum"/>
              </a:rPr>
              <a:t>FAB4 Review - Fablab Babies</a:t>
            </a:r>
            <a:endParaRPr b="0" lang="en-US" sz="4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We have heard (and will hear) of the fabulous growth of the Fablabs, with so many baby Fablabs joining the family.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marL="689040" indent="-30816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Tremendous growth of Fablabs – Lass’s Law (number of Fablabs doubling every 18 months!)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marL="689040" indent="-30816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All because of this person...------&gt;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The Fabulous Midwife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260360" y="-442800"/>
            <a:ext cx="7639200" cy="85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The Baby is all grownup!</a:t>
            </a:r>
            <a:br>
              <a:rPr sz="5400"/>
            </a:b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Chintoo!!</a:t>
            </a:r>
            <a:endParaRPr b="0" lang="en-US" sz="54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2031840" y="1981080"/>
            <a:ext cx="594360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42720" y="114480"/>
            <a:ext cx="9461160" cy="121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f3f3f"/>
                </a:solidFill>
                <a:latin typeface="Herculanum"/>
              </a:rPr>
              <a:t>Since FAB4 (August 2007)</a:t>
            </a:r>
            <a:endParaRPr b="0" lang="en-US" sz="4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0" name=""/>
          <p:cNvSpPr/>
          <p:nvPr/>
        </p:nvSpPr>
        <p:spPr>
          <a:xfrm>
            <a:off x="355680" y="1752480"/>
            <a:ext cx="9461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buClr>
                <a:srgbClr val="3f3f3f"/>
              </a:buClr>
              <a:buFont typeface="Hercula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Milled 300 PCBs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Working Projects – 70+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Documenting them in the form of a “DIY Projects Book”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Collaborated with VA Fablab to develop some projects for them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Trained 10+ students to use the Modella and Vinyl Cutter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Incubated 1 company to produce Embedded Systems Training Products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 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2720" y="114480"/>
            <a:ext cx="9461160" cy="121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f3f3f"/>
                </a:solidFill>
                <a:latin typeface="Herculanum"/>
              </a:rPr>
              <a:t>Since FAB4 (August 2007) Cont…</a:t>
            </a:r>
            <a:endParaRPr b="0" lang="en-US" sz="4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2" name=""/>
          <p:cNvSpPr/>
          <p:nvPr/>
        </p:nvSpPr>
        <p:spPr>
          <a:xfrm>
            <a:off x="355680" y="1752480"/>
            <a:ext cx="9461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buClr>
                <a:srgbClr val="3f3f3f"/>
              </a:buClr>
              <a:buFont typeface="Hercula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Working on business plan for LED lamps with Kenya Fablab under the guidance of Haakon Karlsen.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Fab Academy coursework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Fab Foundation India groundwork</a:t>
            </a: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And of course, helping FAB5 to happ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f3f3f"/>
                </a:solidFill>
                <a:latin typeface="Herculanum"/>
              </a:rPr>
              <a:t> 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7ab0"/>
              </a:solidFill>
              <a:latin typeface="Palatino"/>
            </a:endParaRPr>
          </a:p>
          <a:p>
            <a:pPr>
              <a:buClr>
                <a:srgbClr val="3f3f3f"/>
              </a:buClr>
              <a:buFont typeface="Hercula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Delhi Fablab Future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Offer help and guidance to younger Fablabs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marL="689040" indent="-30816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Identify key areas of research and development.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marL="689040" indent="-30816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Identify new business ideas.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marL="689040" indent="-30816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7ab0"/>
                </a:solidFill>
                <a:latin typeface="Palatino"/>
              </a:rPr>
              <a:t>Enthuse young engineers to convert to be a Fablabber!</a:t>
            </a: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  <a:p>
            <a:pPr marL="689040" indent="0">
              <a:spcBef>
                <a:spcPts val="2801"/>
              </a:spcBef>
              <a:buNone/>
              <a:tabLst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66200" y="3179880"/>
            <a:ext cx="56289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597ab0"/>
                </a:solidFill>
                <a:latin typeface="Palatino"/>
              </a:rPr>
              <a:t>Thank You!</a:t>
            </a:r>
            <a:endParaRPr b="0" lang="en-US" sz="8100" spc="-1" strike="noStrike">
              <a:solidFill>
                <a:srgbClr val="597ab0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hananjay V. Gadre</cp:lastModifiedBy>
  <dcterms:modified xsi:type="dcterms:W3CDTF">2009-08-16T18:46:17Z</dcterms:modified>
  <cp:revision>5</cp:revision>
  <dc:subject/>
  <dc:title>The Delhi Fablab</dc:title>
</cp:coreProperties>
</file>