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0DE4-D655-4D68-A759-77727E10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F4A1-6610-4256-9149-685AC24F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CBF4-343D-4C6B-8C65-43113FB2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606C-F636-4586-8F36-2B166606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A01C-04A3-4985-A724-5723F957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501B-CE99-4711-B7D4-2358A48D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DA09-B190-4B3D-9ED8-6D526DFD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D703-D40F-4B52-BCCB-7BE7BD9F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FF08-5475-4A7E-98BE-C7CAC46C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AC11-79B6-4DE5-88DF-2296F4D9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70CD-A0AA-442A-99ED-45EB0747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2974-0244-411D-8E77-66F75778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843CBF-AFAB-49AD-9F64-232AC145E9E1}" type="slidenum">
              <a:rPr b="0" lang="es-E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8880" y="649116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ew ways of d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6200000">
            <a:off x="-982080" y="532764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ew ways of kn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9380000">
            <a:off x="366840" y="56610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0" y="187200"/>
            <a:ext cx="8964720" cy="66722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94520" y="5950080"/>
            <a:ext cx="77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99cc00"/>
                </a:solidFill>
                <a:latin typeface="Arial"/>
              </a:rPr>
              <a:t>New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9720" y="458136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9900"/>
                </a:solidFill>
                <a:latin typeface="Arial"/>
              </a:rPr>
              <a:t>aligning values/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2360" y="3933720"/>
            <a:ext cx="81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Arial"/>
              </a:rPr>
              <a:t>Alpha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18360" y="333360"/>
            <a:ext cx="102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Arial"/>
              </a:rPr>
              <a:t>Serious g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236520"/>
            <a:ext cx="8207280" cy="5592960"/>
          </a:xfrm>
          <a:custGeom>
            <a:avLst/>
            <a:gdLst/>
            <a:ahLst/>
            <a:rect l="l" t="t" r="r" b="b"/>
            <a:pathLst>
              <a:path w="5125" h="3523">
                <a:moveTo>
                  <a:pt x="0" y="2465"/>
                </a:moveTo>
                <a:cubicBezTo>
                  <a:pt x="1031" y="2994"/>
                  <a:pt x="2063" y="3523"/>
                  <a:pt x="2585" y="3190"/>
                </a:cubicBezTo>
                <a:cubicBezTo>
                  <a:pt x="3107" y="2857"/>
                  <a:pt x="2707" y="938"/>
                  <a:pt x="3130" y="469"/>
                </a:cubicBezTo>
                <a:cubicBezTo>
                  <a:pt x="3553" y="0"/>
                  <a:pt x="4793" y="393"/>
                  <a:pt x="5125" y="378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76360" y="189000"/>
            <a:ext cx="6348600" cy="6264360"/>
          </a:xfrm>
          <a:custGeom>
            <a:avLst/>
            <a:gdLst/>
            <a:ahLst/>
            <a:rect l="l" t="t" r="r" b="b"/>
            <a:pathLst>
              <a:path w="3901" h="3991">
                <a:moveTo>
                  <a:pt x="401" y="3991"/>
                </a:moveTo>
                <a:cubicBezTo>
                  <a:pt x="200" y="2921"/>
                  <a:pt x="0" y="1852"/>
                  <a:pt x="491" y="1542"/>
                </a:cubicBezTo>
                <a:cubicBezTo>
                  <a:pt x="982" y="1232"/>
                  <a:pt x="2797" y="2389"/>
                  <a:pt x="3349" y="2132"/>
                </a:cubicBezTo>
                <a:cubicBezTo>
                  <a:pt x="3901" y="1875"/>
                  <a:pt x="3727" y="355"/>
                  <a:pt x="3802" y="0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5080" y="3213000"/>
            <a:ext cx="93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99cc00"/>
                </a:solidFill>
                <a:latin typeface="Arial"/>
              </a:rPr>
              <a:t>New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97440" y="1916280"/>
            <a:ext cx="97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009999"/>
                </a:solidFill>
                <a:latin typeface="Arial"/>
              </a:rPr>
              <a:t>many to m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009999"/>
                </a:solidFill>
                <a:latin typeface="Arial"/>
              </a:rPr>
              <a:t>(Coopera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720" y="227664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99cc00"/>
                </a:solidFill>
                <a:latin typeface="Arial"/>
              </a:rPr>
              <a:t>New strate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64000" y="3332160"/>
            <a:ext cx="18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9900"/>
                </a:solidFill>
                <a:latin typeface="Arial"/>
              </a:rPr>
              <a:t>design &amp;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4160" y="407664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Arial"/>
              </a:rPr>
              <a:t>constructive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01800" y="3357720"/>
            <a:ext cx="116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99cc00"/>
                </a:solidFill>
                <a:latin typeface="Arial"/>
              </a:rPr>
              <a:t>New partnershi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500720" y="187200"/>
            <a:ext cx="1440" cy="62676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9080" y="213372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Arial"/>
              </a:rPr>
              <a:t>prototyp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8720" y="549360"/>
            <a:ext cx="1038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009999"/>
                </a:solidFill>
                <a:latin typeface="Arial"/>
              </a:rPr>
              <a:t>many to 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009999"/>
                </a:solidFill>
                <a:latin typeface="Arial"/>
              </a:rPr>
              <a:t>(policy chang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8360" y="4365720"/>
            <a:ext cx="875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009999"/>
                </a:solidFill>
                <a:latin typeface="Arial"/>
              </a:rPr>
              <a:t>one to m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009999"/>
                </a:solidFill>
                <a:latin typeface="Arial"/>
              </a:rPr>
              <a:t>(instru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39480" y="5950080"/>
            <a:ext cx="120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009999"/>
                </a:solidFill>
                <a:latin typeface="Arial"/>
              </a:rPr>
              <a:t>one to 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009999"/>
                </a:solidFill>
                <a:latin typeface="Arial"/>
              </a:rPr>
              <a:t>(self-actualiza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32200" y="148428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9900"/>
                </a:solidFill>
                <a:latin typeface="Arial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81320" y="33336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9900"/>
                </a:solidFill>
                <a:latin typeface="Arial"/>
              </a:rPr>
              <a:t>New consorti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62320" y="5807160"/>
            <a:ext cx="274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ow InnovaLab´s innovati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supports the Denokinn Lab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9040" y="773280"/>
            <a:ext cx="265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Denokinn transform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uman/group/organization/reg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to reach its highest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2880" y="515772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Arial"/>
              </a:rPr>
              <a:t>roleplay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123400" y="836640"/>
            <a:ext cx="910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Arial"/>
              </a:rPr>
              <a:t>Evolutiona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Arial"/>
              </a:rPr>
              <a:t>social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360" y="4221000"/>
            <a:ext cx="95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99cc00"/>
                </a:solidFill>
                <a:latin typeface="Arial"/>
              </a:rPr>
              <a:t>New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62160" y="115920"/>
            <a:ext cx="201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99cc00"/>
                </a:solidFill>
                <a:latin typeface="Arial"/>
              </a:rPr>
              <a:t>New social and business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26160" y="6497640"/>
            <a:ext cx="129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009999"/>
                </a:solidFill>
                <a:latin typeface="Arial"/>
              </a:rPr>
              <a:t>INTERGRAL F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98520" y="29973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b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91240" y="11253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p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43240" y="42210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nova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20:20:56Z</dcterms:created>
  <dc:creator>Gregorio</dc:creator>
  <dc:description/>
  <dc:language>en-US</dc:language>
  <cp:lastModifiedBy>Gregorio</cp:lastModifiedBy>
  <dcterms:modified xsi:type="dcterms:W3CDTF">2008-10-07T21:35:58Z</dcterms:modified>
  <cp:revision>17</cp:revision>
  <dc:subject/>
  <dc:title>Diapositiva 1</dc:title>
</cp:coreProperties>
</file>