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42D5E1-2230-41CA-A843-E7A008092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70E-4CE4-4427-9850-3220E4AF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CE1-945B-4DCD-A47A-85630988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107-C424-4E6F-BFBD-62680E0D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548-6A55-4726-B180-0C56870D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718-7B28-4D2B-94F5-16CA90DE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36F-756B-47C3-9F03-73DE9BF3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C46-00A9-4D7D-963D-650859D0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BF2-8C12-45F3-9A30-767FB3DD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E4F-2F72-4211-8413-4048347D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F07-480B-4626-9177-499FD22C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A7C-D4F8-49D1-90B5-0C79A702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A66-04B6-4483-9F58-201158F0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8/21/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234880-FA12-4483-822A-AEAB87F510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Tahoma"/>
              </a:rPr>
              <a:t>Fab Foundation Updat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19520" y="779400"/>
            <a:ext cx="342900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B16A2-A53A-494B-B233-3B8DE9E81790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’s Something Happening Here…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460760" cy="446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36DA4-C288-4E16-AC45-9E5D3855A961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al attempts to create Fab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8 rest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9: Decided that international network of foundations would be created, and loosely confeder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C6AF5-E4C7-4507-B2D5-74E607CB4200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Tahoma"/>
              </a:rPr>
              <a:t>Need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b Lab network growing, doub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gistics to bring new labs on-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owing demands of Fab con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hange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out La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out projects and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d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lp current/proposed Fab Labs secure 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rdinate funding applications that span multiple lo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F15EF-53D5-4572-A4B9-3B1233E8719B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Tahoma"/>
              </a:rPr>
              <a:t>Opportuniti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b Academy coming on-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en courseware from third pa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veraging growing Fab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ti-lab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e to one mentor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reach to like-minded initi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ustrial arts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onal government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er Faire type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rban hackerspa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1354F-A14F-48FC-9AA1-9638E516BBDE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Tahoma"/>
              </a:rPr>
              <a:t>2009 Updat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.S. non-profit. Incorporated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x exempt status applied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ely seeking fu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B1692-5D86-479D-9F05-061FCE15B49D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fload logistics stress at 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ximize the potential of the global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social network - most likely a Wiki - that encourages user partici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age with large fou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nect with broader ‘hands-on’ ecosy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act with international Fab Foundations confed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5E677-AFBA-4884-8584-839D818A89A2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4065D-10FC-4879-9AEF-1BB0B362CF9C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2:52:42Z</dcterms:created>
  <dc:creator>Office 2004 Test Drive User</dc:creator>
  <dc:description/>
  <dc:language>en-US</dc:language>
  <cp:lastModifiedBy>Office 2004 Test Drive User</cp:lastModifiedBy>
  <dcterms:modified xsi:type="dcterms:W3CDTF">2009-08-21T05:01:33Z</dcterms:modified>
  <cp:revision>24</cp:revision>
  <dc:subject/>
  <dc:title>Fab Foundation (U.S.) Update</dc:title>
</cp:coreProperties>
</file>