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886-5393-449D-AF94-EBAB9732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obile fab lab : a fab lab in a trail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California, San Diego : run by the Heads on Fir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Illinois, Chicago : in the Museum of Science and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Kansas, Wichita : sponsored by Spirit Aer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Massachusetts, Boston : in the South End Technolog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Minnesota, White Bear Lake : in Centur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New York, South Bronx : run by the Sustainable South 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Ohio, Elyria : in the Lorain County Commun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Oklahoma, Ponca City : run by Pioneer Technology Center (Manufacturing Education Training System Skills on Wheels Mobile La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Oklahoma, Claremore : (run by Will Rogers Junior High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Oklahoma, Tulsa : run by CAP and sponsored by Spirit Aer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SA, Wisconsin, Appleton, in the Fox Valley Technical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dit] Central/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dit]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hana, Sekondi-Takoradi : in the Takoradi Technical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outh Africa, Pretoria : in the Innovation Hub, run by the Council for Scientific and Industri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outh Africa, Soshanguve : in the BMW community center, run by the Bright Youth Council and sponsored by the Council for Scientific and Industri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Kenya : In Majiwa, Bondo District. Run by ARO Fablab sponsored by Norad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dit]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fghanistan, Jalalabad : the flagship lab hosted adjacent to the Taj Mahal Guest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dia, Pabal : in the Vigyan Ashram school (see external link: Vigyan Ashram: Rural Development Edu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dit]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celand, Vestmannaeyjar : at the Icelandic Innovation Center see external link http://www.fablab.i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rway, Lyngen : also the headquarters of the Fab Foundation. see external link http://www.fablab.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therlands, Amsterdam : in the Waag Society see http://fablab.waag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therlands, Eindhoven, Tilburg : Free Form Fab see http://www.freeformfab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therlands, The Hague : in the CabFab see http://denhaag.fablab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therlands, Utrecht : ProtoSpace see http://protospace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ain, Barcelona : in the Institute for Advanced Architecture of Cata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3cce"/>
                </a:solidFill>
                <a:latin typeface="Arial"/>
              </a:rPr>
              <a:t>http://hackerspace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B9D-A71F-41AA-9035-2F420032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0F9-62E4-49F5-AD69-BC0CFCE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48F-B6E0-4C4A-B8BA-E0DBCE48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696-E425-433D-8A97-8F381F1D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E6A-1847-4108-9050-BE73CDA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2BF-3158-4514-BEA1-82D7B6D5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5C1-1C59-447D-849E-44561E9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253-A06A-4EF9-A556-5D88D7A5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A11-ED5E-4992-B600-4CE1587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556-3F89-4A2A-982D-868BB45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37E-2610-4001-A11A-7B71236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BAA-1E48-44CD-9E83-F3B5464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DEE0-70B8-48E0-B161-5E2DB1DD9B9F}" type="datetime3">
              <a:rPr b="0" lang="en-US" sz="14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C93-0A6C-4301-8FF5-E2DF99806F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new creative landscap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ocial spaces for making, learning, and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uart Gannes Kipp Bradf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of learning spaces…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15080" cy="430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676-D2B9-4064-A0E4-360168EE12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6A512-058F-4258-8613-A6138C407C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kering places…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079880" cy="289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733560" cy="2987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7840" y="527544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bile Fab 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040" y="518148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 Shop Menlo P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A6D-AED7-4698-AF9A-13AA95A526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21FF7-542B-4C88-8389-CCD2002504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 Fab Lab footprint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987560"/>
            <a:ext cx="7145280" cy="395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362320" y="3505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3962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666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34290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114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257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419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666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505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962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05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4290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352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505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352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05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976-980D-494F-97AB-8C22801B65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961D4-2944-4C8C-8518-C4625A719D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organizations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3124440" cy="234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353040" cy="22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529280" y="438624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ebridge, San Francis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5760" y="56815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YC Resis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406-684A-4658-84E8-FE4BAEA4271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08B8D-A776-4266-9345-95F3802F260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hackerspaces 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108160"/>
            <a:ext cx="2514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b Sh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7 WH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g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ck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rboro Creative Cowor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wtown Computer Cong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C4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nhac DetroitWeb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tside Hacker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yeb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ndel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CKMIA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2133720"/>
            <a:ext cx="2743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mping Station: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 to be name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turday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thern Arizona Tech 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ato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St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arkana Institute of Technolog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xis of Awes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Hacker Fou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Hack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andbo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oughby and Balt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2 Hack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835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2840" y="539424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d1cb"/>
                </a:solidFill>
                <a:latin typeface="Arial"/>
              </a:rPr>
              <a:t>http://hackerspac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1DA-41AB-4476-B67C-5C862084A11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63BD1-18B5-4066-B1B3-04AF7B74F3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Fab Foundation: Building the social network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, knit together Fab 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 projects,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 for Fab Acade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34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D3B-FCDD-4803-B323-561E159443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9F134-82BF-409E-A975-A166E32E83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ing Makers to Makers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09080" y="44956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r Faire in Silicon Vall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662640" cy="246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98880" y="553068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ing man fro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40360" y="2362320"/>
            <a:ext cx="3112920" cy="31478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869-6F36-4C05-AE40-F174EDE62C3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A9A21-B2A6-45E2-9B99-562FC159A6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52:53Z</dcterms:created>
  <dc:creator>Office 2004 Test Drive User</dc:creator>
  <dc:description/>
  <dc:language>en-US</dc:language>
  <cp:lastModifiedBy>Office 2004 Test Drive User</cp:lastModifiedBy>
  <dcterms:modified xsi:type="dcterms:W3CDTF">2009-08-20T10:05:33Z</dcterms:modified>
  <cp:revision>81</cp:revision>
  <dc:subject/>
  <dc:title>Re-Making America</dc:title>
</cp:coreProperties>
</file>