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7D38F-0CE2-4C99-92A9-50AD5084267E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7240" bIns="4680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Index: Opport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7240" bIns="4680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Please add as new slide, last slide in overview s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7240" bIns="4680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Please add as new slide, last slide in overview s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7240" bIns="4680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Fun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B9E-D7B5-43A3-9D56-FC0EC8BA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7AA-016D-4913-B3BB-5592DE18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B82C-A8A3-4577-939D-0A85E840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480-5291-4920-AD8B-E4664150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94EB-E6CF-4F0B-9D46-B277B968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011-6B3B-417E-9506-9656C746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E13-DEC3-4360-91D9-05DA35F2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D88-AAB1-45A3-A321-C34541D7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676-AA8E-4016-82BA-B65E5911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73F-3DB8-4111-8CB2-2A6E7665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466-E1CF-4228-B720-A1BAAEBA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1A1E-CBC5-4DF2-B0CD-90AEFE72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E0935-81A9-4BEA-81B0-032DB425D8FD}" type="slidenum">
              <a:rPr b="0" lang="es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76360" y="2565360"/>
            <a:ext cx="5473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6960" bIns="46800" anchor="t">
            <a:noAutofit/>
          </a:bodyPr>
          <a:p>
            <a:pPr algn="ctr">
              <a:lnSpc>
                <a:spcPct val="76000"/>
              </a:lnSpc>
              <a:spcBef>
                <a:spcPts val="24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96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m r e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565360"/>
            <a:ext cx="5473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6960" bIns="46800" anchor="t">
            <a:noAutofit/>
          </a:bodyPr>
          <a:p>
            <a:pPr algn="ctr">
              <a:lnSpc>
                <a:spcPct val="76000"/>
              </a:lnSpc>
              <a:spcBef>
                <a:spcPts val="24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9600" spc="-1" strike="noStrike">
                <a:solidFill>
                  <a:srgbClr val="969696"/>
                </a:solidFill>
                <a:latin typeface="Times New Roman"/>
                <a:ea typeface="Lucida Sans Unicode"/>
              </a:rPr>
              <a:t>E  e    </a:t>
            </a:r>
            <a:r>
              <a:rPr b="0" lang="es-ES" sz="9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27280" y="2565360"/>
            <a:ext cx="590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6960" bIns="46800" anchor="t">
            <a:noAutofit/>
          </a:bodyPr>
          <a:p>
            <a:pPr algn="ctr">
              <a:lnSpc>
                <a:spcPct val="76000"/>
              </a:lnSpc>
              <a:spcBef>
                <a:spcPts val="24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s-ES" sz="9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g  </a:t>
            </a:r>
            <a:r>
              <a:rPr b="0" lang="es-ES" sz="9600" spc="-1" strike="noStrike">
                <a:solidFill>
                  <a:srgbClr val="c0c0c0"/>
                </a:solidFill>
                <a:latin typeface="Times New Roman"/>
                <a:ea typeface="Lucida Sans Unicode"/>
              </a:rPr>
              <a:t>c</a:t>
            </a:r>
            <a:r>
              <a:rPr b="0" lang="es-ES" sz="9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060640"/>
            <a:ext cx="39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1160" bIns="46800" anchor="t">
            <a:noAutofit/>
          </a:bodyPr>
          <a:p>
            <a:pPr algn="ctr">
              <a:lnSpc>
                <a:spcPct val="76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jaz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95640" y="4076640"/>
            <a:ext cx="39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1160" bIns="46800" anchor="t">
            <a:noAutofit/>
          </a:bodyPr>
          <a:p>
            <a:pPr algn="ctr">
              <a:lnSpc>
                <a:spcPct val="76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n the path of inno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99200" y="380880"/>
            <a:ext cx="1413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380880"/>
            <a:ext cx="2895840" cy="7632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457200"/>
            <a:ext cx="2895480" cy="763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533520"/>
            <a:ext cx="2819160" cy="75960"/>
          </a:xfrm>
          <a:prstGeom prst="rect">
            <a:avLst/>
          </a:prstGeom>
          <a:solidFill>
            <a:srgbClr val="ba0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609480"/>
            <a:ext cx="2819520" cy="76320"/>
          </a:xfrm>
          <a:prstGeom prst="rect">
            <a:avLst/>
          </a:prstGeom>
          <a:solidFill>
            <a:srgbClr val="e5e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380880"/>
            <a:ext cx="2361960" cy="763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380880"/>
            <a:ext cx="2590560" cy="7632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71800" y="457200"/>
            <a:ext cx="2362320" cy="76320"/>
          </a:xfrm>
          <a:prstGeom prst="rect">
            <a:avLst/>
          </a:prstGeom>
          <a:solidFill>
            <a:srgbClr val="da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533520"/>
            <a:ext cx="2362320" cy="7596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609480"/>
            <a:ext cx="2971800" cy="76320"/>
          </a:xfrm>
          <a:prstGeom prst="rect">
            <a:avLst/>
          </a:prstGeom>
          <a:solidFill>
            <a:srgbClr val="417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304920"/>
            <a:ext cx="2895480" cy="7596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04920"/>
            <a:ext cx="2743200" cy="7596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609480"/>
            <a:ext cx="685800" cy="7488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609480"/>
            <a:ext cx="685800" cy="7488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67280" y="609480"/>
            <a:ext cx="533520" cy="7776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62720" y="533520"/>
            <a:ext cx="685800" cy="7452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867280" y="533520"/>
            <a:ext cx="457200" cy="7452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79640" y="2781360"/>
            <a:ext cx="619272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Imagining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굴림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ideal futur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44640" y="318960"/>
            <a:ext cx="39844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Emergent Path of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4880" y="4149720"/>
            <a:ext cx="2895480" cy="7632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59280" y="4581360"/>
            <a:ext cx="2895480" cy="763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8120" y="4653000"/>
            <a:ext cx="2819160" cy="76320"/>
          </a:xfrm>
          <a:prstGeom prst="rect">
            <a:avLst/>
          </a:prstGeom>
          <a:solidFill>
            <a:srgbClr val="ba0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4865760"/>
            <a:ext cx="2819160" cy="75960"/>
          </a:xfrm>
          <a:prstGeom prst="rect">
            <a:avLst/>
          </a:prstGeom>
          <a:solidFill>
            <a:srgbClr val="e5e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59280" y="4365720"/>
            <a:ext cx="2361960" cy="7596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4437000"/>
            <a:ext cx="2590560" cy="7632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4508640"/>
            <a:ext cx="2361960" cy="75960"/>
          </a:xfrm>
          <a:prstGeom prst="rect">
            <a:avLst/>
          </a:prstGeom>
          <a:solidFill>
            <a:srgbClr val="da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73320" y="4792680"/>
            <a:ext cx="2362320" cy="763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0200" y="4724280"/>
            <a:ext cx="2971800" cy="76320"/>
          </a:xfrm>
          <a:prstGeom prst="rect">
            <a:avLst/>
          </a:prstGeom>
          <a:solidFill>
            <a:srgbClr val="417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4880" y="4221000"/>
            <a:ext cx="2895480" cy="7632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4360" y="4292640"/>
            <a:ext cx="2743200" cy="7632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3141720"/>
            <a:ext cx="685800" cy="7452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27640" y="3067200"/>
            <a:ext cx="685800" cy="745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24360" y="3068640"/>
            <a:ext cx="533520" cy="7776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67280" y="3141720"/>
            <a:ext cx="685800" cy="7452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2997360"/>
            <a:ext cx="457200" cy="7452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4880" y="4005360"/>
            <a:ext cx="2895480" cy="7596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4880" y="3933720"/>
            <a:ext cx="2895480" cy="763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3789360"/>
            <a:ext cx="2819160" cy="76320"/>
          </a:xfrm>
          <a:prstGeom prst="rect">
            <a:avLst/>
          </a:prstGeom>
          <a:solidFill>
            <a:srgbClr val="ba0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21200" y="3500280"/>
            <a:ext cx="2819520" cy="76320"/>
          </a:xfrm>
          <a:prstGeom prst="rect">
            <a:avLst/>
          </a:prstGeom>
          <a:solidFill>
            <a:srgbClr val="e5e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59280" y="3429000"/>
            <a:ext cx="2361960" cy="763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59280" y="3573360"/>
            <a:ext cx="2590560" cy="7632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59280" y="3357720"/>
            <a:ext cx="2361960" cy="75960"/>
          </a:xfrm>
          <a:prstGeom prst="rect">
            <a:avLst/>
          </a:prstGeom>
          <a:solidFill>
            <a:srgbClr val="da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59280" y="3645000"/>
            <a:ext cx="2361960" cy="7596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0200" y="4076640"/>
            <a:ext cx="2971800" cy="76320"/>
          </a:xfrm>
          <a:prstGeom prst="rect">
            <a:avLst/>
          </a:prstGeom>
          <a:solidFill>
            <a:srgbClr val="417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9280" y="3860640"/>
            <a:ext cx="2895480" cy="7632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59280" y="3716280"/>
            <a:ext cx="2743200" cy="7632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4000" y="3284640"/>
            <a:ext cx="685800" cy="7452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59280" y="3284640"/>
            <a:ext cx="685800" cy="745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24360" y="3213000"/>
            <a:ext cx="533520" cy="7776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11640" y="3284640"/>
            <a:ext cx="685800" cy="7452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88000" y="3213000"/>
            <a:ext cx="457200" cy="7488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3357720"/>
            <a:ext cx="9144000" cy="3500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348000" y="250668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00000" y="3591000"/>
            <a:ext cx="76327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Rules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67640" y="5408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Pl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60360" y="5408640"/>
            <a:ext cx="15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3357720"/>
            <a:ext cx="9144000" cy="3500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348000" y="250668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05080" y="711360"/>
            <a:ext cx="2619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94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Times New Roman"/>
                <a:ea typeface="新細明體"/>
              </a:rPr>
              <a:t>Transforming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Times New Roman"/>
                <a:ea typeface="新細明體"/>
              </a:rPr>
              <a:t>Call to adven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Times New Roman"/>
                <a:ea typeface="新細明體"/>
              </a:rPr>
              <a:t>Refusal of the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Times New Roman"/>
                <a:ea typeface="新細明體"/>
              </a:rPr>
              <a:t>Men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Times New Roman"/>
                <a:ea typeface="新細明體"/>
              </a:rPr>
              <a:t>First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Times New Roman"/>
                <a:ea typeface="新細明體"/>
              </a:rPr>
              <a:t>Testing all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Times New Roman"/>
                <a:ea typeface="新細明體"/>
              </a:rPr>
              <a:t>Critical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Times New Roman"/>
                <a:ea typeface="新細明體"/>
              </a:rPr>
              <a:t>Ord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Times New Roman"/>
                <a:ea typeface="新細明體"/>
              </a:rPr>
              <a:t>R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Times New Roman"/>
                <a:ea typeface="新細明體"/>
              </a:rPr>
              <a:t>The Road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Times New Roman"/>
                <a:ea typeface="新細明體"/>
              </a:rPr>
              <a:t>Resu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Times New Roman"/>
                <a:ea typeface="新細明體"/>
              </a:rPr>
              <a:t>Return with the Elix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67640" y="5408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Pl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60360" y="5408640"/>
            <a:ext cx="15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3352680"/>
            <a:ext cx="9144000" cy="350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348000" y="250668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4175280" y="5408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Pl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812560" y="531720"/>
            <a:ext cx="345132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Sensing 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Opening to intu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Reson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Constructiv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Model-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Human and social inte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Innovation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Role-pla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Concept desig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Rapid business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3591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ules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43280" y="5408640"/>
            <a:ext cx="15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8320" y="531720"/>
            <a:ext cx="278532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Transforming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Call to adven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Refusal of the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Men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First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Testing all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Critical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Ord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R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The Road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Resu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80600"/>
                </a:solidFill>
                <a:latin typeface="Arial"/>
                <a:ea typeface="新細明體"/>
              </a:rPr>
              <a:t>Return with the Elix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5943600" y="1447920"/>
            <a:ext cx="3200400" cy="4647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0" y="152280"/>
          <a:ext cx="3200400" cy="59421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594216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0" y="6095880"/>
          <a:ext cx="9144000" cy="7621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0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0" y="0"/>
          <a:ext cx="9144000" cy="15224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52244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3200400" y="1447920"/>
          <a:ext cx="2819520" cy="464796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464796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303" name=""/>
          <p:cNvSpPr/>
          <p:nvPr/>
        </p:nvSpPr>
        <p:spPr>
          <a:xfrm>
            <a:off x="228600" y="1295280"/>
            <a:ext cx="2819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024760" y="6688080"/>
            <a:ext cx="2570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133720"/>
            <a:ext cx="2438280" cy="144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403848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6095880"/>
            <a:ext cx="3200400" cy="180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19920" y="3809880"/>
            <a:ext cx="31240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00400" y="6095880"/>
            <a:ext cx="3200400" cy="180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943600" y="6095880"/>
            <a:ext cx="3200400" cy="180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2362320"/>
            <a:ext cx="39621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off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Bilbao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ensor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ew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ew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etwor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ortium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320" y="6324480"/>
            <a:ext cx="3429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88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InGam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36600"/>
            <a:ext cx="85345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400" bIns="46800" anchor="t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novation Heroes enter the game levels to address specific questions, exercises, and challenges and reflect on their trans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1600200"/>
            <a:ext cx="4419720" cy="144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876920" y="1676520"/>
            <a:ext cx="3962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ultur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Business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nova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xploratory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otential Fut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ransdisciplinary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novation Desig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ew 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4267080"/>
            <a:ext cx="4343400" cy="180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2438280"/>
            <a:ext cx="1371600" cy="3812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76920" y="1752480"/>
            <a:ext cx="12952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59280" y="4402080"/>
            <a:ext cx="12952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0"/>
          <a:ext cx="9144000" cy="14479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44792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5943600" y="1447920"/>
            <a:ext cx="3200400" cy="4647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0" y="152280"/>
          <a:ext cx="3200400" cy="59421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594216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0" y="6095880"/>
          <a:ext cx="9144000" cy="7621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0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3200400" y="1447920"/>
          <a:ext cx="2819520" cy="464796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464796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228600" y="1295280"/>
            <a:ext cx="2819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024760" y="6688080"/>
            <a:ext cx="2570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403848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095880"/>
            <a:ext cx="3200400" cy="180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19920" y="3809880"/>
            <a:ext cx="31240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6095880"/>
            <a:ext cx="3200400" cy="180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43600" y="6095880"/>
            <a:ext cx="3200400" cy="180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6320" y="6324480"/>
            <a:ext cx="3429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88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Play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1295280"/>
            <a:ext cx="2819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403848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19920" y="3809880"/>
            <a:ext cx="31240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295280"/>
            <a:ext cx="2819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403848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-360360" y="-95400"/>
            <a:ext cx="9901080" cy="61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-76320" y="95400"/>
            <a:ext cx="1105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BankGothic Md BT"/>
                <a:ea typeface="Lucida Sans Unicode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533520"/>
            <a:ext cx="134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8480" bIns="46800" anchor="t">
            <a:noAutofit/>
          </a:bodyPr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ffcc00"/>
                </a:solidFill>
                <a:latin typeface="BankGothic Md BT"/>
                <a:ea typeface="Lucida Sans Unicode"/>
              </a:rPr>
              <a:t>Ques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Challe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Opport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38480" y="95400"/>
            <a:ext cx="24717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43800" y="90360"/>
            <a:ext cx="2576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Looking toward 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42800" y="31896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19120" y="409680"/>
            <a:ext cx="754380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986600" y="33336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62560" y="31896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343400" y="2133720"/>
            <a:ext cx="1440" cy="3429000"/>
          </a:xfrm>
          <a:custGeom>
            <a:avLst/>
            <a:gdLst/>
            <a:ahLst/>
            <a:rect l="l" t="t" r="r" b="b"/>
            <a:pathLst>
              <a:path w="1" h="9526">
                <a:moveTo>
                  <a:pt x="0" y="0"/>
                </a:moveTo>
                <a:lnTo>
                  <a:pt x="0" y="9525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2430360"/>
            <a:ext cx="3505320" cy="26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spAutoFit/>
          </a:bodyPr>
          <a:p>
            <a:pPr algn="r"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To </a:t>
            </a:r>
            <a:r>
              <a:rPr b="0" lang="en-US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meet</a:t>
            </a:r>
            <a:r>
              <a:rPr b="0" lang="es-MX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 </a:t>
            </a:r>
            <a:r>
              <a:rPr b="0" lang="en-US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the </a:t>
            </a:r>
            <a:r>
              <a:rPr b="0" lang="es-MX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 </a:t>
            </a:r>
            <a:r>
              <a:rPr b="0" lang="en-US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emerging</a:t>
            </a:r>
            <a:r>
              <a:rPr b="0" lang="es-MX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 </a:t>
            </a:r>
            <a:r>
              <a:rPr b="0" lang="en-US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need for </a:t>
            </a:r>
            <a:r>
              <a:rPr b="0" lang="es-MX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 innnovation in the 21</a:t>
            </a:r>
            <a:r>
              <a:rPr b="0" lang="es-MX" sz="2800" spc="-1" strike="noStrike" baseline="30000">
                <a:solidFill>
                  <a:srgbClr val="cc9900"/>
                </a:solidFill>
                <a:latin typeface="Univers LT Std 57 Cn"/>
                <a:ea typeface="Lucida Sans Unicode"/>
              </a:rPr>
              <a:t>st</a:t>
            </a:r>
            <a:r>
              <a:rPr b="0" lang="es-MX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 century</a:t>
            </a:r>
            <a:r>
              <a:rPr b="0" lang="en-US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, </a:t>
            </a:r>
            <a:r>
              <a:rPr b="0" lang="es-MX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organizations</a:t>
            </a:r>
            <a:r>
              <a:rPr b="0" lang="en-US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 </a:t>
            </a:r>
            <a:r>
              <a:rPr b="0" lang="es-MX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need to ask</a:t>
            </a:r>
            <a:r>
              <a:rPr b="0" lang="en-US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24280" y="2955960"/>
            <a:ext cx="3429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LT Std 57 Cn"/>
                <a:ea typeface="Lucida Sans Unicode"/>
              </a:rPr>
              <a:t>What </a:t>
            </a:r>
            <a:r>
              <a:rPr b="1" lang="es-MX" sz="2400" spc="-1" strike="noStrike">
                <a:solidFill>
                  <a:srgbClr val="000000"/>
                </a:solidFill>
                <a:latin typeface="Univers LT Std 57 Cn"/>
                <a:ea typeface="Lucida Sans Unicode"/>
              </a:rPr>
              <a:t>relationships should we be building to incite new prototyping mod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53352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8480" bIns="46800" anchor="t">
            <a:noAutofit/>
          </a:bodyPr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Innovation Organization´s R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Knowledge 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Partner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324480" y="3276720"/>
            <a:ext cx="2438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1480" bIns="46800" anchor="t">
            <a:noAutofit/>
          </a:bodyPr>
          <a:p>
            <a:pPr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Univers LT Std 57 Cn"/>
                <a:ea typeface="Lucida Sans Unicode"/>
              </a:rPr>
              <a:t>Emerging action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Univers LT Std 57 Cn"/>
                <a:ea typeface="Lucida Sans Unicode"/>
              </a:rPr>
              <a:t>Describing working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Univers LT Std 57 Cn"/>
                <a:ea typeface="Lucida Sans Unicode"/>
              </a:rPr>
              <a:t>Facilitating metaphoric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Univers LT Std 57 Cn"/>
                <a:ea typeface="Lucida Sans Unicode"/>
              </a:rPr>
              <a:t>Foregrounding tacit know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3691080"/>
            <a:ext cx="289584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3400" bIns="46800" anchor="t">
            <a:spAutoFit/>
          </a:bodyPr>
          <a:p>
            <a:pPr>
              <a:lnSpc>
                <a:spcPct val="78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Univers LT Std 57 Cn"/>
                <a:ea typeface="Lucida Sans Unicode"/>
              </a:rPr>
              <a:t>Representing text and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8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Univers LT Std 57 Cn"/>
                <a:ea typeface="Lucida Sans Unicode"/>
              </a:rPr>
              <a:t>Surveying complex quant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8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Univers LT Std 57 Cn"/>
                <a:ea typeface="Lucida Sans Unicode"/>
              </a:rPr>
              <a:t>Clearly defined structures and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90720" y="1822320"/>
            <a:ext cx="716256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9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cc9900"/>
                </a:solidFill>
                <a:latin typeface="BankGothic Md BT"/>
                <a:ea typeface="Lucida Sans Unicode"/>
              </a:rPr>
              <a:t>A prototyping environment emphasizes the dynamic </a:t>
            </a:r>
            <a:r>
              <a:rPr b="0" lang="en-US" sz="2000" spc="-1" strike="noStrike">
                <a:solidFill>
                  <a:srgbClr val="cc9900"/>
                </a:solidFill>
                <a:latin typeface="BankGothic Md BT"/>
                <a:ea typeface="Lucida Sans Unicode"/>
              </a:rPr>
              <a:t>shift</a:t>
            </a:r>
            <a:r>
              <a:rPr b="0" lang="es-MX" sz="2000" spc="-1" strike="noStrike">
                <a:solidFill>
                  <a:srgbClr val="cc9900"/>
                </a:solidFill>
                <a:latin typeface="BankGothic Md BT"/>
                <a:ea typeface="Lucida Sans Unicode"/>
              </a:rPr>
              <a:t>s in hard and soft approaches to understanding human n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708520" y="2708280"/>
            <a:ext cx="289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spAutoFit/>
          </a:bodyPr>
          <a:p>
            <a:pPr algn="ctr"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-76320" y="95400"/>
            <a:ext cx="1105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BankGothic Md BT"/>
                <a:ea typeface="Lucida Sans Unicode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138480" y="95400"/>
            <a:ext cx="24717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43800" y="90360"/>
            <a:ext cx="2576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Looking toward 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2800" y="31896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9120" y="409680"/>
            <a:ext cx="754380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986600" y="33336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62560" y="31896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6400800"/>
            <a:ext cx="914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378144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3352680"/>
            <a:ext cx="152280" cy="152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70880" y="6481800"/>
            <a:ext cx="16192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Innova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4356000"/>
            <a:ext cx="152280" cy="152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72200" y="396252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533520"/>
            <a:ext cx="134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8480" bIns="46800" anchor="t">
            <a:noAutofit/>
          </a:bodyPr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Ques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f7db09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7db09"/>
                </a:solidFill>
                <a:latin typeface="BankGothic Md BT"/>
                <a:ea typeface="Lucida Sans Unicode"/>
              </a:rPr>
              <a:t>Challe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Opport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457200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6095880"/>
            <a:ext cx="5791320" cy="18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28800" y="2819520"/>
            <a:ext cx="579132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28800" y="2819520"/>
            <a:ext cx="1440" cy="45720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543800" y="5635440"/>
            <a:ext cx="1440" cy="46332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1752480" y="5788080"/>
            <a:ext cx="1800" cy="31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7620120" y="2816280"/>
            <a:ext cx="1440" cy="31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00600" y="3809880"/>
            <a:ext cx="1440" cy="180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72200" y="5181480"/>
            <a:ext cx="152280" cy="152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4941720"/>
            <a:ext cx="152280" cy="152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19720" y="53352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8480" bIns="46800" anchor="t">
            <a:noAutofit/>
          </a:bodyPr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Innovation Organization´s R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Knowledge 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Partner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39640" y="2708280"/>
            <a:ext cx="289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spAutoFit/>
          </a:bodyPr>
          <a:p>
            <a:pPr algn="ctr"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0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724280" y="2852280"/>
            <a:ext cx="381024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6840" bIns="46800" anchor="t">
            <a:normAutofit/>
          </a:bodyPr>
          <a:p>
            <a:pPr marL="343080" indent="0">
              <a:lnSpc>
                <a:spcPct val="78000"/>
              </a:lnSpc>
              <a:spcBef>
                <a:spcPts val="1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LT Std 57 Cn"/>
              </a:rPr>
              <a:t>Transform</a:t>
            </a:r>
            <a:r>
              <a:rPr b="0" lang="es-MX" sz="1800" spc="-1" strike="noStrike">
                <a:solidFill>
                  <a:srgbClr val="000000"/>
                </a:solidFill>
                <a:latin typeface="Univers LT Std 57 Cn"/>
              </a:rPr>
              <a:t>ing Corporate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8000"/>
              </a:lnSpc>
              <a:spcBef>
                <a:spcPts val="1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Univers LT Std 57 Cn"/>
              </a:rPr>
              <a:t>Sustaining </a:t>
            </a:r>
            <a:r>
              <a:rPr b="0" lang="en-US" sz="1800" spc="-1" strike="noStrike">
                <a:solidFill>
                  <a:srgbClr val="000000"/>
                </a:solidFill>
                <a:latin typeface="Univers LT Std 57 Cn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8000"/>
              </a:lnSpc>
              <a:spcBef>
                <a:spcPts val="1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Univers LT Std 57 Cn"/>
              </a:rPr>
              <a:t>Guiding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8000"/>
              </a:lnSpc>
              <a:spcBef>
                <a:spcPts val="1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Univers LT Std 57 Cn"/>
              </a:rPr>
              <a:t>Enterprising </a:t>
            </a:r>
            <a:r>
              <a:rPr b="0" lang="en-US" sz="1800" spc="-1" strike="noStrike">
                <a:solidFill>
                  <a:srgbClr val="000000"/>
                </a:solidFill>
                <a:latin typeface="Univers LT Std 57 Cn"/>
              </a:rPr>
              <a:t>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8000"/>
              </a:lnSpc>
              <a:spcBef>
                <a:spcPts val="1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Univers LT Std 57 Cn"/>
              </a:rPr>
              <a:t>Timely Response To Opport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8000"/>
              </a:lnSpc>
              <a:spcBef>
                <a:spcPts val="1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Univers LT Std 57 Cn"/>
              </a:rPr>
              <a:t>World Class Experi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8000"/>
              </a:lnSpc>
              <a:spcBef>
                <a:spcPts val="1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76520" y="1616040"/>
            <a:ext cx="571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Opportunities</a:t>
            </a:r>
            <a:r>
              <a:rPr b="0" lang="en-US" sz="2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 in Emerging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17524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8080" y="2722680"/>
            <a:ext cx="3338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noAutofit/>
          </a:bodyPr>
          <a:p>
            <a:pPr algn="r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Thus</a:t>
            </a:r>
            <a:r>
              <a:rPr b="0" lang="es-MX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 play and protoyping  can </a:t>
            </a:r>
            <a:r>
              <a:rPr b="0" lang="en-US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address</a:t>
            </a:r>
            <a:r>
              <a:rPr b="0" lang="es-MX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 an  organization</a:t>
            </a:r>
            <a:r>
              <a:rPr b="0" lang="en-US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’s nee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-76320" y="95400"/>
            <a:ext cx="1105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BankGothic Md BT"/>
                <a:ea typeface="Lucida Sans Unicode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38480" y="95400"/>
            <a:ext cx="24717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643800" y="90360"/>
            <a:ext cx="2576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Looking toward 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42800" y="31896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19120" y="409680"/>
            <a:ext cx="754380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86600" y="33336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343400" y="2362320"/>
            <a:ext cx="1440" cy="3429000"/>
          </a:xfrm>
          <a:custGeom>
            <a:avLst/>
            <a:gdLst/>
            <a:ahLst/>
            <a:rect l="l" t="t" r="r" b="b"/>
            <a:pathLst>
              <a:path w="1" h="9526">
                <a:moveTo>
                  <a:pt x="0" y="0"/>
                </a:moveTo>
                <a:lnTo>
                  <a:pt x="0" y="9525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62560" y="31896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0" y="2903400"/>
            <a:ext cx="152280" cy="152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881480" y="6491160"/>
            <a:ext cx="14500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MIK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0" y="361476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0" y="407196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533520"/>
            <a:ext cx="134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8480" bIns="46800" anchor="t">
            <a:noAutofit/>
          </a:bodyPr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Ques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Challe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BankGothic Md BT"/>
                <a:ea typeface="Lucida Sans Unicode"/>
              </a:rPr>
              <a:t>Opport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323388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4452840"/>
            <a:ext cx="152280" cy="152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0" y="483408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419720" y="53352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8480" bIns="46800" anchor="t">
            <a:noAutofit/>
          </a:bodyPr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Innovation Organization´s R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Knowledge 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Partner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0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133720"/>
            <a:ext cx="3809880" cy="32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·no·va·tion: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. origination: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he act or process of inventing or introducing something ne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. new idea or method: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new invention or way of doing someth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. process: purposeful creativity to align new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768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29280" y="4689360"/>
            <a:ext cx="304560" cy="304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6480" y="4232160"/>
            <a:ext cx="457200" cy="457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3680" y="3774960"/>
            <a:ext cx="609480" cy="609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24560" y="3165480"/>
            <a:ext cx="914400" cy="914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58080" y="2556000"/>
            <a:ext cx="1295280" cy="1218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1793880"/>
            <a:ext cx="1828800" cy="1828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210360" y="1523880"/>
            <a:ext cx="2628720" cy="2327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3924360" y="4797000"/>
            <a:ext cx="457200" cy="160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72080" y="6248520"/>
            <a:ext cx="304560" cy="304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2760" y="4492440"/>
            <a:ext cx="1066680" cy="145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00480" y="5791320"/>
            <a:ext cx="304560" cy="304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4343400"/>
            <a:ext cx="304920" cy="304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2760" y="5943600"/>
            <a:ext cx="137160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19440" y="44956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066680" y="137160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From mental models to prototyping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586400" y="2492280"/>
            <a:ext cx="3719520" cy="2743200"/>
            <a:chOff x="4586400" y="2492280"/>
            <a:chExt cx="3719520" cy="2743200"/>
          </a:xfrm>
        </p:grpSpPr>
        <p:sp>
          <p:nvSpPr>
            <p:cNvPr id="408" name=""/>
            <p:cNvSpPr/>
            <p:nvPr/>
          </p:nvSpPr>
          <p:spPr>
            <a:xfrm>
              <a:off x="4738680" y="2492280"/>
              <a:ext cx="356724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>
                <a:lnSpc>
                  <a:spcPct val="98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Cultivat</a:t>
              </a:r>
              <a:r>
                <a:rPr b="0" lang="es-MX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ing</a:t>
              </a:r>
              <a:r>
                <a:rPr b="0" lang="en-US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 creative cap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8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Generat</a:t>
              </a:r>
              <a:r>
                <a:rPr b="0" lang="es-MX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ing</a:t>
              </a:r>
              <a:r>
                <a:rPr b="0" lang="en-US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 knowledge cap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8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Train</a:t>
              </a:r>
              <a:r>
                <a:rPr b="0" lang="es-MX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ing</a:t>
              </a:r>
              <a:r>
                <a:rPr b="0" lang="en-US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 human cap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8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Build</a:t>
              </a:r>
              <a:r>
                <a:rPr b="0" lang="es-MX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ing</a:t>
              </a:r>
              <a:r>
                <a:rPr b="0" lang="en-US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 social cap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8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Attract</a:t>
              </a:r>
              <a:r>
                <a:rPr b="0" lang="es-MX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ing</a:t>
              </a:r>
              <a:r>
                <a:rPr b="0" lang="en-US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 financial cap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8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Preserv</a:t>
              </a:r>
              <a:r>
                <a:rPr b="0" lang="es-MX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ing</a:t>
              </a:r>
              <a:r>
                <a:rPr b="0" lang="en-US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 natural cap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8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Produc</a:t>
              </a:r>
              <a:r>
                <a:rPr b="0" lang="es-MX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ing</a:t>
              </a:r>
              <a:r>
                <a:rPr b="0" lang="en-US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prosperity</a:t>
              </a:r>
              <a:r>
                <a:rPr b="0" lang="en-US" sz="1800" spc="-1" strike="noStrike">
                  <a:solidFill>
                    <a:srgbClr val="000000"/>
                  </a:solidFill>
                  <a:latin typeface="Univers LT Std 57 Cn"/>
                  <a:ea typeface="Lucida Sans Unicode"/>
                </a:rPr>
                <a:t> in innnovation econom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86400" y="261144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86400" y="466884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586400" y="29448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586400" y="32688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86400" y="3616200"/>
              <a:ext cx="152280" cy="152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86400" y="3968640"/>
              <a:ext cx="152280" cy="152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86400" y="43164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609480" y="2612880"/>
            <a:ext cx="3505320" cy="21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A 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  <a:ea typeface="Lucida Sans Unicode"/>
              </a:rPr>
              <a:t>protoyping environment creates the conditions </a:t>
            </a:r>
            <a:r>
              <a:rPr b="0" lang="es-MX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for vision, design, and partnership</a:t>
            </a:r>
            <a:r>
              <a:rPr b="0" lang="en-US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43400" y="2362320"/>
            <a:ext cx="1440" cy="3429000"/>
          </a:xfrm>
          <a:custGeom>
            <a:avLst/>
            <a:gdLst/>
            <a:ahLst/>
            <a:rect l="l" t="t" r="r" b="b"/>
            <a:pathLst>
              <a:path w="1" h="9526">
                <a:moveTo>
                  <a:pt x="0" y="0"/>
                </a:moveTo>
                <a:lnTo>
                  <a:pt x="0" y="9525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-76320" y="95400"/>
            <a:ext cx="1105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138480" y="95400"/>
            <a:ext cx="24717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200" spc="-1" strike="noStrike">
                <a:solidFill>
                  <a:srgbClr val="f7db09"/>
                </a:solidFill>
                <a:latin typeface="BankGothic Md BT"/>
                <a:ea typeface="Lucida Sans Unicode"/>
              </a:rPr>
              <a:t>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43800" y="90360"/>
            <a:ext cx="2576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Looking toward 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42800" y="31896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19120" y="409680"/>
            <a:ext cx="754380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986600" y="33336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462560" y="31896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6400800"/>
            <a:ext cx="914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" y="533520"/>
            <a:ext cx="134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8480" bIns="46800" anchor="t">
            <a:noAutofit/>
          </a:bodyPr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Ques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Challe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f7db09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7db09"/>
                </a:solidFill>
                <a:latin typeface="BankGothic Md BT"/>
                <a:ea typeface="Lucida Sans Unicode"/>
              </a:rPr>
              <a:t>Opport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19720" y="53352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8480" bIns="46800" anchor="t">
            <a:noAutofit/>
          </a:bodyPr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Innovation Organization´s R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Knowledge 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Partner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dur="indefinite" fill="hold">
                      <p:stCondLst>
                        <p:cond delay="0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 fill="hold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 fill="hold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 fill="hold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 fill="hold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-76320" y="95400"/>
            <a:ext cx="1105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0880" y="533520"/>
            <a:ext cx="134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8480" bIns="46800" anchor="t">
            <a:noAutofit/>
          </a:bodyPr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Ques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Challe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Opport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138480" y="95400"/>
            <a:ext cx="24717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200" spc="-1" strike="noStrike">
                <a:solidFill>
                  <a:srgbClr val="f7db09"/>
                </a:solidFill>
                <a:latin typeface="BankGothic Md BT"/>
                <a:ea typeface="Lucida Sans Unicode"/>
              </a:rPr>
              <a:t>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643800" y="90360"/>
            <a:ext cx="2576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Looking toward 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42800" y="31896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19120" y="409680"/>
            <a:ext cx="754380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986600" y="33336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462560" y="31896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6400800"/>
            <a:ext cx="914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33680" y="2057400"/>
            <a:ext cx="4076640" cy="3962520"/>
          </a:xfrm>
          <a:prstGeom prst="ellipse">
            <a:avLst/>
          </a:prstGeom>
          <a:noFill/>
          <a:ln cap="rnd" w="5724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619280" y="1447920"/>
            <a:ext cx="5670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c9900"/>
                </a:solidFill>
                <a:latin typeface="BankGothic Md BT"/>
                <a:ea typeface="Lucida Sans Unicode"/>
              </a:rPr>
              <a:t>An innovation organization´s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834920" y="2276640"/>
            <a:ext cx="60498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72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1925"/>
              </a:spcBef>
              <a:spcAft>
                <a:spcPts val="825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nkGothic Md BT"/>
              </a:rPr>
              <a:t>The future </a:t>
            </a:r>
            <a:r>
              <a:rPr b="0" lang="es-MX" sz="1600" spc="-1" strike="noStrike">
                <a:solidFill>
                  <a:srgbClr val="000000"/>
                </a:solidFill>
                <a:latin typeface="BankGothic Md B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ankGothic Md BT"/>
              </a:rPr>
              <a:t>belongs to those organiza</a:t>
            </a:r>
            <a:r>
              <a:rPr b="0" lang="es-MX" sz="1600" spc="-1" strike="noStrike">
                <a:solidFill>
                  <a:srgbClr val="000000"/>
                </a:solidFill>
                <a:latin typeface="BankGothic Md BT"/>
              </a:rPr>
              <a:t>tions and </a:t>
            </a:r>
            <a:r>
              <a:rPr b="0" lang="en-US" sz="1600" spc="-1" strike="noStrike">
                <a:solidFill>
                  <a:srgbClr val="000000"/>
                </a:solidFill>
                <a:latin typeface="BankGothic Md BT"/>
              </a:rPr>
              <a:t>regions that</a:t>
            </a:r>
            <a:r>
              <a:rPr b="0" lang="en-US" sz="2000" spc="-1" strike="noStrike">
                <a:solidFill>
                  <a:srgbClr val="000000"/>
                </a:solidFill>
                <a:latin typeface="BankGothic Md B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nkGothic Md BT"/>
              </a:rPr>
              <a:t>have strong innovation-based economies, </a:t>
            </a:r>
            <a:r>
              <a:rPr b="0" lang="en-US" sz="3200" spc="-1" strike="noStrike">
                <a:solidFill>
                  <a:srgbClr val="000000"/>
                </a:solidFill>
                <a:latin typeface="BankGothic Md BT"/>
              </a:rPr>
              <a:t>built on the success of</a:t>
            </a:r>
            <a:r>
              <a:rPr b="0" lang="es-MX" sz="3200" spc="-1" strike="noStrike">
                <a:solidFill>
                  <a:srgbClr val="000000"/>
                </a:solidFill>
                <a:latin typeface="BankGothic Md BT"/>
              </a:rPr>
              <a:t> its participation in experimental</a:t>
            </a:r>
            <a:r>
              <a:rPr b="0" lang="es-MX" sz="3600" spc="-1" strike="noStrike">
                <a:solidFill>
                  <a:srgbClr val="000000"/>
                </a:solidFill>
                <a:latin typeface="BankGothic Md BT"/>
              </a:rPr>
              <a:t>  social design to understand </a:t>
            </a:r>
            <a:r>
              <a:rPr b="0" lang="es-MX" sz="4400" spc="-1" strike="noStrike">
                <a:solidFill>
                  <a:srgbClr val="000000"/>
                </a:solidFill>
                <a:latin typeface="BankGothic Md BT"/>
              </a:rPr>
              <a:t>how to visualize, explore, and create prototyp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19720" y="53352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8480" bIns="46800" anchor="t">
            <a:noAutofit/>
          </a:bodyPr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f7db09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f7db09"/>
                </a:solidFill>
                <a:latin typeface="BankGothic Md BT"/>
                <a:ea typeface="Lucida Sans Unicode"/>
              </a:rPr>
              <a:t>Innovation Organization´s R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Knowledge 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Partner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0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116080" y="2133360"/>
            <a:ext cx="490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5040" bIns="46800" anchor="t">
            <a:normAutofit fontScale="94000"/>
          </a:bodyPr>
          <a:p>
            <a:pPr marL="322200" indent="0" algn="ctr">
              <a:lnSpc>
                <a:spcPct val="84000"/>
              </a:lnSpc>
              <a:spcBef>
                <a:spcPts val="1576"/>
              </a:spcBef>
              <a:spcAft>
                <a:spcPts val="675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A society set on creating</a:t>
            </a:r>
            <a:r>
              <a:rPr b="0" lang="en-US" sz="36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disorder of </a:t>
            </a:r>
            <a:r>
              <a:rPr b="0" lang="es-MX" sz="28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organizacional</a:t>
            </a:r>
            <a:r>
              <a:rPr b="0" lang="es-MX" sz="36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culture</a:t>
            </a:r>
            <a:r>
              <a:rPr b="0" lang="en-US" sz="32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 increases its</a:t>
            </a:r>
            <a:r>
              <a:rPr b="0" lang="en-US" sz="36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 autonomy by emerging</a:t>
            </a:r>
            <a:r>
              <a:rPr b="0" lang="en-US" sz="40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 innovation </a:t>
            </a:r>
            <a:r>
              <a:rPr b="0" lang="es-MX" sz="40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in a positive</a:t>
            </a:r>
            <a:r>
              <a:rPr b="0" lang="es-MX" sz="44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 and sustainable way</a:t>
            </a:r>
            <a:r>
              <a:rPr b="0" lang="en-US" sz="44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-76320" y="95400"/>
            <a:ext cx="1105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0880" y="533520"/>
            <a:ext cx="134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8480" bIns="46800" anchor="t">
            <a:noAutofit/>
          </a:bodyPr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Ques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Challe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Opport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43800" y="90360"/>
            <a:ext cx="2576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Looking toward 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2800" y="31896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9120" y="409680"/>
            <a:ext cx="754380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86600" y="33336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62560" y="31896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19720" y="53352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8480" bIns="46800" anchor="t">
            <a:noAutofit/>
          </a:bodyPr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ffcc00"/>
                </a:solidFill>
                <a:latin typeface="BankGothic Md BT"/>
                <a:ea typeface="Lucida Sans Unicode"/>
              </a:rPr>
              <a:t>Innovation Organization´s R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Knowledge 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Partner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6400800"/>
            <a:ext cx="914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33680" y="1981080"/>
            <a:ext cx="4076640" cy="3962520"/>
          </a:xfrm>
          <a:prstGeom prst="ellipse">
            <a:avLst/>
          </a:prstGeom>
          <a:noFill/>
          <a:ln cap="rnd" w="5724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19280" y="1447920"/>
            <a:ext cx="5670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c9900"/>
                </a:solidFill>
                <a:latin typeface="BankGothic Md BT"/>
                <a:ea typeface="Lucida Sans Unicode"/>
              </a:rPr>
              <a:t>An innovation organization´s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38480" y="95400"/>
            <a:ext cx="24717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200" spc="-1" strike="noStrike">
                <a:solidFill>
                  <a:srgbClr val="f7db09"/>
                </a:solidFill>
                <a:latin typeface="BankGothic Md BT"/>
                <a:ea typeface="Lucida Sans Unicode"/>
              </a:rPr>
              <a:t>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0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1447920" y="2363760"/>
            <a:ext cx="6324480" cy="38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0368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differentiates what makes an innovation</a:t>
            </a:r>
            <a:r>
              <a:rPr b="0" lang="es-MX" sz="18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community come to life, take responsibility and set its priorities for its learning in a richer and diversified environ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5000"/>
              </a:lnSpc>
              <a:spcBef>
                <a:spcPts val="2100"/>
              </a:spcBef>
              <a:spcAft>
                <a:spcPts val="9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Diverse </a:t>
            </a:r>
            <a:r>
              <a:rPr b="0" lang="en-US" sz="20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multi-talented </a:t>
            </a:r>
            <a:r>
              <a:rPr b="0" lang="es-MX" sz="20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learners across class,</a:t>
            </a:r>
            <a:r>
              <a:rPr b="0" lang="es-MX" sz="24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racial,</a:t>
            </a:r>
            <a:r>
              <a:rPr b="0" lang="es-MX" sz="24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 religious, political and georaphic </a:t>
            </a:r>
            <a:r>
              <a:rPr b="0" lang="en-US" sz="24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divisions may be given time to play </a:t>
            </a:r>
            <a:r>
              <a:rPr b="0" lang="es-MX" sz="28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which </a:t>
            </a:r>
            <a:r>
              <a:rPr b="0" lang="en-US" sz="28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can have an </a:t>
            </a:r>
            <a:r>
              <a:rPr b="0" lang="en-US" sz="36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impact </a:t>
            </a:r>
            <a:r>
              <a:rPr b="0" lang="es-MX" sz="36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on seeking creative</a:t>
            </a:r>
            <a:r>
              <a:rPr b="0" lang="es-MX" sz="28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BankGothic Md BT"/>
                <a:ea typeface="新細明體"/>
              </a:rPr>
              <a:t>solution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5000"/>
              </a:lnSpc>
              <a:spcBef>
                <a:spcPts val="2100"/>
              </a:spcBef>
              <a:spcAft>
                <a:spcPts val="9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-76320" y="95400"/>
            <a:ext cx="1105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0880" y="533520"/>
            <a:ext cx="134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8480" bIns="46800" anchor="t">
            <a:noAutofit/>
          </a:bodyPr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Ques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Challe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Opport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43800" y="90360"/>
            <a:ext cx="2576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Looking toward 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2800" y="31896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19120" y="409680"/>
            <a:ext cx="754380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86600" y="33336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62560" y="31896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419720" y="53352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8480" bIns="46800" anchor="t">
            <a:noAutofit/>
          </a:bodyPr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Innovation Organization´s R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f7db09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f7db09"/>
                </a:solidFill>
                <a:latin typeface="BankGothic Md BT"/>
                <a:ea typeface="Lucida Sans Unicode"/>
              </a:rPr>
              <a:t>Innovation Research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Partner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6400800"/>
            <a:ext cx="914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533680" y="1981080"/>
            <a:ext cx="4095720" cy="3962520"/>
          </a:xfrm>
          <a:prstGeom prst="ellipse">
            <a:avLst/>
          </a:prstGeom>
          <a:noFill/>
          <a:ln cap="rnd" w="5724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619280" y="1447920"/>
            <a:ext cx="5670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c9900"/>
                </a:solidFill>
                <a:latin typeface="BankGothic Md BT"/>
                <a:ea typeface="Lucida Sans Unicode"/>
              </a:rPr>
              <a:t>Innovation Research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138480" y="95400"/>
            <a:ext cx="24717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200" spc="-1" strike="noStrike">
                <a:solidFill>
                  <a:srgbClr val="f7db09"/>
                </a:solidFill>
                <a:latin typeface="BankGothic Md BT"/>
                <a:ea typeface="Lucida Sans Unicode"/>
              </a:rPr>
              <a:t>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dur="indefinite" fill="hold">
                      <p:stCondLst>
                        <p:cond delay="0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4495680" y="2997360"/>
            <a:ext cx="38102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1840" bIns="46800" anchor="t">
            <a:normAutofit fontScale="99000"/>
          </a:bodyPr>
          <a:p>
            <a:pPr marL="339480" indent="0">
              <a:lnSpc>
                <a:spcPct val="98000"/>
              </a:lnSpc>
              <a:spcAft>
                <a:spcPts val="2750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57 Cn"/>
                <a:ea typeface="新細明體"/>
              </a:rPr>
              <a:t>Bridging </a:t>
            </a:r>
            <a:r>
              <a:rPr b="0" lang="es-MX" sz="2000" spc="-1" strike="noStrike">
                <a:solidFill>
                  <a:srgbClr val="000000"/>
                </a:solidFill>
                <a:latin typeface="Univers LT Std 57 Cn"/>
                <a:ea typeface="新細明體"/>
              </a:rPr>
              <a:t>partnerships</a:t>
            </a:r>
            <a:r>
              <a:rPr b="0" lang="en-US" sz="2000" spc="-1" strike="noStrike">
                <a:solidFill>
                  <a:srgbClr val="000000"/>
                </a:solidFill>
                <a:latin typeface="Univers LT Std 57 Cn"/>
                <a:ea typeface="新細明體"/>
              </a:rPr>
              <a:t> with </a:t>
            </a:r>
            <a:r>
              <a:rPr b="0" lang="es-MX" sz="2000" spc="-1" strike="noStrike">
                <a:solidFill>
                  <a:srgbClr val="000000"/>
                </a:solidFill>
                <a:latin typeface="Univers LT Std 57 Cn"/>
                <a:ea typeface="新細明體"/>
              </a:rPr>
              <a:t>community people</a:t>
            </a:r>
            <a:r>
              <a:rPr b="0" lang="en-US" sz="2000" spc="-1" strike="noStrike">
                <a:solidFill>
                  <a:srgbClr val="000000"/>
                </a:solidFill>
                <a:latin typeface="Univers LT Std 57 Cn"/>
                <a:ea typeface="新細明體"/>
              </a:rPr>
              <a:t> interacti</a:t>
            </a:r>
            <a:r>
              <a:rPr b="0" lang="es-MX" sz="2000" spc="-1" strike="noStrike">
                <a:solidFill>
                  <a:srgbClr val="000000"/>
                </a:solidFill>
                <a:latin typeface="Univers LT Std 57 Cn"/>
                <a:ea typeface="新細明體"/>
              </a:rPr>
              <a:t>ng in a</a:t>
            </a:r>
            <a:r>
              <a:rPr b="0" lang="en-US" sz="2000" spc="-1" strike="noStrike">
                <a:solidFill>
                  <a:srgbClr val="000000"/>
                </a:solidFill>
                <a:latin typeface="Univers LT Std 57 Cn"/>
                <a:ea typeface="新細明體"/>
              </a:rPr>
              <a:t> social science </a:t>
            </a:r>
            <a:r>
              <a:rPr b="0" lang="es-MX" sz="2000" spc="-1" strike="noStrike">
                <a:solidFill>
                  <a:srgbClr val="000000"/>
                </a:solidFill>
                <a:latin typeface="Univers LT Std 57 Cn"/>
                <a:ea typeface="新細明體"/>
              </a:rPr>
              <a:t>lab supported by transformation practioners </a:t>
            </a:r>
            <a:r>
              <a:rPr b="0" lang="en-US" sz="2000" spc="-1" strike="noStrike">
                <a:solidFill>
                  <a:srgbClr val="000000"/>
                </a:solidFill>
                <a:latin typeface="Univers LT Std 57 Cn"/>
                <a:ea typeface="新細明體"/>
              </a:rPr>
              <a:t>is a best pract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4000" y="2409840"/>
            <a:ext cx="3714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noAutofit/>
          </a:bodyPr>
          <a:p>
            <a:pPr algn="r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Univers LT Std 57 Cn"/>
                <a:ea typeface="新細明體"/>
              </a:rPr>
              <a:t>By mapping</a:t>
            </a:r>
            <a:r>
              <a:rPr b="0" lang="es-MX" sz="2800" spc="-1" strike="noStrike">
                <a:solidFill>
                  <a:srgbClr val="cc9900"/>
                </a:solidFill>
                <a:latin typeface="Univers LT Std 57 Cn"/>
                <a:ea typeface="新細明體"/>
              </a:rPr>
              <a:t> experimental partnerships </a:t>
            </a:r>
            <a:r>
              <a:rPr b="0" lang="en-US" sz="2800" spc="-1" strike="noStrike">
                <a:solidFill>
                  <a:srgbClr val="cc9900"/>
                </a:solidFill>
                <a:latin typeface="Univers LT Std 57 Cn"/>
                <a:ea typeface="新細明體"/>
              </a:rPr>
              <a:t>we can facilitate timely and challenging issues in </a:t>
            </a:r>
            <a:r>
              <a:rPr b="0" lang="es-MX" sz="2800" spc="-1" strike="noStrike">
                <a:solidFill>
                  <a:srgbClr val="cc9900"/>
                </a:solidFill>
                <a:latin typeface="Univers LT Std 57 Cn"/>
                <a:ea typeface="新細明體"/>
              </a:rPr>
              <a:t>individual and </a:t>
            </a:r>
            <a:r>
              <a:rPr b="0" lang="en-US" sz="2800" spc="-1" strike="noStrike">
                <a:solidFill>
                  <a:srgbClr val="cc9900"/>
                </a:solidFill>
                <a:latin typeface="Univers LT Std 57 Cn"/>
                <a:ea typeface="新細明體"/>
              </a:rPr>
              <a:t>cultural trans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267080" y="2209680"/>
            <a:ext cx="180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6400800"/>
            <a:ext cx="914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533520"/>
            <a:ext cx="134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8480" bIns="46800" anchor="t">
            <a:noAutofit/>
          </a:bodyPr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Ques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Challe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Opport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43800" y="90360"/>
            <a:ext cx="2576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Looking toward 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2800" y="31896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19120" y="409680"/>
            <a:ext cx="754380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86600" y="33336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462560" y="31896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419720" y="533520"/>
            <a:ext cx="220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8480" bIns="46800" anchor="t">
            <a:noAutofit/>
          </a:bodyPr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Innovation Organization´s R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Innovation Research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f7db09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f7db09"/>
                </a:solidFill>
                <a:latin typeface="BankGothic Md BT"/>
                <a:ea typeface="Lucida Sans Unicode"/>
              </a:rPr>
              <a:t>Partner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4496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133720" y="1371600"/>
            <a:ext cx="48006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-76320" y="76320"/>
            <a:ext cx="1105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138480" y="95400"/>
            <a:ext cx="24717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200" spc="-1" strike="noStrike">
                <a:solidFill>
                  <a:srgbClr val="f7db09"/>
                </a:solidFill>
                <a:latin typeface="BankGothic Md BT"/>
                <a:ea typeface="Lucida Sans Unicode"/>
              </a:rPr>
              <a:t>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dur="indefinite" fill="hold">
                      <p:stCondLst>
                        <p:cond delay="0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2205000"/>
            <a:ext cx="4114800" cy="26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spAutoFit/>
          </a:bodyPr>
          <a:p>
            <a:pPr algn="r"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InnovaLab</a:t>
            </a:r>
            <a:r>
              <a:rPr b="0" lang="en-US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 </a:t>
            </a:r>
            <a:r>
              <a:rPr b="0" lang="es-MX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creates a unique experience  supporting  individual and  </a:t>
            </a:r>
            <a:r>
              <a:rPr b="0" lang="en-US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transformation</a:t>
            </a:r>
            <a:r>
              <a:rPr b="0" lang="es-MX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 in the innovation  economy</a:t>
            </a:r>
            <a:r>
              <a:rPr b="0" lang="en-US" sz="2800" spc="-1" strike="noStrike">
                <a:solidFill>
                  <a:srgbClr val="cc9900"/>
                </a:solidFill>
                <a:latin typeface="Univers LT Std 57 Cn"/>
                <a:ea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800600" y="1650960"/>
            <a:ext cx="434340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920" bIns="46800" anchor="t">
            <a:spAutoFit/>
          </a:bodyPr>
          <a:p>
            <a:pPr>
              <a:lnSpc>
                <a:spcPct val="98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7 Cn"/>
                <a:ea typeface="Lucida Sans Unicode"/>
              </a:rPr>
              <a:t>Becoming a catalyst </a:t>
            </a:r>
            <a:r>
              <a:rPr b="0" lang="es-MX" sz="2400" spc="-1" strike="noStrike">
                <a:solidFill>
                  <a:srgbClr val="000000"/>
                </a:solidFill>
                <a:latin typeface="Univers LT Std 57 Cn"/>
                <a:ea typeface="Lucida Sans Unicode"/>
              </a:rPr>
              <a:t> for new soci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Univers LT Std 57 Cn"/>
                <a:ea typeface="Lucida Sans Unicode"/>
              </a:rPr>
              <a:t>Reaching a higher fidelity quality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eliverable: community innovation team and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reating a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igh rate of return on investment and con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ransforming mindset influencial in a broade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terrelating the self, family, team, organization, culture and hum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419720" y="1971720"/>
            <a:ext cx="1440" cy="3429000"/>
          </a:xfrm>
          <a:custGeom>
            <a:avLst/>
            <a:gdLst/>
            <a:ahLst/>
            <a:rect l="l" t="t" r="r" b="b"/>
            <a:pathLst>
              <a:path w="1" h="9526">
                <a:moveTo>
                  <a:pt x="0" y="0"/>
                </a:moveTo>
                <a:lnTo>
                  <a:pt x="0" y="9525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648320" y="3573360"/>
            <a:ext cx="152280" cy="152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648320" y="4267080"/>
            <a:ext cx="152280" cy="152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648320" y="4941720"/>
            <a:ext cx="152280" cy="152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38080" y="1371600"/>
            <a:ext cx="48006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Looking Toward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-76320" y="95400"/>
            <a:ext cx="1105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80880" y="533520"/>
            <a:ext cx="134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8480" bIns="46800" anchor="t">
            <a:noAutofit/>
          </a:bodyPr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Ques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Challe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Opport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643800" y="90360"/>
            <a:ext cx="2576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BankGothic Md BT"/>
                <a:ea typeface="Lucida Sans Unicode"/>
              </a:rPr>
              <a:t>Looking toward 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42800" y="31896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19120" y="409680"/>
            <a:ext cx="754380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986600" y="33336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62560" y="31896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6400800"/>
            <a:ext cx="914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2852640"/>
            <a:ext cx="152280" cy="152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648320" y="2484360"/>
            <a:ext cx="152280" cy="152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1752480"/>
            <a:ext cx="152280" cy="152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138480" y="95400"/>
            <a:ext cx="24717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19720" y="53352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8480" bIns="46800" anchor="t">
            <a:noAutofit/>
          </a:bodyPr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Innovation Organization´s R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Innovation Research Design</a:t>
            </a:r>
            <a:r>
              <a:rPr b="0" lang="es-MX" sz="1000" spc="-1" strike="noStrike">
                <a:solidFill>
                  <a:srgbClr val="f7db09"/>
                </a:solidFill>
                <a:latin typeface="BankGothic Md BT"/>
                <a:ea typeface="Lucida Sans Unicod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Partner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fill="hold">
                      <p:stCondLst>
                        <p:cond delay="0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4572000" y="2057400"/>
            <a:ext cx="3809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1840" bIns="46800" anchor="t">
            <a:noAutofit/>
          </a:bodyPr>
          <a:p>
            <a:pPr>
              <a:lnSpc>
                <a:spcPct val="98000"/>
              </a:lnSpc>
              <a:spcAft>
                <a:spcPts val="27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57 Cn"/>
                <a:ea typeface="新細明體"/>
              </a:rPr>
              <a:t>Through millennia community learning has guided civilizations and has been manifested in</a:t>
            </a:r>
            <a:r>
              <a:rPr b="0" lang="es-MX" sz="2000" spc="-1" strike="noStrike">
                <a:solidFill>
                  <a:srgbClr val="000000"/>
                </a:solidFill>
                <a:latin typeface="Univers LT Std 57 Cn"/>
                <a:ea typeface="新細明體"/>
              </a:rPr>
              <a:t> its prototypes through art, science and techn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spcAft>
                <a:spcPts val="27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Univers LT Std 57 Cn"/>
                <a:ea typeface="新細明體"/>
              </a:rPr>
              <a:t>In Pais Vasco the strength and wisdom of  innovation development is built on its reflective aptitude as a complex and adaptive sociocultural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2338560"/>
            <a:ext cx="39625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noAutofit/>
          </a:bodyPr>
          <a:p>
            <a:pPr algn="r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Univers LT Std 57 Cn"/>
                <a:ea typeface="新細明體"/>
              </a:rPr>
              <a:t>By applying transdisciplinary tools</a:t>
            </a:r>
            <a:r>
              <a:rPr b="0" lang="es-MX" sz="2800" spc="-1" strike="noStrike">
                <a:solidFill>
                  <a:srgbClr val="cc9900"/>
                </a:solidFill>
                <a:latin typeface="Univers LT Std 57 C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cc9900"/>
                </a:solidFill>
                <a:latin typeface="Univers LT Std 57 Cn"/>
                <a:ea typeface="新細明體"/>
              </a:rPr>
              <a:t>we better understand the reciprocal relationships </a:t>
            </a:r>
            <a:r>
              <a:rPr b="0" lang="es-MX" sz="2800" spc="-1" strike="noStrike">
                <a:solidFill>
                  <a:srgbClr val="cc9900"/>
                </a:solidFill>
                <a:latin typeface="Univers LT Std 57 Cn"/>
                <a:ea typeface="新細明體"/>
              </a:rPr>
              <a:t>between stakeholders and their ideal futures</a:t>
            </a:r>
            <a:r>
              <a:rPr b="0" lang="en-US" sz="2800" spc="-1" strike="noStrike">
                <a:solidFill>
                  <a:srgbClr val="cc9900"/>
                </a:solidFill>
                <a:latin typeface="Univers LT Std 57 C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267080" y="1981080"/>
            <a:ext cx="180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6400800"/>
            <a:ext cx="914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-76320" y="95400"/>
            <a:ext cx="1105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533520"/>
            <a:ext cx="134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8480" bIns="46800" anchor="t">
            <a:noAutofit/>
          </a:bodyPr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Ques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Challe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Opport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643800" y="90360"/>
            <a:ext cx="2576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BankGothic Md BT"/>
                <a:ea typeface="Lucida Sans Unicode"/>
              </a:rPr>
              <a:t>Looking toward 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42800" y="31896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19120" y="409680"/>
            <a:ext cx="754380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986600" y="33336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462560" y="31896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419720" y="2209680"/>
            <a:ext cx="152280" cy="152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419720" y="406872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33720" y="1371600"/>
            <a:ext cx="48006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Looking Toward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38480" y="95400"/>
            <a:ext cx="24717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600" bIns="46800" anchor="t">
            <a:no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419720" y="53352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8480" bIns="46800" anchor="t">
            <a:noAutofit/>
          </a:bodyPr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Innovation Organization´s R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Innovation Research Design</a:t>
            </a:r>
            <a:r>
              <a:rPr b="0" lang="es-MX" sz="1000" spc="-1" strike="noStrike">
                <a:solidFill>
                  <a:srgbClr val="f7db09"/>
                </a:solidFill>
                <a:latin typeface="BankGothic Md BT"/>
                <a:ea typeface="Lucida Sans Unicod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BankGothic Md BT"/>
                <a:ea typeface="Lucida Sans Unicode"/>
              </a:rPr>
              <a:t>Partner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0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5943600" y="1447920"/>
            <a:ext cx="3200400" cy="4647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0" y="152280"/>
          <a:ext cx="3200400" cy="59421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594216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0" y="6095880"/>
          <a:ext cx="9144000" cy="7621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0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0" y="0"/>
          <a:ext cx="9144000" cy="14479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44792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3200400" y="1447920"/>
          <a:ext cx="2819520" cy="464796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464796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530" name=""/>
          <p:cNvSpPr/>
          <p:nvPr/>
        </p:nvSpPr>
        <p:spPr>
          <a:xfrm>
            <a:off x="228600" y="1295280"/>
            <a:ext cx="2819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024760" y="6688080"/>
            <a:ext cx="2570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4572000"/>
            <a:ext cx="7391520" cy="144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880" y="403848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6095880"/>
            <a:ext cx="3200400" cy="180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019920" y="3809880"/>
            <a:ext cx="31240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00400" y="6095880"/>
            <a:ext cx="3200400" cy="180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43600" y="6095880"/>
            <a:ext cx="3200400" cy="180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90720" y="762120"/>
            <a:ext cx="6858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 as humans creating ourselves need inspiration, collaboration, communication, sublimation, meaning, construction, intuition, learning, creativity, design, space, time, actualization, and emotional characteristics to contribute to our commun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6320" y="6324480"/>
            <a:ext cx="449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88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InnovaLab´s signific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0880" y="4753080"/>
            <a:ext cx="668808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ross-functional teams and distributed leadership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gnificant driver for these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848720" y="3886200"/>
            <a:ext cx="1371600" cy="144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5943600" y="1447920"/>
            <a:ext cx="3200400" cy="4647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0" y="152280"/>
          <a:ext cx="3200400" cy="59421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594216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0" y="6095880"/>
          <a:ext cx="9144000" cy="7621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0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5" name=""/>
          <p:cNvGraphicFramePr/>
          <p:nvPr/>
        </p:nvGraphicFramePr>
        <p:xfrm>
          <a:off x="0" y="0"/>
          <a:ext cx="9144000" cy="14479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44792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3200400" y="1447920"/>
          <a:ext cx="2819520" cy="464796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464796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547" name=""/>
          <p:cNvSpPr/>
          <p:nvPr/>
        </p:nvSpPr>
        <p:spPr>
          <a:xfrm>
            <a:off x="228600" y="1295280"/>
            <a:ext cx="2819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024760" y="6688080"/>
            <a:ext cx="2570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403848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6095880"/>
            <a:ext cx="3200400" cy="180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019920" y="3809880"/>
            <a:ext cx="31240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00400" y="6095880"/>
            <a:ext cx="3200400" cy="180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943600" y="6095880"/>
            <a:ext cx="3200400" cy="180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15228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400" bIns="4680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novaLab builds its trust, momentum and capacity to increase innovation through a timely experi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crease social creativity and innovation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ross-functional teams engagement in new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6320" y="6324480"/>
            <a:ext cx="3429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88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Outlook - New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4419720"/>
            <a:ext cx="7696080" cy="1440"/>
          </a:xfrm>
          <a:prstGeom prst="line">
            <a:avLst/>
          </a:prstGeom>
          <a:ln w="3816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429000" y="5029200"/>
            <a:ext cx="5791320" cy="1440"/>
          </a:xfrm>
          <a:prstGeom prst="line">
            <a:avLst/>
          </a:prstGeom>
          <a:ln w="5724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5715000"/>
            <a:ext cx="8381880" cy="144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1752480"/>
            <a:ext cx="5486400" cy="1800"/>
          </a:xfrm>
          <a:prstGeom prst="line">
            <a:avLst/>
          </a:prstGeom>
          <a:ln w="324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505320" y="2438280"/>
            <a:ext cx="5715000" cy="1800"/>
          </a:xfrm>
          <a:prstGeom prst="line">
            <a:avLst/>
          </a:prstGeom>
          <a:ln w="1260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3048120"/>
            <a:ext cx="7315200" cy="1440"/>
          </a:xfrm>
          <a:prstGeom prst="line">
            <a:avLst/>
          </a:prstGeom>
          <a:ln w="1908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514600" y="3733920"/>
            <a:ext cx="6705720" cy="1440"/>
          </a:xfrm>
          <a:prstGeom prst="line">
            <a:avLst/>
          </a:prstGeom>
          <a:ln w="2844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5943600" y="1447920"/>
            <a:ext cx="3200400" cy="4647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0" y="152280"/>
          <a:ext cx="3200400" cy="59421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594216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0" y="6095880"/>
          <a:ext cx="9144000" cy="7621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0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0" y="0"/>
          <a:ext cx="9144000" cy="14479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44792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3200400" y="1447920"/>
          <a:ext cx="2819520" cy="464796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464796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568" name=""/>
          <p:cNvSpPr/>
          <p:nvPr/>
        </p:nvSpPr>
        <p:spPr>
          <a:xfrm>
            <a:off x="228600" y="1295280"/>
            <a:ext cx="2819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024760" y="6688080"/>
            <a:ext cx="2570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0880" y="403848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6095880"/>
            <a:ext cx="3200400" cy="180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019920" y="3809880"/>
            <a:ext cx="31240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200400" y="6095880"/>
            <a:ext cx="3200400" cy="180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943600" y="6095880"/>
            <a:ext cx="3200400" cy="180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15228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400" bIns="4680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novaLab builds its trust, momentum and capacity to increase innovation through a timely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crease social creativity and innovation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ross-functional teams engagement in new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Building new executive, management, and operations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emonstrating innovation values, significance and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320" y="6324480"/>
            <a:ext cx="5562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88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Outlook -  Cultural and organizational 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4419720"/>
            <a:ext cx="7696080" cy="1440"/>
          </a:xfrm>
          <a:prstGeom prst="line">
            <a:avLst/>
          </a:prstGeom>
          <a:ln w="3816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429000" y="5029200"/>
            <a:ext cx="5791320" cy="1440"/>
          </a:xfrm>
          <a:prstGeom prst="line">
            <a:avLst/>
          </a:prstGeom>
          <a:ln w="5724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5715000"/>
            <a:ext cx="8381880" cy="144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1752480"/>
            <a:ext cx="5486400" cy="1800"/>
          </a:xfrm>
          <a:prstGeom prst="line">
            <a:avLst/>
          </a:prstGeom>
          <a:ln w="324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505320" y="2438280"/>
            <a:ext cx="5715000" cy="1800"/>
          </a:xfrm>
          <a:prstGeom prst="line">
            <a:avLst/>
          </a:prstGeom>
          <a:ln w="1260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048120"/>
            <a:ext cx="7315200" cy="1440"/>
          </a:xfrm>
          <a:prstGeom prst="line">
            <a:avLst/>
          </a:prstGeom>
          <a:ln w="1908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514600" y="3733920"/>
            <a:ext cx="6705720" cy="1440"/>
          </a:xfrm>
          <a:prstGeom prst="line">
            <a:avLst/>
          </a:prstGeom>
          <a:ln w="2844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313520" y="3349800"/>
            <a:ext cx="1413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66960" y="3349800"/>
            <a:ext cx="2895480" cy="7596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19240" y="3425760"/>
            <a:ext cx="2895840" cy="763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47840" y="3502080"/>
            <a:ext cx="2819520" cy="76320"/>
          </a:xfrm>
          <a:prstGeom prst="rect">
            <a:avLst/>
          </a:prstGeom>
          <a:solidFill>
            <a:srgbClr val="ba0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57880" y="3578400"/>
            <a:ext cx="4106520" cy="282240"/>
          </a:xfrm>
          <a:prstGeom prst="rect">
            <a:avLst/>
          </a:prstGeom>
          <a:solidFill>
            <a:srgbClr val="e5e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33840" y="3349800"/>
            <a:ext cx="2362320" cy="7596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33840" y="2637000"/>
            <a:ext cx="3165480" cy="78876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6480" y="3425760"/>
            <a:ext cx="2361960" cy="76320"/>
          </a:xfrm>
          <a:prstGeom prst="rect">
            <a:avLst/>
          </a:prstGeom>
          <a:solidFill>
            <a:srgbClr val="da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38760" y="3141720"/>
            <a:ext cx="2644560" cy="43668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43280" y="3578400"/>
            <a:ext cx="3092400" cy="714240"/>
          </a:xfrm>
          <a:prstGeom prst="rect">
            <a:avLst/>
          </a:prstGeom>
          <a:solidFill>
            <a:srgbClr val="417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2781360"/>
            <a:ext cx="3695760" cy="56844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33840" y="3273480"/>
            <a:ext cx="2743200" cy="7632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3578400"/>
            <a:ext cx="685800" cy="7452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81960" y="3578400"/>
            <a:ext cx="685800" cy="745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50160" y="3578400"/>
            <a:ext cx="533520" cy="7776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77040" y="3502080"/>
            <a:ext cx="685800" cy="7452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81960" y="3502080"/>
            <a:ext cx="766800" cy="50328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0600" y="2708280"/>
            <a:ext cx="669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Emergent Path of Inno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1766880" y="3517920"/>
            <a:ext cx="2819520" cy="76320"/>
          </a:xfrm>
          <a:prstGeom prst="rect">
            <a:avLst/>
          </a:prstGeom>
          <a:solidFill>
            <a:srgbClr val="e5e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690560" y="3289320"/>
            <a:ext cx="2361960" cy="763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147600" y="3289320"/>
            <a:ext cx="2590920" cy="7632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538280" y="3365640"/>
            <a:ext cx="2362320" cy="75960"/>
          </a:xfrm>
          <a:prstGeom prst="rect">
            <a:avLst/>
          </a:prstGeom>
          <a:solidFill>
            <a:srgbClr val="da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922320" y="3441600"/>
            <a:ext cx="2362320" cy="763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1690560" y="3213000"/>
            <a:ext cx="2743200" cy="7632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63680" y="3517920"/>
            <a:ext cx="685800" cy="7452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0880" y="3517920"/>
            <a:ext cx="533520" cy="7776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15960" y="3441600"/>
            <a:ext cx="685800" cy="7488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0880" y="3441600"/>
            <a:ext cx="457200" cy="7488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83320" y="3289320"/>
            <a:ext cx="2895840" cy="7632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004240" y="3365640"/>
            <a:ext cx="2895480" cy="7596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32840" y="3441600"/>
            <a:ext cx="2819160" cy="76320"/>
          </a:xfrm>
          <a:prstGeom prst="rect">
            <a:avLst/>
          </a:prstGeom>
          <a:solidFill>
            <a:srgbClr val="ba0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27920" y="3517920"/>
            <a:ext cx="2971800" cy="76320"/>
          </a:xfrm>
          <a:prstGeom prst="rect">
            <a:avLst/>
          </a:prstGeom>
          <a:solidFill>
            <a:srgbClr val="417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04240" y="3213000"/>
            <a:ext cx="2895480" cy="7632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646080" y="3517920"/>
            <a:ext cx="685800" cy="7452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103280" y="3517920"/>
            <a:ext cx="685800" cy="745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103280" y="3517920"/>
            <a:ext cx="533520" cy="7776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798360" y="3441600"/>
            <a:ext cx="685800" cy="7488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103280" y="3441600"/>
            <a:ext cx="457200" cy="7488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5943600" y="1447920"/>
            <a:ext cx="3200400" cy="4647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0" y="152280"/>
          <a:ext cx="3200400" cy="59421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594216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0" y="6095880"/>
          <a:ext cx="9144000" cy="7621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0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0" y="0"/>
          <a:ext cx="9144000" cy="14479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44792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3200400" y="1447920"/>
          <a:ext cx="2819520" cy="464796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464796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589" name=""/>
          <p:cNvSpPr/>
          <p:nvPr/>
        </p:nvSpPr>
        <p:spPr>
          <a:xfrm>
            <a:off x="228600" y="1295280"/>
            <a:ext cx="2819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024760" y="6688080"/>
            <a:ext cx="2570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0880" y="403848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6095880"/>
            <a:ext cx="3200400" cy="180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019920" y="3809880"/>
            <a:ext cx="31240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200400" y="6095880"/>
            <a:ext cx="3200400" cy="180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43600" y="6095880"/>
            <a:ext cx="3200400" cy="180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9480" y="15228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920" bIns="4680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novaLab builds its trust, momentum and capacity to increase innovation through a timely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crease social creativity and innovation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ross-functional teams engagement in new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Building new executive, management, and operations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emonstrating innovation values, significance and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elevance of action in societal, environmental and economic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ransforming the culture of business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nlarged conscious, literacy, competency and practice in business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6320" y="6324480"/>
            <a:ext cx="4267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88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Outlook – Deliverables and re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4419720"/>
            <a:ext cx="7696080" cy="1440"/>
          </a:xfrm>
          <a:prstGeom prst="line">
            <a:avLst/>
          </a:prstGeom>
          <a:ln w="3816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5029200"/>
            <a:ext cx="5791320" cy="1440"/>
          </a:xfrm>
          <a:prstGeom prst="line">
            <a:avLst/>
          </a:prstGeom>
          <a:ln w="5724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5715000"/>
            <a:ext cx="8381880" cy="1440"/>
          </a:xfrm>
          <a:prstGeom prst="line">
            <a:avLst/>
          </a:prstGeom>
          <a:ln w="7632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1752480"/>
            <a:ext cx="5486400" cy="1800"/>
          </a:xfrm>
          <a:prstGeom prst="line">
            <a:avLst/>
          </a:prstGeom>
          <a:ln w="324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505320" y="2438280"/>
            <a:ext cx="5715000" cy="1800"/>
          </a:xfrm>
          <a:prstGeom prst="line">
            <a:avLst/>
          </a:prstGeom>
          <a:ln w="1260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048120"/>
            <a:ext cx="7315200" cy="1440"/>
          </a:xfrm>
          <a:prstGeom prst="line">
            <a:avLst/>
          </a:prstGeom>
          <a:ln w="1908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514600" y="3733920"/>
            <a:ext cx="6705720" cy="1440"/>
          </a:xfrm>
          <a:prstGeom prst="line">
            <a:avLst/>
          </a:prstGeom>
          <a:ln w="28440">
            <a:solidFill>
              <a:srgbClr val="e8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0"/>
            <a:ext cx="4859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38862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832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nnovating strategi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416640" y="549360"/>
            <a:ext cx="204624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Movíl +34  68 573 12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Innob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Poligono Kareag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3ª Planta, 25+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48903 Barakaldo, Bizka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Tel: +34 94 371 9191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Fax: +34  94 379 3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902160" y="5516640"/>
            <a:ext cx="262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36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ifferent ways of knowing innovatio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2286000" cy="13143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3492360" y="4292640"/>
            <a:ext cx="2664000" cy="11732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4"/>
          <a:stretch/>
        </p:blipFill>
        <p:spPr>
          <a:xfrm>
            <a:off x="6732720" y="5589720"/>
            <a:ext cx="122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280" y="1341360"/>
            <a:ext cx="874872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To realize 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굴림"/>
              </a:rPr>
              <a:t>individual's and society'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굴림"/>
              </a:rPr>
              <a:t>highest potential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굴림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325080" cy="70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628640"/>
            <a:ext cx="871380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we must immersiv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굴림"/>
              </a:rPr>
              <a:t>in a prototyping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굴림"/>
              </a:rPr>
              <a:t>experienc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99200" y="380880"/>
            <a:ext cx="1413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80880"/>
            <a:ext cx="2895840" cy="7632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457200"/>
            <a:ext cx="2895480" cy="763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533520"/>
            <a:ext cx="2819160" cy="75960"/>
          </a:xfrm>
          <a:prstGeom prst="rect">
            <a:avLst/>
          </a:prstGeom>
          <a:solidFill>
            <a:srgbClr val="ba0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609480"/>
            <a:ext cx="2819520" cy="76320"/>
          </a:xfrm>
          <a:prstGeom prst="rect">
            <a:avLst/>
          </a:prstGeom>
          <a:solidFill>
            <a:srgbClr val="e5e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380880"/>
            <a:ext cx="2361960" cy="763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380880"/>
            <a:ext cx="2590560" cy="7632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457200"/>
            <a:ext cx="2362320" cy="76320"/>
          </a:xfrm>
          <a:prstGeom prst="rect">
            <a:avLst/>
          </a:prstGeom>
          <a:solidFill>
            <a:srgbClr val="da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533520"/>
            <a:ext cx="2362320" cy="7596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09480"/>
            <a:ext cx="2971800" cy="76320"/>
          </a:xfrm>
          <a:prstGeom prst="rect">
            <a:avLst/>
          </a:prstGeom>
          <a:solidFill>
            <a:srgbClr val="417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04920"/>
            <a:ext cx="2895480" cy="7596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304920"/>
            <a:ext cx="2743200" cy="7596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609480"/>
            <a:ext cx="685800" cy="7488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609480"/>
            <a:ext cx="685800" cy="7488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609480"/>
            <a:ext cx="533520" cy="7776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533520"/>
            <a:ext cx="685800" cy="7452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533520"/>
            <a:ext cx="457200" cy="7452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19280" y="2708280"/>
            <a:ext cx="619272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New ways of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굴림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knowi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44640" y="318960"/>
            <a:ext cx="39844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Emergent Path of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39636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1484280"/>
            <a:ext cx="2895840" cy="7632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149720"/>
            <a:ext cx="2895480" cy="763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520" y="3646440"/>
            <a:ext cx="2819520" cy="76320"/>
          </a:xfrm>
          <a:prstGeom prst="rect">
            <a:avLst/>
          </a:prstGeom>
          <a:solidFill>
            <a:srgbClr val="ba0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4724280"/>
            <a:ext cx="2819520" cy="76320"/>
          </a:xfrm>
          <a:prstGeom prst="rect">
            <a:avLst/>
          </a:prstGeom>
          <a:solidFill>
            <a:srgbClr val="e5e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30520" y="3494160"/>
            <a:ext cx="2362320" cy="7596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2133720"/>
            <a:ext cx="2590920" cy="7596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5300640"/>
            <a:ext cx="2362320" cy="76320"/>
          </a:xfrm>
          <a:prstGeom prst="rect">
            <a:avLst/>
          </a:prstGeom>
          <a:solidFill>
            <a:srgbClr val="da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5734080"/>
            <a:ext cx="2362320" cy="763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950080"/>
            <a:ext cx="2971800" cy="75960"/>
          </a:xfrm>
          <a:prstGeom prst="rect">
            <a:avLst/>
          </a:prstGeom>
          <a:solidFill>
            <a:srgbClr val="417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2895480" cy="7632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1640" y="2924280"/>
            <a:ext cx="2743200" cy="7596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1844640"/>
            <a:ext cx="685800" cy="7452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78640" y="3722760"/>
            <a:ext cx="685800" cy="745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51640" y="4653000"/>
            <a:ext cx="533160" cy="7776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73720" y="3646440"/>
            <a:ext cx="685800" cy="7452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71640" y="1916280"/>
            <a:ext cx="457200" cy="7452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1341360"/>
            <a:ext cx="2895480" cy="7632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6000" y="4292640"/>
            <a:ext cx="2895480" cy="763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32360" y="5229360"/>
            <a:ext cx="2819520" cy="75960"/>
          </a:xfrm>
          <a:prstGeom prst="rect">
            <a:avLst/>
          </a:prstGeom>
          <a:solidFill>
            <a:srgbClr val="ba0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44000" y="4149720"/>
            <a:ext cx="2819160" cy="76320"/>
          </a:xfrm>
          <a:prstGeom prst="rect">
            <a:avLst/>
          </a:prstGeom>
          <a:solidFill>
            <a:srgbClr val="e5e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26440" y="3494160"/>
            <a:ext cx="2362320" cy="7596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236000" y="765000"/>
            <a:ext cx="2590560" cy="7632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459640" y="4653000"/>
            <a:ext cx="2362320" cy="76320"/>
          </a:xfrm>
          <a:prstGeom prst="rect">
            <a:avLst/>
          </a:prstGeom>
          <a:solidFill>
            <a:srgbClr val="da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31360" y="3646440"/>
            <a:ext cx="2361960" cy="763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24360" y="3860640"/>
            <a:ext cx="2971800" cy="76320"/>
          </a:xfrm>
          <a:prstGeom prst="rect">
            <a:avLst/>
          </a:prstGeom>
          <a:solidFill>
            <a:srgbClr val="417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6000" y="3213000"/>
            <a:ext cx="2895480" cy="7632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28000" y="1916280"/>
            <a:ext cx="2743200" cy="7596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801280" y="6165720"/>
            <a:ext cx="685800" cy="7488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48360" y="6237360"/>
            <a:ext cx="685800" cy="745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17080" y="2421000"/>
            <a:ext cx="533160" cy="7776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88000" y="1844640"/>
            <a:ext cx="685800" cy="7452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76720" y="981000"/>
            <a:ext cx="457200" cy="7452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99200" y="380880"/>
            <a:ext cx="1413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380880"/>
            <a:ext cx="2895840" cy="7632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457200"/>
            <a:ext cx="2895480" cy="763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533520"/>
            <a:ext cx="2819160" cy="75960"/>
          </a:xfrm>
          <a:prstGeom prst="rect">
            <a:avLst/>
          </a:prstGeom>
          <a:solidFill>
            <a:srgbClr val="ba0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609480"/>
            <a:ext cx="2819520" cy="76320"/>
          </a:xfrm>
          <a:prstGeom prst="rect">
            <a:avLst/>
          </a:prstGeom>
          <a:solidFill>
            <a:srgbClr val="e5e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380880"/>
            <a:ext cx="2361960" cy="763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19520" y="380880"/>
            <a:ext cx="2590560" cy="7632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57200"/>
            <a:ext cx="2362320" cy="76320"/>
          </a:xfrm>
          <a:prstGeom prst="rect">
            <a:avLst/>
          </a:prstGeom>
          <a:solidFill>
            <a:srgbClr val="da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533520"/>
            <a:ext cx="2362320" cy="7596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609480"/>
            <a:ext cx="2971800" cy="76320"/>
          </a:xfrm>
          <a:prstGeom prst="rect">
            <a:avLst/>
          </a:prstGeom>
          <a:solidFill>
            <a:srgbClr val="417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304920"/>
            <a:ext cx="2895480" cy="7596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304920"/>
            <a:ext cx="2743200" cy="7596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609480"/>
            <a:ext cx="685800" cy="7488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609480"/>
            <a:ext cx="685800" cy="7488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609480"/>
            <a:ext cx="533520" cy="7776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533520"/>
            <a:ext cx="685800" cy="7452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533520"/>
            <a:ext cx="457200" cy="7452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2708280"/>
            <a:ext cx="763272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Conditions for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굴림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discoveri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4640" y="318960"/>
            <a:ext cx="39844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Emergent Path of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-36360" y="0"/>
            <a:ext cx="9432720" cy="7174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49840" y="3494160"/>
            <a:ext cx="1413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3800" y="3284640"/>
            <a:ext cx="2895840" cy="7596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181080" y="2997360"/>
            <a:ext cx="2895840" cy="7596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6560" y="3141720"/>
            <a:ext cx="2819520" cy="76320"/>
          </a:xfrm>
          <a:prstGeom prst="rect">
            <a:avLst/>
          </a:prstGeom>
          <a:solidFill>
            <a:srgbClr val="ba0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82920" y="3716280"/>
            <a:ext cx="2819160" cy="76320"/>
          </a:xfrm>
          <a:prstGeom prst="rect">
            <a:avLst/>
          </a:prstGeom>
          <a:solidFill>
            <a:srgbClr val="e5e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47640" y="3500280"/>
            <a:ext cx="2362320" cy="763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87280" y="3429000"/>
            <a:ext cx="2590920" cy="7632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2560" y="3068640"/>
            <a:ext cx="2362320" cy="76320"/>
          </a:xfrm>
          <a:prstGeom prst="rect">
            <a:avLst/>
          </a:prstGeom>
          <a:solidFill>
            <a:srgbClr val="da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3568680"/>
            <a:ext cx="2361960" cy="763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6560" y="3645000"/>
            <a:ext cx="2971800" cy="75960"/>
          </a:xfrm>
          <a:prstGeom prst="rect">
            <a:avLst/>
          </a:prstGeom>
          <a:solidFill>
            <a:srgbClr val="417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03280" y="2852640"/>
            <a:ext cx="2895840" cy="7632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47640" y="2924280"/>
            <a:ext cx="2743200" cy="7596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61080" y="3722760"/>
            <a:ext cx="685800" cy="7452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18280" y="3722760"/>
            <a:ext cx="685800" cy="745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18280" y="3722760"/>
            <a:ext cx="533160" cy="7776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2360" y="3646440"/>
            <a:ext cx="685800" cy="7452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18280" y="3646440"/>
            <a:ext cx="457200" cy="7452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29240" y="3068640"/>
            <a:ext cx="2895840" cy="7632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53240" y="3284640"/>
            <a:ext cx="2895480" cy="7596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80080" y="3646440"/>
            <a:ext cx="2819520" cy="76320"/>
          </a:xfrm>
          <a:prstGeom prst="rect">
            <a:avLst/>
          </a:prstGeom>
          <a:solidFill>
            <a:srgbClr val="ba0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80000" y="3357720"/>
            <a:ext cx="2819520" cy="75960"/>
          </a:xfrm>
          <a:prstGeom prst="rect">
            <a:avLst/>
          </a:prstGeom>
          <a:solidFill>
            <a:srgbClr val="e5e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70040" y="3645000"/>
            <a:ext cx="2362320" cy="7596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00720" y="3141720"/>
            <a:ext cx="2590920" cy="7632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42040" y="3213000"/>
            <a:ext cx="2362320" cy="76320"/>
          </a:xfrm>
          <a:prstGeom prst="rect">
            <a:avLst/>
          </a:prstGeom>
          <a:solidFill>
            <a:srgbClr val="da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16360" y="2847960"/>
            <a:ext cx="2362320" cy="763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3789360"/>
            <a:ext cx="2971800" cy="76320"/>
          </a:xfrm>
          <a:prstGeom prst="rect">
            <a:avLst/>
          </a:prstGeom>
          <a:solidFill>
            <a:srgbClr val="417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48520" y="2997360"/>
            <a:ext cx="2895480" cy="7596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08440" y="2924280"/>
            <a:ext cx="2743200" cy="7596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3429000"/>
            <a:ext cx="685800" cy="7452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80000" y="3789360"/>
            <a:ext cx="685800" cy="745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35640" y="3500280"/>
            <a:ext cx="533520" cy="7812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5280" y="3573360"/>
            <a:ext cx="685800" cy="74880"/>
          </a:xfrm>
          <a:prstGeom prst="rect">
            <a:avLst/>
          </a:prstGeom>
          <a:solidFill>
            <a:srgbClr val="56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12000" y="3716280"/>
            <a:ext cx="457200" cy="7452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73480" y="2562120"/>
            <a:ext cx="685800" cy="7488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80000" y="2565360"/>
            <a:ext cx="533160" cy="7776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67280" y="2490840"/>
            <a:ext cx="457200" cy="7452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2776680"/>
            <a:ext cx="2819520" cy="75960"/>
          </a:xfrm>
          <a:prstGeom prst="rect">
            <a:avLst/>
          </a:prstGeom>
          <a:solidFill>
            <a:srgbClr val="ba0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19640" y="2706840"/>
            <a:ext cx="685800" cy="74520"/>
          </a:xfrm>
          <a:prstGeom prst="rect">
            <a:avLst/>
          </a:prstGeom>
          <a:solidFill>
            <a:srgbClr val="953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74920" y="2633760"/>
            <a:ext cx="685800" cy="74520"/>
          </a:xfrm>
          <a:prstGeom prst="rect">
            <a:avLst/>
          </a:prstGeom>
          <a:solidFill>
            <a:srgbClr val="b83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16360" y="2630520"/>
            <a:ext cx="533520" cy="77760"/>
          </a:xfrm>
          <a:prstGeom prst="rect">
            <a:avLst/>
          </a:prstGeom>
          <a:solidFill>
            <a:srgbClr val="ed7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16360" y="2706840"/>
            <a:ext cx="457200" cy="74520"/>
          </a:xfrm>
          <a:prstGeom prst="rect">
            <a:avLst/>
          </a:prstGeom>
          <a:solidFill>
            <a:srgbClr val="1b4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09:23:19Z</dcterms:created>
  <dc:creator>Administrador</dc:creator>
  <dc:description/>
  <dc:language>en-US</dc:language>
  <cp:lastModifiedBy>greg rivera</cp:lastModifiedBy>
  <dcterms:modified xsi:type="dcterms:W3CDTF">2009-05-27T07:16:05Z</dcterms:modified>
  <cp:revision>69</cp:revision>
  <dc:subject/>
  <dc:title>Diapositiva 1</dc:title>
</cp:coreProperties>
</file>