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05D-1887-4B8F-BDF6-2D8620E8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0C5-39E2-46EC-86CF-0086A06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4F0-6C42-4E96-99BF-AD23ED8A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DBC-E2B1-43BF-AB46-5C387C80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9B4-7893-47AA-95A4-ED5E3255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2D8-0E34-48DF-93E8-78812B6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899-B475-4839-B7F9-0E5D591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E3C-C206-426A-B03B-C0E0D940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CBC-FB30-4779-8688-5CCE2D4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371-2549-46C3-8418-5E28BAE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FFE-D2A1-496D-B7E6-4BDF81A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8F0-45CD-435B-8547-EAA252A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165B-E805-44CD-905F-D3079840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narendrakarmarkar@yahoo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Narendra Karmar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572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atory for Computational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endrakarmark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magnetically bias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lf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assembl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have to solve a global optimization problem very different from tradi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optimization theory deal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” problems                       essentially unique global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 optimization problems,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minim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e in many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In n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In engineer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lead to number of inter-related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Optimal 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ng Optim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e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specification of desired global minima in terms of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hape of energy landscape around the mini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design a system with appropriate energy fun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further constra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ture of “direct” and “inverse” problems in the same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olve the synthesis problem to create Energy Landscape With Multiple Global Minima  based on insights derived from our advanc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ior point theory of global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304920"/>
            <a:ext cx="74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magnetically biased self-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868680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tep is to cre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magnetic b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voring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ould like to be  self - assem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this, we have designed  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Electromagnetic Cavity Machi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evious applications to microwave devices, lasers, or particle accelerators walls of electromagnetic cavities were ju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ive refl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in our design, cavity walls are lined with arrays of electrodes used for path length mod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physical mechanism used for modulation such 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piezoelectric effect 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s with energy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Optimization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control signals to be appli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cavity wall electr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wiggler shape in case source is a free electron 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30492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magnetic Cavity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925560"/>
            <a:ext cx="832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as operation of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er tweez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rap and move atoms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ood in term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potential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global minim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of Electromagnetic Cavity Machine can be underst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y of global optimization with multiple global mi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dary Valu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-D boundary values applied to the cavity walls uniquely determine the effective 3-D  optical potential in cavity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3-D potential  controls evolution of multiple global optima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-time to deposit atoms trapped in those minima into desired structu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chine for manufactu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assembled customized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ostructures can be explained as a perfectly co-ordinat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of millions of laser tweez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360" y="8748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y  and  Stabilit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3808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random perturbation deviating from symmetry increases energ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ing the structure back towards restoring symm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ymmetry has self-stabilising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the electromagnetic field leading to the structure is withdraw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remains ( upto some finite temper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role of the electromagnetic field is to provide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ly created  path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wards th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914400"/>
            <a:ext cx="8169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approach can significantly enlarge the class of structures that can be assem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cludes some symmetric structures with powerful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information/ papers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links on wikipedia page about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rendrakarmarkar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eneral description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of California Institute of Technology or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0492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862164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ards Fabrication of nano-scale and finer 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no-scale devices demonstrated in Labs  b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unlike CMOS, no method of assembling them on large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substrate in reliable, reproducible w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Dow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cal lithography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actice,  resolution limited by diffraction eff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k-less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beam, FIB   –   accurate but low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erence litho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simple periodic patterns at nano-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-Up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assemb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ast, high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some structures self-assemble in nature, but not the structures we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make more general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mplex, sparse patter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2320" y="5335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 of Global Optimiz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143000"/>
            <a:ext cx="7848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approa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nsights derived from our advance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 point theory of global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ituations having multiple global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le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--       minimum energy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tion in Na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solves optimization problems all the ti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 of n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ity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energy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Symmetr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 configurations often have high degree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es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naturally occurring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– Crystal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 Translational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495680" y="1676520"/>
            <a:ext cx="3733920" cy="1828800"/>
            <a:chOff x="4495680" y="1676520"/>
            <a:chExt cx="3733920" cy="1828800"/>
          </a:xfrm>
        </p:grpSpPr>
        <p:grpSp>
          <p:nvGrpSpPr>
            <p:cNvPr id="51" name=""/>
            <p:cNvGrpSpPr/>
            <p:nvPr/>
          </p:nvGrpSpPr>
          <p:grpSpPr>
            <a:xfrm>
              <a:off x="4495680" y="2590920"/>
              <a:ext cx="3191040" cy="914400"/>
              <a:chOff x="4495680" y="2590920"/>
              <a:chExt cx="3191040" cy="914400"/>
            </a:xfrm>
          </p:grpSpPr>
          <p:sp>
            <p:nvSpPr>
              <p:cNvPr id="52" name=""/>
              <p:cNvSpPr/>
              <p:nvPr/>
            </p:nvSpPr>
            <p:spPr>
              <a:xfrm>
                <a:off x="4495680" y="25909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62720" y="25909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9400" y="25909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029200" y="1676520"/>
              <a:ext cx="3191040" cy="914400"/>
              <a:chOff x="5029200" y="1676520"/>
              <a:chExt cx="3191040" cy="91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029200" y="16765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6240" y="16765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62920" y="167652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562720" y="16765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69608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38080" y="4038480"/>
            <a:ext cx="7010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4708440"/>
          <a:ext cx="3962520" cy="21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08440"/>
                    <a:ext cx="39625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696080" y="1676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8229600" y="1676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80988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energy function governing electron motion is periodic in 3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translatio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structure form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space can be partitioned exactly in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gner-Sei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s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of electrons in the resulting structure can be analyzed theore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 of semiconductors based on such analy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 preceded invention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simple translational symmetry existing in nature has led to many useful electronic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go beyond naturally occurring structures by artificially crea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es designed with 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oose symmetries gover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perfect pattern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powerful     abstract  concept for parallel comp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 Artificially Created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-216000"/>
            <a:ext cx="8229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095880" cy="551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59120" y="990720"/>
            <a:ext cx="3661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ructure is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projective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 of electron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with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es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d theoretica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as crystals with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lational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 theoret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al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method of organi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6858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85760"/>
            <a:ext cx="7696080" cy="667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79800" y="2286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7 point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36680"/>
            <a:ext cx="7238880" cy="631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23320" y="5076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1 point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41360" y="239760"/>
            <a:ext cx="82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ficially Created Symmetric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040" y="1382760"/>
            <a:ext cx="855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ic Crystals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y Group 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structure,  occures in n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                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ly cre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approach is to go one step beyon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y Group :  custom desiged for 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                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ly cre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based on automorphisms of pro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y allows us to overcome major lim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MOS for parallel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xploiting parallelism inherent in Quantum Mechanics for communication , while doing logic in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antum computing proposes to use it for logic, in fu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3:56:57Z</dcterms:created>
  <dc:creator>Karmakar</dc:creator>
  <dc:description/>
  <dc:language>en-US</dc:language>
  <cp:lastModifiedBy>Karmakar</cp:lastModifiedBy>
  <dcterms:modified xsi:type="dcterms:W3CDTF">2009-08-20T03:04:36Z</dcterms:modified>
  <cp:revision>172</cp:revision>
  <dc:subject/>
  <dc:title>A New Approach to   Design of Massively Parallel Systems</dc:title>
</cp:coreProperties>
</file>