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05650" cy="10242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6400" cy="102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552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992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000" y="4863960"/>
            <a:ext cx="5684760" cy="4608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726120"/>
            <a:ext cx="3079800" cy="513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5520" y="9726120"/>
            <a:ext cx="3079800" cy="513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E210-3ED3-421D-BE22-6ABE1F9635B5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9920" cy="384012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11000" y="4863960"/>
            <a:ext cx="56847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スライド番号プレースホルダ 3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3AF4-CDCD-425A-A188-3B94FD203802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BA9-3C6D-476E-95ED-BE5AF344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3DA-9168-4EF4-85F3-FD3A449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161-4915-43E4-93F0-001ADAE7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385-E0DD-4B1C-8A36-BDCF7B35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913-3EBD-4675-B859-4FCDEA3F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4C0-F1DD-4460-9BC2-BE327844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6A0-32C1-4F2C-A443-838C7202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972-1A14-44D4-92D0-74864896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746-AF4A-4227-B0A8-B5726283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CEE-9A5D-4F48-8ED2-D10A4C1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9EA-28D3-4784-9974-4D6815A2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77D-A426-42D3-8DAF-2ECEE08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2E6-0A31-4DCA-8CC5-E2A2E900B5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Hiroya Tanaka, Dr (E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2f2f2"/>
                </a:solidFill>
                <a:latin typeface="Calibri"/>
              </a:rPr>
              <a:t>htanaka@sfc.keio.ac.j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Associate Professo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aculty of Environment and Information  Studi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Keio- University,  J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(X-Design Progr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Architectural Design, Interaction Design, 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I got one-year sabbatical  (from 2010.04 to 2011.0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to set up a new fablab in Japan, so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3:48:42Z</dcterms:created>
  <dc:creator>htanaka</dc:creator>
  <dc:description/>
  <dc:language>en-US</dc:language>
  <cp:lastModifiedBy>htanaka</cp:lastModifiedBy>
  <dcterms:modified xsi:type="dcterms:W3CDTF">2009-08-19T04:27:01Z</dcterms:modified>
  <cp:revision>6</cp:revision>
  <dc:subject/>
  <dc:title>スライド 1</dc:title>
</cp:coreProperties>
</file>