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80800" y="696960"/>
            <a:ext cx="46400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599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B7E44-F4F7-46CD-8A21-40B5D537187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1160" y="696960"/>
            <a:ext cx="464328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8116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08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D5B-D660-4709-A2DE-73397EE7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2C7-AAB9-41C1-9D8B-F275B1F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F17-C402-499F-ABAA-5C4F8A97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2BE-3B7D-4FA9-A313-8DA212D7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FFBA-9A4A-4F81-B577-7F71D064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2034-7360-45CC-A067-DCDE749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9999-1C82-4E50-9359-92777EC8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5A57-6222-4731-BC4E-A9DE5F2A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3B78-1782-444E-8F04-0DC7D9E8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33200"/>
            <a:ext cx="82216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7CF8-3614-423B-A1D7-A6D36DE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2BE5-0B6B-4E84-A0F3-EFEC372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83D-837C-4216-BAC1-2F51F7E8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2414-7903-42B9-A5F8-F5DFB84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4F9-17A0-4DA3-A866-5EC007F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51BD-A934-410B-B71B-C0D5B25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7F8B-DA57-4B46-9EB9-C15CC176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F598-F5A9-4F13-BD48-BF36B7EA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73A-C1B9-4DC9-B0FD-D422BA1A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CE6-B42E-41BA-84F2-A9C87BAF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8D2-FC62-4E4B-8E1F-BFE28D58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33200"/>
            <a:ext cx="82216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1DF-1538-4286-99FD-DD083341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5A1-0116-496F-8FBF-42088529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2D0-170C-45B4-A53B-D33415A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D8A-E178-4692-B7D4-CC8682E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4760"/>
            <a:chOff x="0" y="0"/>
            <a:chExt cx="9142560" cy="68547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39320" cy="51944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2800" cy="51465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48240"/>
              <a:ext cx="640872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08720" y="5676840"/>
              <a:ext cx="2730600" cy="10332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3360"/>
              <a:ext cx="7593120" cy="5223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3120" y="5875200"/>
              <a:ext cx="1546200" cy="16056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3440" y="6054840"/>
              <a:ext cx="33958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2520"/>
              <a:ext cx="5745240" cy="5522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66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0560" y="614052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3360" y="5000760"/>
              <a:ext cx="115596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33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3360" y="4838760"/>
              <a:ext cx="1155960" cy="50472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2600"/>
              <a:ext cx="79833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3360" cy="432432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6320" y="4287960"/>
              <a:ext cx="513000" cy="47448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3280" y="4106880"/>
              <a:ext cx="446040" cy="53172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4120" y="0"/>
              <a:ext cx="4951440" cy="424980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29800" y="402120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38840" y="0"/>
              <a:ext cx="3990960" cy="402120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5720" y="0"/>
              <a:ext cx="348912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5760" y="3925800"/>
              <a:ext cx="133560" cy="1526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3080" y="1349280"/>
              <a:ext cx="2462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576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8520" y="0"/>
              <a:ext cx="54108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3920" y="1036800"/>
              <a:ext cx="9540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296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2840" y="5527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4600"/>
              <a:ext cx="91296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1800"/>
              <a:ext cx="9129600" cy="65736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18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0400" y="0"/>
              <a:ext cx="3862440" cy="41482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69040" y="0"/>
              <a:ext cx="286380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22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0200" y="0"/>
              <a:ext cx="1682640" cy="30718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56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37520" cy="2946240"/>
              <a:chOff x="0" y="2590920"/>
              <a:chExt cx="9137520" cy="294624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4440" cy="20826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6280" y="4433760"/>
                <a:ext cx="33512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1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E8E44-AAC8-430F-A0B4-0C0D4AD1DEF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4760"/>
            <a:chOff x="0" y="0"/>
            <a:chExt cx="9142560" cy="68547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39320" cy="51944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2800" cy="51465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48240"/>
              <a:ext cx="640872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8720" y="5676840"/>
              <a:ext cx="2730600" cy="10332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3360"/>
              <a:ext cx="7593120" cy="5223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3120" y="5875200"/>
              <a:ext cx="1546200" cy="16056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3440" y="6054840"/>
              <a:ext cx="33958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2520"/>
              <a:ext cx="5745240" cy="5522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66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0560" y="614052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3360" y="5000760"/>
              <a:ext cx="115596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33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3360" y="4838760"/>
              <a:ext cx="1155960" cy="50472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2600"/>
              <a:ext cx="79833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3360" cy="432432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6320" y="4287960"/>
              <a:ext cx="513000" cy="47448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3280" y="4106880"/>
              <a:ext cx="446040" cy="53172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4120" y="0"/>
              <a:ext cx="4951440" cy="424980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29800" y="402120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38840" y="0"/>
              <a:ext cx="3990960" cy="402120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5720" y="0"/>
              <a:ext cx="348912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5760" y="3925800"/>
              <a:ext cx="133560" cy="1526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3080" y="1349280"/>
              <a:ext cx="2462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576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8520" y="0"/>
              <a:ext cx="54108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3920" y="1036800"/>
              <a:ext cx="9540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296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2840" y="5527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4600"/>
              <a:ext cx="91296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1800"/>
              <a:ext cx="9129600" cy="65736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18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0400" y="0"/>
              <a:ext cx="3862440" cy="41482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69040" y="0"/>
              <a:ext cx="286380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22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0200" y="0"/>
              <a:ext cx="1682640" cy="30718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56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37520" cy="2946240"/>
              <a:chOff x="0" y="2590920"/>
              <a:chExt cx="9137520" cy="29462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4440" cy="20826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6280" y="4433760"/>
                <a:ext cx="33512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16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D6066-3AA8-4337-912F-97E35C0D5F3C}" type="slidenum">
              <a:rPr b="0" lang="en-GB" sz="12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9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hyperlink" Target="http://www.sevenyaks.etsy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24993720" y="-4343400"/>
            <a:ext cx="10055520" cy="285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1297080" y="861840"/>
          <a:ext cx="6629400" cy="18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7080" y="861840"/>
                    <a:ext cx="6629400" cy="18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09480" y="1665360"/>
            <a:ext cx="8077320" cy="5192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-49320"/>
            <a:ext cx="914400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osting the MIT Mobile Fab Lab</a:t>
            </a:r>
            <a:br>
              <a:rPr sz="40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ly at the Great Lakes Scien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Powered by Wind Turbine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16002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ergy Conver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totype electrolyzer to produce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705480" cy="4052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844880" y="5410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totype of Nikola Tesla based blade-less turbine steam power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3536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Nickel, copper, and bronze etching using vinyl as a ma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80880" y="1731960"/>
            <a:ext cx="845820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ewter Ca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90720" y="16002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" Thanks again, the Fab Lab has changed my life!  I have so many more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eas and not enough hours in the day to design and make all that I want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do.  I am seriously addicted“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Lynne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3505320" cy="2389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ck Block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343400" y="4800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2819520" cy="2766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2743200" y="2286000"/>
            <a:ext cx="3352680" cy="2058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95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edle Gau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5"/>
          </p:cNvPr>
          <p:cNvSpPr/>
          <p:nvPr/>
        </p:nvSpPr>
        <p:spPr>
          <a:xfrm>
            <a:off x="4879440" y="624852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sevenyaks.etsy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ab Lab based Busine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06720" y="3527280"/>
            <a:ext cx="2556000" cy="3407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24648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1766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581280" y="685800"/>
            <a:ext cx="2971800" cy="2090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1828800"/>
            <a:ext cx="23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ell culture Appar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2514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erilizable Test Strip Holder made of del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cking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6629400" y="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5562720" y="3549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781680" y="2286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per L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080" y="6324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tary laser cut e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ibbage board with wood in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lorainccc.edu/f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467480" y="3048120"/>
            <a:ext cx="1447920" cy="609480"/>
          </a:xfrm>
          <a:prstGeom prst="wedgeRectCallout">
            <a:avLst>
              <a:gd name="adj1" fmla="val -35212"/>
              <a:gd name="adj2" fmla="val -103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ston SETC, Massachuset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1371600"/>
            <a:ext cx="2057400" cy="685800"/>
          </a:xfrm>
          <a:prstGeom prst="wedgeRectCallout">
            <a:avLst>
              <a:gd name="adj1" fmla="val -14819"/>
              <a:gd name="adj2" fmla="val 20770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rain County Community College, Oh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447920"/>
            <a:ext cx="2057400" cy="457200"/>
          </a:xfrm>
          <a:prstGeom prst="wedgeRectCallout">
            <a:avLst>
              <a:gd name="adj1" fmla="val 50078"/>
              <a:gd name="adj2" fmla="val 227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x Valley Technical College, Wiscon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3276720"/>
            <a:ext cx="1676520" cy="457200"/>
          </a:xfrm>
          <a:prstGeom prst="wedgeRectCallout">
            <a:avLst>
              <a:gd name="adj1" fmla="val 66574"/>
              <a:gd name="adj2" fmla="val -174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ury College, Minnes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4343400"/>
            <a:ext cx="1752480" cy="685800"/>
          </a:xfrm>
          <a:prstGeom prst="wedgeRectCallout">
            <a:avLst>
              <a:gd name="adj1" fmla="val 35208"/>
              <a:gd name="adj2" fmla="val -222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icago Museum of Science &amp; Indus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5181480"/>
            <a:ext cx="2133720" cy="533520"/>
          </a:xfrm>
          <a:prstGeom prst="wedgeRectCallout">
            <a:avLst>
              <a:gd name="adj1" fmla="val 30347"/>
              <a:gd name="adj2" fmla="val -207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 on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 Diego, Califor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495680"/>
            <a:ext cx="1447560" cy="762120"/>
          </a:xfrm>
          <a:prstGeom prst="wedgeRectCallout">
            <a:avLst>
              <a:gd name="adj1" fmla="val -122370"/>
              <a:gd name="adj2" fmla="val -228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t Cleveland MC2STEM High School, Oh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novation of the new LCCC Fab Lab is almost compl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967040"/>
            <a:ext cx="8229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4800">
              <a:lnSpc>
                <a:spcPct val="98000"/>
              </a:lnSpc>
              <a:spcBef>
                <a:spcPts val="799"/>
              </a:spcBef>
              <a:buSzPct val="102820"/>
              <a:buBlip>
                <a:blip r:embed="rId1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our times the size of our original Fab La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8000"/>
              </a:lnSpc>
              <a:spcBef>
                <a:spcPts val="799"/>
              </a:spcBef>
              <a:buSzPct val="102820"/>
              <a:buBlip>
                <a:blip r:embed="rId2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erges a smart classroom with a Fab La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8000"/>
              </a:lnSpc>
              <a:spcBef>
                <a:spcPts val="799"/>
              </a:spcBef>
              <a:buSzPct val="102820"/>
              <a:buBlip>
                <a:blip r:embed="rId3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24 compu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2820"/>
              <a:buBlip>
                <a:blip r:embed="rId4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wo Epilog Las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2820"/>
              <a:buBlip>
                <a:blip r:embed="rId5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wo Vinyl cut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2820"/>
              <a:buBlip>
                <a:blip r:embed="rId6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odela Mill, Shopbot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2820"/>
              <a:buBlip>
                <a:blip r:embed="rId7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extEngine 3D scan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2820"/>
              <a:buBlip>
                <a:blip r:embed="rId8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ension 3D pri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2820"/>
              <a:buBlip>
                <a:blip r:embed="rId9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ide format printer for vinyl, cardboard, and canv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76320"/>
            <a:ext cx="9372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aching and Conference Ar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846000"/>
            <a:ext cx="914400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7000"/>
              </a:lnSpc>
              <a:spcBef>
                <a:spcPts val="799"/>
              </a:spcBef>
              <a:buSzPct val="114192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ouch screen controlled cameras above equi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8000"/>
              </a:lnSpc>
              <a:spcBef>
                <a:spcPts val="799"/>
              </a:spcBef>
              <a:buSzPct val="114192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wo Independent projectors (e.g. one for software, one for live video of machine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14192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ull video remote classroom cap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ctronics Fabrication Ar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1420920"/>
            <a:ext cx="8458200" cy="54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40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Work Areas</a:t>
            </a:r>
            <a:br>
              <a:rPr sz="44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(Note: work benches not installed yet)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27200"/>
            <a:ext cx="830592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ssy and Noisy Equipment is Separated by Glass 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9800" y="1599840"/>
            <a:ext cx="4421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8000"/>
              </a:lnSpc>
              <a:spcBef>
                <a:spcPts val="799"/>
              </a:spcBef>
              <a:buSzPct val="123461"/>
              <a:buBlip>
                <a:blip r:embed="rId1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p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odworking Equi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600200" y="25146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40320" y="1143000"/>
            <a:ext cx="4952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480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ll-size 4-axis CNC m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ll-size CNC turning cen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LCCC Fab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277640"/>
            <a:ext cx="82310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SzPct val="121313"/>
              <a:buBlip>
                <a:blip r:embed="rId1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 to public about 35 hours per week including days, evenings, and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SzPct val="121313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ffer credit and non-credit Fab Lab cou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SzPct val="121313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tilized for projects for a variety of courses across cam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SzPct val="121313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 very popular hands-on workshops for local schools and community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400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urrently Studying the Effectiveness of Fab Lab based STEM Training</a:t>
            </a:r>
            <a:br>
              <a:rPr sz="36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cience, Technology, Engineering, Math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41632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CCC Early College Grant – Pilot study of using Fab Lab activities to improve  10th grade math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mobile Fab Lab based activities to teach STEM related concepts to almost 400 Middle School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