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40" name="" descr=""/>
          <p:cNvPicPr/>
          <p:nvPr/>
        </p:nvPicPr>
        <p:blipFill>
          <a:blip r:embed="rId3"/>
          <a:stretch/>
        </p:blipFill>
        <p:spPr>
          <a:xfrm>
            <a:off x="10147320" y="203040"/>
            <a:ext cx="269244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rotospace.nl/" TargetMode="External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/>
          </p:nvPr>
        </p:nvSpPr>
        <p:spPr>
          <a:xfrm>
            <a:off x="1269720" y="3987360"/>
            <a:ext cx="10464840" cy="428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Fab5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Pune, India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Siert Wijnia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2"/>
          <a:stretch/>
        </p:blipFill>
        <p:spPr>
          <a:xfrm>
            <a:off x="3521160" y="457200"/>
            <a:ext cx="5067360" cy="883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The Lab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2"/>
          <a:stretch/>
        </p:blipFill>
        <p:spPr>
          <a:xfrm>
            <a:off x="2108160" y="2324160"/>
            <a:ext cx="8788320" cy="659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Extension of the lab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2"/>
          <a:stretch/>
        </p:blipFill>
        <p:spPr>
          <a:xfrm>
            <a:off x="762120" y="2933640"/>
            <a:ext cx="7635600" cy="572760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3"/>
          <a:stretch/>
        </p:blipFill>
        <p:spPr>
          <a:xfrm>
            <a:off x="9334440" y="4280040"/>
            <a:ext cx="2286000" cy="304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294920" y="-355680"/>
            <a:ext cx="10464840" cy="243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FabMoments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2"/>
          <a:stretch/>
        </p:blipFill>
        <p:spPr>
          <a:xfrm>
            <a:off x="139680" y="1549440"/>
            <a:ext cx="3175200" cy="422892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3"/>
          <a:stretch/>
        </p:blipFill>
        <p:spPr>
          <a:xfrm>
            <a:off x="3467160" y="1587600"/>
            <a:ext cx="3174840" cy="238752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4"/>
          <a:stretch/>
        </p:blipFill>
        <p:spPr>
          <a:xfrm>
            <a:off x="6743880" y="1587600"/>
            <a:ext cx="3174840" cy="238752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5"/>
          <a:stretch/>
        </p:blipFill>
        <p:spPr>
          <a:xfrm>
            <a:off x="10032840" y="1701720"/>
            <a:ext cx="2795760" cy="215892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6"/>
          <a:stretch/>
        </p:blipFill>
        <p:spPr>
          <a:xfrm>
            <a:off x="139680" y="6032520"/>
            <a:ext cx="3175200" cy="237492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7"/>
          <a:stretch/>
        </p:blipFill>
        <p:spPr>
          <a:xfrm>
            <a:off x="6743880" y="4102200"/>
            <a:ext cx="3174840" cy="327636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8"/>
          <a:stretch/>
        </p:blipFill>
        <p:spPr>
          <a:xfrm>
            <a:off x="3467160" y="4102200"/>
            <a:ext cx="3174840" cy="454644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9"/>
          <a:stretch/>
        </p:blipFill>
        <p:spPr>
          <a:xfrm>
            <a:off x="9982080" y="4137120"/>
            <a:ext cx="2857680" cy="31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FabMoments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2"/>
          <a:stretch/>
        </p:blipFill>
        <p:spPr>
          <a:xfrm>
            <a:off x="1727280" y="2355840"/>
            <a:ext cx="9532800" cy="617220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3"/>
          <a:stretch/>
        </p:blipFill>
        <p:spPr>
          <a:xfrm>
            <a:off x="6045120" y="3594240"/>
            <a:ext cx="4940280" cy="369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Projects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2"/>
          <a:stretch/>
        </p:blipFill>
        <p:spPr>
          <a:xfrm>
            <a:off x="304920" y="2585880"/>
            <a:ext cx="5778360" cy="433548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3"/>
          <a:stretch/>
        </p:blipFill>
        <p:spPr>
          <a:xfrm>
            <a:off x="4826160" y="723888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4"/>
          <a:stretch/>
        </p:blipFill>
        <p:spPr>
          <a:xfrm>
            <a:off x="6594480" y="2577960"/>
            <a:ext cx="5808600" cy="4356360"/>
          </a:xfrm>
          <a:prstGeom prst="rect">
            <a:avLst/>
          </a:prstGeom>
          <a:ln w="0">
            <a:noFill/>
          </a:ln>
        </p:spPr>
      </p:pic>
      <p:sp>
        <p:nvSpPr>
          <p:cNvPr id="549" name=""/>
          <p:cNvSpPr/>
          <p:nvPr/>
        </p:nvSpPr>
        <p:spPr>
          <a:xfrm>
            <a:off x="-2857680" y="6807240"/>
            <a:ext cx="104648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  <a:ea typeface="Gill Sans"/>
              </a:rPr>
              <a:t>RepRap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Projects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ELL Creative Extended Learning Lab</a:t>
            </a:r>
            <a:br>
              <a:rPr sz="4200"/>
            </a:b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Project together with Utrecht College for Engineering and Desig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Our goal Fab5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nd 2 or more labs to start an energy related project 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Thank you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5" name=""/>
          <p:cNvSpPr/>
          <p:nvPr/>
        </p:nvSpPr>
        <p:spPr>
          <a:xfrm>
            <a:off x="3985560" y="3226680"/>
            <a:ext cx="5022360" cy="32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2"/>
              </a:rPr>
              <a:t>www.protospace.n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ffff"/>
                </a:solidFill>
                <a:uFillTx/>
                <a:latin typeface="Gill Sans"/>
                <a:ea typeface="Gill Sans"/>
              </a:rPr>
              <a:t>siert@protospace.n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ffff"/>
                </a:solidFill>
                <a:uFillTx/>
                <a:latin typeface="Gill Sans"/>
                <a:ea typeface="Gill Sans"/>
              </a:rPr>
              <a:t>info@protospace.n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