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9552-A593-4F1B-8834-E6DDB0A02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71D7-4F6A-4CB4-ADFA-D1973E147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86B2-1CE7-403E-9159-ABB4FD4AF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DB99-2BB6-4D94-AEB1-A585A1B44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CF45-1F17-46B0-9EE2-F76F10858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C32D-405B-4AF6-95FD-A5959CDAE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EC26-07DA-4F6F-A992-BD4C04644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07E5-F6F0-4C38-A6DE-7D451DD0F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405F-AE77-49EA-9750-1AC24CB3C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C5A5-DE78-4E4E-AF79-A16155E98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E3C0-6CE7-4C8B-B0D4-7EE2BED10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C216-F016-4BC0-9FDF-3D33ACAB9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BB2A-9FD6-4172-A1BE-70F97BDBB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572F-F59C-4431-AD61-47AD57755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6350-FE4C-4D58-8BB3-20F159015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9D99-0162-43C4-9A54-7B2788B82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F95C-4A3C-45F7-919F-E2ADF8F26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8D68-D008-4D7E-A7E5-F3AAEC6CF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9F3C-0396-472A-A7C6-5DC10F364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73F1-1C6D-4937-9345-11470722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1DAC-CB1A-4C6E-844B-68E29956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48CE-6CB5-4A48-8B43-712038B7F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7343-4264-4AB3-972C-E18E64CA1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0515-58DA-4AE4-A556-B4DA55DF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BB7C-DE28-4892-A24C-28C463B2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3A4D-E39A-4DE7-A7E1-D8F2B743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647C-5462-4EE8-836D-1A8FC409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C52A-2590-41E2-AF97-BAAEFC63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B2CE-27D4-493E-BD7A-1E8EAE00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EE07-47B3-4C54-95A4-4EAA3C9D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B4FE-3204-4A73-9642-E9DFC75B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DED7-4F97-4EB0-BC97-8174D35A3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vigyanashram.com/" TargetMode="External"/><Relationship Id="rId2" Type="http://schemas.openxmlformats.org/officeDocument/2006/relationships/hyperlink" Target="http://www.fabinnova.india.googlepages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63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gyan Ashram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b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bal, District: Pune , In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gyanashram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abinnova.india.googlepages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80880" y="304920"/>
            <a:ext cx="8229600" cy="601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dal Power 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3047760"/>
            <a:ext cx="45720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d lead acid battery with ultra capacit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re planning to commercialize this product through a Pvt. Ltd compa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/S BOTTOM OF THE PYRAMID ENERGY AND ENVIRONMENT PVT L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533520" y="1660680"/>
            <a:ext cx="434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 power solution for lighting homes of remote communities, nomadic peo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150720095953"/>
          <p:cNvPicPr/>
          <p:nvPr/>
        </p:nvPicPr>
        <p:blipFill>
          <a:blip r:embed="rId1"/>
          <a:stretch/>
        </p:blipFill>
        <p:spPr>
          <a:xfrm>
            <a:off x="5486400" y="129528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150720095951"/>
          <p:cNvPicPr/>
          <p:nvPr/>
        </p:nvPicPr>
        <p:blipFill>
          <a:blip r:embed="rId2"/>
          <a:stretch/>
        </p:blipFill>
        <p:spPr>
          <a:xfrm>
            <a:off x="5105520" y="3886200"/>
            <a:ext cx="3504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ucational A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BRT Students have tried to understand their physics curriculum better by building small toys to demonstrate simple physics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im to take the idea further by  building a kit to assist rural school-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Content Placeholder 7" descr="16082009_012_.jpg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held Admin Cons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asy-to-use, rugged tool to assist rural school-teachers in streamlining their administrativ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its most basic, it will log attendanc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functions can be subsequently a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: Code for the device has been written and t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owner: Amitraj Deshmuk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D 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Content Placeholder 6" descr="Prakash Torch.JPG"/>
          <p:cNvPicPr/>
          <p:nvPr/>
        </p:nvPicPr>
        <p:blipFill>
          <a:blip r:embed="rId1"/>
          <a:stretch/>
        </p:blipFill>
        <p:spPr>
          <a:xfrm>
            <a:off x="1905120" y="1295280"/>
            <a:ext cx="4724280" cy="2819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Emergency Lamp.JPG"/>
          <p:cNvPicPr/>
          <p:nvPr/>
        </p:nvPicPr>
        <p:blipFill>
          <a:blip r:embed="rId2"/>
          <a:stretch/>
        </p:blipFill>
        <p:spPr>
          <a:xfrm>
            <a:off x="1600200" y="4267080"/>
            <a:ext cx="2286000" cy="1984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LED.gif"/>
          <p:cNvPicPr/>
          <p:nvPr/>
        </p:nvPicPr>
        <p:blipFill>
          <a:blip r:embed="rId3"/>
          <a:stretch/>
        </p:blipFill>
        <p:spPr>
          <a:xfrm>
            <a:off x="3733920" y="4191120"/>
            <a:ext cx="283824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vices to the Loc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een Printing: -Shirts and Visiting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hicle Registration P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 Bo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ophies and Me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ed by Vigyan Ashram’s students as income-generat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ttage scale ‘Soya milk’ production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scale biodiesel 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mass proces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bby circuits and small projects undertaken by students from a variety of backgr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880" y="1600200"/>
            <a:ext cx="65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eksha Boc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l Josh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u Jadha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han Choukk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nayak Dharmadhik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gesh Kulkar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b Lab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RT students – In groups – 40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one spends one day per w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ineering students – 15 students/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tors – 200 per mon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 - C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t. of Science and Technology – For salary of staf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b-Lab Pab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Content Placeholder 5" descr="16082009_006_.jpg"/>
          <p:cNvPicPr/>
          <p:nvPr/>
        </p:nvPicPr>
        <p:blipFill>
          <a:blip r:embed="rId1"/>
          <a:stretch/>
        </p:blipFill>
        <p:spPr>
          <a:xfrm>
            <a:off x="2133720" y="203364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ather Data Log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Content Placeholder 6" descr="EWBIsmall.jpg"/>
          <p:cNvPicPr/>
          <p:nvPr/>
        </p:nvPicPr>
        <p:blipFill>
          <a:blip r:embed="rId1"/>
          <a:stretch/>
        </p:blipFill>
        <p:spPr>
          <a:xfrm>
            <a:off x="774720" y="3048120"/>
            <a:ext cx="3657600" cy="175248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9" descr="16082009_001_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ather Data Log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Content Placeholder 4" descr="16082009_002_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: Recording of weather data such as temperature and humidity; for pest control and crop advice to semi-literate farm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ather Data Log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Content Placeholder 5" descr="16082009_002_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bl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ed data loggers currently available cost more than $ 4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To Build the same within INR 4000 ($ 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built a prot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refinement is needed, primarily in terms of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im to build a kit, so that schools can build these loggers themse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Content Placeholder 6" descr="16082009_001_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trasonic Dog Repel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Content Placeholder 3" descr="IMGP8595.JPG"/>
          <p:cNvPicPr/>
          <p:nvPr/>
        </p:nvPicPr>
        <p:blipFill>
          <a:blip r:embed="rId1"/>
          <a:srcRect l="0" t="87" r="0" b="87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gyan Ashram’s Farm T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oto: Carl Scheff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ltrasonic Dog Repell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Farmers have begun to use plastic lining for their farm tanks, to minimize water lo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bodies of water attract stray animals, especially during the dry s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gs dig under the fencing to try and reach th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Content Placeholder 5" descr="dogrepl.jpg"/>
          <p:cNvPicPr/>
          <p:nvPr/>
        </p:nvPicPr>
        <p:blipFill>
          <a:blip r:embed="rId1"/>
          <a:stretch/>
        </p:blipFill>
        <p:spPr>
          <a:xfrm>
            <a:off x="457200" y="2320920"/>
            <a:ext cx="4038480" cy="3084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device that will be mounted on the tank f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its ultrasonic waves at frequencies that dogs find very disturb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als are on to determine the right frequ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1:53:28Z</dcterms:created>
  <dc:creator>admin</dc:creator>
  <dc:description/>
  <dc:language>en-US</dc:language>
  <cp:lastModifiedBy>Rohan</cp:lastModifiedBy>
  <dcterms:modified xsi:type="dcterms:W3CDTF">2009-08-17T03:20:48Z</dcterms:modified>
  <cp:revision>17</cp:revision>
  <dc:subject/>
  <dc:title>Vigyan Ashram Fab Lab</dc:title>
</cp:coreProperties>
</file>