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camera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30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31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32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82A-554E-4B43-B75F-EA73CDE27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431-1958-4541-985D-8835E76E08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77680" y="4717800"/>
            <a:ext cx="4981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B71D-528D-47AC-865D-E1DD2B53D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362-17E8-4BBD-BE4C-C5CDF33B6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41F-D5E6-4561-BEE1-035969000C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83FB-F026-4F0C-846E-7F442F22C9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77680" y="4719240"/>
            <a:ext cx="498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3918-285C-471A-B6C2-B897690B6D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A093-F172-4CE2-93D7-53C76D391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of six bodies incorporated by joint legislation by two Member States - The British and Irish Government Act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9636-74E7-4CDB-94B7-1E555AF918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987-D710-4EB5-8E90-F7952C496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of six bodies incorporated by joint legislation by two Member States - The British and Irish Government Act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3645-5ECE-44EF-8DC7-9C4999B2F7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00C7-5952-4AE4-95E0-3EC091586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4E91-FD14-4C81-BC2C-BFD0875DF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CC86-0AAA-4E8B-8CF3-D26B4C585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6BD-6AEA-45B5-B365-93E496A95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F1F-E8D7-4268-9240-C338DCA007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3919-2E58-4FFB-A5A0-ED108E8F0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B02-87C5-40F7-B650-BAFD8BFD4D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06480" y="474804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FDC4-1AAC-4481-8788-36731BC00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32BE-DDF8-4355-B6B9-7202AE3467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EBBC5-474E-4687-999E-C64F5CF6D1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111E5-C879-4565-9F7A-BC3ECC49A1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8F16C-C1F9-431B-A1DF-CC20746133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8D568-BAA5-4D70-932B-1EBE5E359D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4D5FE-4BF1-4047-A683-490857F0A6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024DA-ACCD-4B50-9AF9-E7141045A5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A1080-CE77-416B-9C2B-6E93D033152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B92A9-7AB2-431E-940C-8A5EE9213A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36418-3DA7-4975-BE32-88E50017FF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8F2582-674F-4030-AFC7-EABE1AB2D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9288-CD0D-4AA9-8E22-E451D1AE1B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C1EA1-AD98-4DA9-AD5D-DEF65BFF6B2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11948-D382-4EE6-B109-C01D64B403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2FE94-7791-4B00-9E23-F5687C4724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F5C6DF-4210-4252-A506-49B510D346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C6C71-4939-417D-81DE-5D5D494370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39411-0B02-422E-BD45-A0B573CF73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5F56C-8EBC-4D23-ABC4-B6E4D1C38F9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DDC3EE-79A7-4E13-8D7A-43E82EC0A92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A9050D-F633-4AB9-B7A9-4FAB0DDC2E8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FF794-17C5-4422-8611-D1569769B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6DA8-E13D-48A5-8019-88BABC3B52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F8570-360A-4581-9BAF-D7D3A1A88F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04D9-E043-4F82-96A6-A2B8CBDEB2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F707-8548-4C39-8D85-71C69187F2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CFFAD-9566-4E52-93FA-9D2B24C38D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09CF-BA27-44A5-8CE4-51F983A0EB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CCC7B-5745-4EA1-8F27-E5027DBC5A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696ED-CB39-4CAB-8641-A89B87C3540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0F12-4375-4F76-95DF-6F852E6943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C4AE-08F2-46CA-BF7B-485C8BC0AB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4C77-7375-4789-8165-6B120DF5D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F42F-4BF9-4ACD-82AC-FAAA1F71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36E4E-93C9-4EAB-9E9E-356FAD6218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2AE4-87CE-419F-AB6B-D45727A4B5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8326-86FA-4A5C-A903-AA12895122E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60CAA-2426-4321-B7D6-18E0D178DF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F9D7E-9195-49F6-B631-3DA1CA4E12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CAD3E-A42C-48C3-9D5A-260EF361FBC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137AF-E5A5-4875-9DBD-CE1C8AE2F9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ED3042-AB1E-4E10-8064-A98F94B45D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9732EC-2421-4E80-9DFE-E18DFF20F9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FF7527-8954-4EF0-AAEA-A0108CEA3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B939B-231B-4C5A-B7F3-3BC4765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2A2C04-BE1E-4B54-9EB5-6A22F1A105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D1BB4-78AC-45B8-B2E8-44E7DC9EB53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F780F-BE48-4DED-A7E4-C4F51726B6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FABC2-AD8E-4BC9-974C-DC5B07DA100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117BEF-B2BC-4804-862E-C1A7F8DC30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7F2C3-F37A-48C9-A8B3-B6BD6DA65F5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8E182-41DC-4F9C-A035-659D883E58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51201-ADFF-48D5-9CF0-FEF69181F50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63315-5BC0-4EBF-BC0A-BD0DACC9CB2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61F84-5524-4724-88C5-391F8434B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D6C60-8EFB-4D05-AB20-C1DE2B2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DC23-33C5-42AF-BB48-49A040E4D0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1FB38-489E-4F11-8457-CB4648C2214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8EDB4-3674-421A-8BF4-A18765A7D4E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7864D-13EE-48ED-ABF5-43144F28E7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4ACEB-0E0E-4F57-BCA3-3EA9E0C844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BB9B2-AD68-4608-850D-B27D3E5FB5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189AF-EF31-49C8-B8A4-6FAF0869E4C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B1943-6776-467B-83F1-DC40D90CC86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81530-3E1B-4063-9952-6CF6646F3A1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16613-19B9-46D6-B479-E6BA7D9549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2447-89CB-4DAF-AD2E-6F1D631C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ACF3-2C69-4A67-97BC-506557F88C3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A283B-11F3-4D39-AF39-1D44932DDDF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4C1EE-3A6D-472F-9768-11D740945B3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4D3A-E5C9-447C-82CB-3249D658684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13EA0-C933-4A94-AF8B-9FB2EA93BD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BF7FD-277A-40A0-A831-F21E511F596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01667-F21B-4A2A-B1EA-8D3174A1A82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6418E-46B6-4D52-8F02-4F837F20967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75473-4D22-44E7-8D62-660A21EA56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BFF1C-124C-4D33-93DD-08BF0BAE2E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248EC-9689-463A-9B92-078C38A0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91049E-A981-44D0-951F-8A697BA204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66AAE4-D0E7-4AAC-A7B6-18B0AA7D34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8F8A34-B000-406C-B88A-DF0192C06C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6D57D-DDD8-40AD-9BB5-D60B185D8CE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96F002-362D-4069-8641-97901EF0FF5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482A1C-D358-49DD-860E-18B9ADF4F11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C6DE97-4F88-479F-B1BB-2E5A0ED4309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08CDCE-9E49-4F8D-B1A9-88BA57085CF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7E469D-BF7E-4D71-BA5C-3B819382671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27A3E8-E8B7-464A-BE60-C4E5A75DA5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20E1D-D237-4F55-B73D-0A76792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B4AF8B-A46D-4755-ADDD-5DF0072F8C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E23EF-7EA4-4D6A-A870-961740B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2D93-582F-4F2B-87A7-A9D32F7FC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A31B7-6919-438D-B0A6-578226F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F0B0-7E94-4838-B88F-9E2C794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F34C-BCA5-461A-928C-5814B060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3E25F-4D0D-48BC-B963-CFEA8443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85F9-E082-48D0-94FE-EAA36DE4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6D328B-9834-4CD9-BD25-2296BFB767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1D63D-D655-4C84-A086-3A4AA335BC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CF351-27D1-4DC0-BDB2-B6B26D459B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096A4-573C-4DCE-84CB-902857A718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A6B31-8B48-49A5-8B5C-9BE86469C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FE1B-3A5A-4B4E-871B-1A85D5CE2B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F6C23-3E15-4F26-A1E1-C82999093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533D8-7ED9-42FF-AE42-3BD3AAF83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6D731-5C16-4B71-A854-0D31B743D6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5E9DE-C08B-4C9F-B6CC-1F9794FE2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72AF7-F631-4AF4-840D-71BE46E986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E27B9-A596-4D0B-839B-F22CDE3009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B9BED-010B-4015-88B0-965DF7F74A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EFA2-A284-45F3-8FCA-C3D6B78220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BE33-3359-4540-98FF-7950B8378F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A503-1A83-453F-86A4-05825170A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F641-21A6-46C8-967B-102AA2065F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9355-07F8-4806-A309-0022073EF9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FA02-06DD-4B5B-8D70-948D5D8D2D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D79F-98B3-4527-8D46-6CB755D424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8D71-8353-47F3-98B9-4036B45F76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DA1F-4CD6-4EE6-B4C8-DAC882AE82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A463-E81F-4563-8E63-A238CFF326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5BD7-F1F2-475B-97D3-B264121CA9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4012-4BFA-4C14-8B4A-F9B3EBFA7E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A0E3-B7AB-4371-B947-DB48F8AC8B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BA39-9F01-4FDE-86B5-7601CD93EE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7155-1270-48D8-849F-73F16CF4D5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0FAE8-91F3-44FD-BFDE-9530C022FF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E8833-46B1-462C-9403-1B92CDE882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C185B-61AF-4E39-8182-D3AF6E0683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0DD47-A072-4E97-928C-583DBBF599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3AB63-7A53-4B98-9171-E60B79330F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89E4E-AB91-482E-BA7E-EBC8907236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FDE6E-5C44-4B29-98A7-F823149CAA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D7D43-2CB8-419A-87F9-8C3062B672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1CFA0-E4B2-49C6-938D-80530915E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CE0A-354A-4959-8575-AC138BD4C8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4B921-47EE-493F-997A-DFDA3F88D4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AAE36-CEA2-4C72-8F58-8CE7C0C60D0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FFBE9-49A0-41AB-9AAE-FAF3220BEC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7EF503-F9D5-4C04-8F26-B2C64297DA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63EFF-F5D6-42AA-81FD-4E9E13F6D9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B3E45-D4D8-41D0-B615-65F84DB249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1B2147-99FB-4C04-8A41-FA80CE5F62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5E71BC-B18D-4A54-8AB4-2890BD59231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9AAEF2-9498-4AD5-B24D-0F091E291B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428F8-155D-4AD7-9C12-2F82AFC1E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A394-D937-41E2-84D0-692D83E87B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2A8DA-BF10-45D5-89DE-6D91B98156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25A77-E8E2-415B-A514-707E2C1CA0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D5CA0-8A70-4275-8056-F411DA156E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17B1F3-0484-4C14-9DF7-6434935AA4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2E0E45-E023-4BF7-B223-83D789CEE0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5E1B-19C8-4DAE-A56B-6C3C0B6B30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9BAF-406C-480F-B08A-E192A8C35E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18BB-4C2E-4977-8139-4A460CFB5E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F64B-9C02-41FF-9339-7B85CA8370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DD29-99E5-452E-883E-E207C06D6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37FE-CC29-43A5-A0EF-63B7632797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722160" y="355320"/>
            <a:ext cx="77011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3B81-D3AC-4C2F-956D-8EAB030FEC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09ACA-FF30-4F76-A58C-939E6A900DF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C821-B018-41EF-BCC4-46CEF4AF9D8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794B-A3FE-471E-8DE1-E28A933989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722160" y="4086360"/>
            <a:ext cx="7701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AF176-75EF-4D99-AEED-AB928E13C34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73052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2216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086360"/>
            <a:ext cx="37580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FF2A-C5B2-4D8F-8085-6821B1E6EF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2604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30280" y="173052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2216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2604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30280" y="4086360"/>
            <a:ext cx="24796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CB38-0558-442B-83FD-3FE06F6762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2A633-990B-4FAC-AA1B-75EE099F714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F6202-BB7D-40B8-A70E-83E0D915BA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CD697-314B-412D-AED9-EACD07AB3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708000" y="60930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4148-CE0E-4EF3-BFA5-5138FA4D44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small logo erdf"/>
          <p:cNvPicPr/>
          <p:nvPr/>
        </p:nvPicPr>
        <p:blipFill>
          <a:blip r:embed="rId3"/>
          <a:stretch/>
        </p:blipFill>
        <p:spPr>
          <a:xfrm>
            <a:off x="324000" y="6381720"/>
            <a:ext cx="1295280" cy="423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1692360" y="638172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5"/>
          <p:cNvSpPr/>
          <p:nvPr/>
        </p:nvSpPr>
        <p:spPr>
          <a:xfrm>
            <a:off x="1619280" y="63403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PEACE III</a:t>
            </a:r>
            <a:br>
              <a:rPr sz="1400"/>
            </a:b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INTERREG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386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8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9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7F44-3781-4BEB-B5FA-993C01147AD7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428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0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1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9E55-02FA-42FB-B2AF-678CC177FB87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470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2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23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8EC0-F48F-474A-8667-03E9CC14B702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512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24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5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E532-698E-4B0F-8AAE-FC75B5DB0F3E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554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6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7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EAB7-62D0-4B7D-9EBE-904843C1ECD4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596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28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29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CE63-D992-417E-AE98-16859F643C5D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414000"/>
            <a:ext cx="547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FA63-11FF-47B3-AD72-7D38136E5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755640" y="64533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European Union</a:t>
            </a:r>
            <a:r>
              <a:rPr b="0" lang="en-GB" sz="1100" spc="-1" strike="noStrike">
                <a:solidFill>
                  <a:srgbClr val="000000"/>
                </a:solidFill>
                <a:latin typeface="Arial Black"/>
              </a:rPr>
              <a:t> European Regional Development Fund – Investing in your fu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euroflag_logo_pro_small"/>
          <p:cNvPicPr/>
          <p:nvPr/>
        </p:nvPicPr>
        <p:blipFill>
          <a:blip r:embed="rId3"/>
          <a:stretch/>
        </p:blipFill>
        <p:spPr>
          <a:xfrm>
            <a:off x="250920" y="6453360"/>
            <a:ext cx="433440" cy="30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small logo erdf"/>
          <p:cNvPicPr/>
          <p:nvPr/>
        </p:nvPicPr>
        <p:blipFill>
          <a:blip r:embed="rId5"/>
          <a:stretch/>
        </p:blipFill>
        <p:spPr>
          <a:xfrm>
            <a:off x="324000" y="6381720"/>
            <a:ext cx="1295280" cy="423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1692360" y="638172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619280" y="63403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PEACE III</a:t>
            </a:r>
            <a:br>
              <a:rPr sz="1400"/>
            </a:b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INTERREG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6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7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C218-D93B-4CED-90BC-178D6E50EB2F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small logo erdf"/>
          <p:cNvPicPr/>
          <p:nvPr/>
        </p:nvPicPr>
        <p:blipFill>
          <a:blip r:embed="rId3"/>
          <a:stretch/>
        </p:blipFill>
        <p:spPr>
          <a:xfrm>
            <a:off x="324000" y="6381720"/>
            <a:ext cx="1295280" cy="42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1692360" y="638172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619280" y="63403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PEACE III</a:t>
            </a:r>
            <a:br>
              <a:rPr sz="1400"/>
            </a:b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INTERREG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51A-72FE-440B-A4A7-9027BECD5C3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0198 PPT titl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0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1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3960-1166-4024-932C-353885C8AC41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2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3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712A-7979-44E1-ABB0-E0226CD59FFC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302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4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5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A18-1553-4EF8-87ED-117EA2B41548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10198 PPT slide"/>
          <p:cNvPicPr/>
          <p:nvPr/>
        </p:nvPicPr>
        <p:blipFill>
          <a:blip r:embed="rId2"/>
          <a:stretch/>
        </p:blipFill>
        <p:spPr>
          <a:xfrm>
            <a:off x="-104760" y="-109440"/>
            <a:ext cx="9353520" cy="7078680"/>
          </a:xfrm>
          <a:prstGeom prst="rect">
            <a:avLst/>
          </a:prstGeom>
          <a:ln w="0">
            <a:noFill/>
          </a:ln>
        </p:spPr>
      </p:pic>
      <p:sp>
        <p:nvSpPr>
          <p:cNvPr id="344" name="Line 6"/>
          <p:cNvSpPr/>
          <p:nvPr/>
        </p:nvSpPr>
        <p:spPr>
          <a:xfrm>
            <a:off x="722160" y="6480000"/>
            <a:ext cx="770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2b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22160" y="1730520"/>
            <a:ext cx="77011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6"/>
          </p:nvPr>
        </p:nvSpPr>
        <p:spPr>
          <a:xfrm>
            <a:off x="711000" y="6570360"/>
            <a:ext cx="4336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Communication Network and Workshops – October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7"/>
          </p:nvPr>
        </p:nvSpPr>
        <p:spPr>
          <a:xfrm>
            <a:off x="6553080" y="6570360"/>
            <a:ext cx="1905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B1F-BC11-4898-A67C-79D13456BB2B}" type="slidenum">
              <a:rPr b="1" lang="en-US" sz="1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b.cba.mit.edu/about/logos/index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ab.cba.mit.edu/about/logos/index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71640" y="2565000"/>
            <a:ext cx="71294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285840" y="1357200"/>
            <a:ext cx="85010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Fab Lab 6 Symposiu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“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Fab Lab – An Innovative Tool for Peace Building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Pat Col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Chief Executive, Special EU Programmes B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19 August 2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3" descr="http://fab.cba.mit.edu/about/logos/th_gcsh.rgb.6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85480" y="1643040"/>
            <a:ext cx="37861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hton Centre, Belf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shton Community Trust is engaged in the delivery of various projects aimed at social and economic regeneration of the local ar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include employment outreach, education and training, social economy businesses, community empowerment, and childcare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56760" y="35676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Fab Labs – Potential Sites in Northern Ireland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500040" y="1714680"/>
            <a:ext cx="76438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2" descr="Ashton Community Trust"/>
          <p:cNvPicPr/>
          <p:nvPr/>
        </p:nvPicPr>
        <p:blipFill>
          <a:blip r:embed="rId1"/>
          <a:stretch/>
        </p:blipFill>
        <p:spPr>
          <a:xfrm>
            <a:off x="4381560" y="2714760"/>
            <a:ext cx="4503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4572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rve Centre, Derry – Londonder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rve Centre was established in 1990 as a focal point for youth culture in Der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rve Centre promotes creative collaboration and fusion between artists and provides a cultural outlet for many young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356760" y="35676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Fab Labs – Potential Sites in Northern Ireland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714240" y="1714680"/>
            <a:ext cx="76438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5" descr="NoCry_2945.jpg"/>
          <p:cNvPicPr/>
          <p:nvPr/>
        </p:nvPicPr>
        <p:blipFill>
          <a:blip r:embed="rId1"/>
          <a:stretch/>
        </p:blipFill>
        <p:spPr>
          <a:xfrm>
            <a:off x="5000760" y="24289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285480" y="1499760"/>
            <a:ext cx="86439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 Labs will promote European and International Networking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hange of best practice between Northern Ireland and other Fab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s from post-conflict and conflict areas around the wor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 Lab initiative 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hared space for young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ther target groups in Northern Ireland to explore and develo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reative and entrepreneurial skills in an international are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 Lab initiative is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tool to build peace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iation in Northern Ir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35156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Fab Labs and the Peace III Programme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500040" y="1714680"/>
            <a:ext cx="76438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5" descr="http://fab.cba.mit.edu/about/logos/th_gcsh.rgb.6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1571400"/>
            <a:ext cx="7129440" cy="33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ny Questions? </a:t>
            </a:r>
            <a:br>
              <a:rPr sz="3200"/>
            </a:br>
            <a:br>
              <a:rPr sz="3200"/>
            </a:br>
            <a:endParaRPr b="1" lang="en-US" sz="4400" spc="-1" strike="noStrike">
              <a:solidFill>
                <a:srgbClr val="0e2b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711360" y="6570720"/>
            <a:ext cx="43369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6327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2b8e"/>
                </a:solidFill>
                <a:latin typeface="Arial"/>
              </a:rPr>
              <a:t>Special EU Programmes Body – </a:t>
            </a:r>
            <a:br>
              <a:rPr sz="2800"/>
            </a:br>
            <a:r>
              <a:rPr b="1" lang="en-GB" sz="2800" spc="-1" strike="noStrike">
                <a:solidFill>
                  <a:srgbClr val="0e2b8e"/>
                </a:solidFill>
                <a:latin typeface="Arial"/>
              </a:rPr>
              <a:t>Who We Are...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496584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tutory body created as a result of a treaty between two Member States - the Belfast (Good Friday) Agreement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aging Authority, Joint Technical Secretariat and Paying Authority for EU Programmes – PEACE III and INTERREG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17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broad role to support North/South participation in INTERREG IVB and IVC Transnational and Inter-regional programm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7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922480" cy="43783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8"/>
          <p:cNvSpPr/>
          <p:nvPr/>
        </p:nvSpPr>
        <p:spPr>
          <a:xfrm>
            <a:off x="5357880" y="6072120"/>
            <a:ext cx="32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of PEACE III and INTERREG IVA, Ap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711360" y="6570720"/>
            <a:ext cx="43369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92000" y="64728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2b8e"/>
                </a:solidFill>
                <a:latin typeface="Arial"/>
              </a:rPr>
              <a:t>What are the EU PEACE Programmes?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99680" y="1643040"/>
            <a:ext cx="41036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que EU Structural Funds Programmes targeting specified areas, sectors and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 address the legacy of the conflict in a sensitive and fair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the opportunities available as a result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28760" y="4005360"/>
            <a:ext cx="471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11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884320" cy="432108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3"/>
          <p:cNvSpPr/>
          <p:nvPr/>
        </p:nvSpPr>
        <p:spPr>
          <a:xfrm>
            <a:off x="5143680" y="5950080"/>
            <a:ext cx="350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the Dance Begin” statue on the Lifford - Strabane B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711360" y="6570720"/>
            <a:ext cx="43369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2b8e"/>
                </a:solidFill>
                <a:latin typeface="Arial"/>
              </a:rPr>
              <a:t>What have the EU PEACE Programmes delivered?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148360" y="2133720"/>
            <a:ext cx="39607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2b8e"/>
                </a:solidFill>
                <a:latin typeface="Arial"/>
              </a:rPr>
              <a:t>PEACE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1995 to1999: Over 15,000 funded projects – total of €73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2b8e"/>
                </a:solidFill>
                <a:latin typeface="Arial"/>
              </a:rPr>
              <a:t>PEACE I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2000 to 2006: Over 7,000 funded projects – total of €99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2b8e"/>
                </a:solidFill>
                <a:latin typeface="Arial"/>
              </a:rPr>
              <a:t>PEACE II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2007 to 2013: Fewer number but larger scale strategic projects – total of €333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N:\Photographs\CASTLEROCK_MCOOPER12.JPG"/>
          <p:cNvPicPr/>
          <p:nvPr/>
        </p:nvPicPr>
        <p:blipFill>
          <a:blip r:embed="rId1"/>
          <a:stretch/>
        </p:blipFill>
        <p:spPr>
          <a:xfrm>
            <a:off x="1071720" y="1643040"/>
            <a:ext cx="309564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214520" y="1642680"/>
            <a:ext cx="47149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011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PEACE III Programme 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57120" y="1643040"/>
            <a:ext cx="417528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2b8e"/>
                </a:solidFill>
                <a:latin typeface="Arial"/>
                <a:ea typeface="ＭＳ Ｐゴシック"/>
              </a:rPr>
              <a:t>PEACE II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2007 to 2013: Focus on fewer number but larger scale strategic projects. Programme value €333 mill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Objectiv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To reinforce progress towards a peaceful and stable society and promote reconciliation in Northern Ireland and the Border Region of Irelan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PEACE III </a:t>
            </a:r>
            <a:r>
              <a:rPr b="0" lang="en-GB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-</a:t>
            </a:r>
            <a:r>
              <a:rPr b="1" lang="en-GB" sz="20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ed to build upon success of PEACE I and II and create a legac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4643280" y="1571760"/>
            <a:ext cx="4151520" cy="45003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3280" y="6143760"/>
            <a:ext cx="400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gible area: Northern Ireland and the Border Region of Irel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5214600" y="1642680"/>
            <a:ext cx="37148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011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PEACE III – Aims &amp; Objectives 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285840" y="1785960"/>
            <a:ext cx="35719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: To address the legacy of the conflict and reconcile communities across Northern Ireland and the Border Region of Ireland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e2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5" descr="Road Closure"/>
          <p:cNvPicPr/>
          <p:nvPr/>
        </p:nvPicPr>
        <p:blipFill>
          <a:blip r:embed="rId1"/>
          <a:stretch/>
        </p:blipFill>
        <p:spPr>
          <a:xfrm>
            <a:off x="3916440" y="1714680"/>
            <a:ext cx="5013360" cy="3206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8"/>
          <p:cNvSpPr/>
          <p:nvPr/>
        </p:nvSpPr>
        <p:spPr>
          <a:xfrm>
            <a:off x="3929040" y="5072040"/>
            <a:ext cx="500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s closed along the Border was one consequence of the years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14600" y="1642680"/>
            <a:ext cx="37148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011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PEACE III – Aims &amp; Objectives 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pic>
        <p:nvPicPr>
          <p:cNvPr id="674" name="Picture 5" descr="GAA COOPER2"/>
          <p:cNvPicPr/>
          <p:nvPr/>
        </p:nvPicPr>
        <p:blipFill>
          <a:blip r:embed="rId1"/>
          <a:stretch/>
        </p:blipFill>
        <p:spPr>
          <a:xfrm>
            <a:off x="214200" y="1857240"/>
            <a:ext cx="2351160" cy="3678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OrangeParade"/>
          <p:cNvPicPr/>
          <p:nvPr/>
        </p:nvPicPr>
        <p:blipFill>
          <a:blip r:embed="rId2"/>
          <a:srcRect l="3710" t="0" r="8408" b="0"/>
          <a:stretch/>
        </p:blipFill>
        <p:spPr>
          <a:xfrm>
            <a:off x="5572080" y="1847880"/>
            <a:ext cx="3143160" cy="3009960"/>
          </a:xfrm>
          <a:prstGeom prst="rect">
            <a:avLst/>
          </a:prstGeom>
          <a:ln w="0">
            <a:noFill/>
          </a:ln>
        </p:spPr>
      </p:pic>
      <p:sp>
        <p:nvSpPr>
          <p:cNvPr id="676" name="TextBox 9"/>
          <p:cNvSpPr/>
          <p:nvPr/>
        </p:nvSpPr>
        <p:spPr>
          <a:xfrm>
            <a:off x="2714760" y="1928880"/>
            <a:ext cx="26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: To contribute towards the creation of a shared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22160" y="355320"/>
            <a:ext cx="77011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2b8e"/>
                </a:solidFill>
                <a:latin typeface="Arial"/>
              </a:rPr>
              <a:t>PEACE III - Programme delivery</a:t>
            </a:r>
            <a:endParaRPr b="1" lang="en-US" sz="28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40719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 towards peace, reconciliation and stabilit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ing the specific needs of different areas, sectors and cross-community group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ing enhanced cross-border co-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4572000" y="60008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kainos project’ will create a new cross-community living space within the       heart of East Belfa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6" descr="N:\Peace Network\SKAINOS_MCOOPER09.JPG"/>
          <p:cNvPicPr/>
          <p:nvPr/>
        </p:nvPicPr>
        <p:blipFill>
          <a:blip r:embed="rId1"/>
          <a:stretch/>
        </p:blipFill>
        <p:spPr>
          <a:xfrm>
            <a:off x="4714920" y="1428840"/>
            <a:ext cx="3214800" cy="45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285480" y="1285560"/>
            <a:ext cx="864396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213840" y="357120"/>
            <a:ext cx="828036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e"/>
                </a:solidFill>
                <a:latin typeface="Arial"/>
              </a:rPr>
              <a:t>Priority 2: Contributing to a shared society</a:t>
            </a:r>
            <a:endParaRPr b="1" lang="en-US" sz="3200" spc="-1" strike="noStrike">
              <a:solidFill>
                <a:srgbClr val="0e2b8e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357120" y="1500120"/>
            <a:ext cx="35006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2.1: Creating Shared Public Spa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2.2:  Developing key Institutional Capacities for a Shared Society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and International Networ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1" descr="image001"/>
          <p:cNvPicPr/>
          <p:nvPr/>
        </p:nvPicPr>
        <p:blipFill>
          <a:blip r:embed="rId1"/>
          <a:stretch/>
        </p:blipFill>
        <p:spPr>
          <a:xfrm>
            <a:off x="4000680" y="1571760"/>
            <a:ext cx="47304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1:35:07Z</dcterms:created>
  <dc:creator>colganp</dc:creator>
  <dc:description/>
  <dc:language>en-US</dc:language>
  <cp:lastModifiedBy>lennont</cp:lastModifiedBy>
  <dcterms:modified xsi:type="dcterms:W3CDTF">2010-08-13T09:41:53Z</dcterms:modified>
  <cp:revision>591</cp:revision>
  <dc:subject/>
  <dc:title>SEUPB Five Years On</dc:title>
</cp:coreProperties>
</file>