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png" ContentType="image/png"/>
  <Override PartName="/ppt/media/image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10.png" ContentType="image/png"/>
  <Override PartName="/ppt/media/image5.wmf" ContentType="image/x-wmf"/>
  <Override PartName="/ppt/media/image19.jpeg" ContentType="image/jpe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0F66-8CF8-458A-937F-DE469335E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29F5-411E-476A-B777-E0B989B0D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7D57-E5CF-4BA7-84DC-F80D7A11B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875A-0C4C-4A26-A223-71ED0CD0B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30C1-730D-41B5-973D-B9D42AD12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2F61-B356-4B12-BC37-613FC15C5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DC9C-5928-4471-A388-BCA0FF630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5968-1C09-4AD4-AE86-10F91BF03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4DC2-7D2C-4164-A660-48ED37C9F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33F3-D67B-448E-91F5-789D3967B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C896-CB34-4145-B767-37F8314B3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D79C-02F2-4F7A-8529-82FC85D05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7F69-83B8-4800-8FB1-E66243E6E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E8CB-E000-4952-8BC5-22EDEC48A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CC13-C678-4942-BBCC-6C7417705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2EB4-52D8-4F52-9D55-6B4FE4FC3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03BE-7C5A-41C6-927A-4C5C9D81F5ED}" type="slidenum">
              <a:rPr b="0" lang="en-US" sz="12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3B47-6483-4F54-BBCE-94283DD83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05F5-BE23-431C-9147-0917DA257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60 % of women who have finished Brautargengi are running a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Most of the women say the programme had a big influence on their decision to start a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The majority of the women think they are better administra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0C43-2373-448A-A39A-C61DB66C9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442-E86F-4615-90D0-14655A3C0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5C24-1388-4C0A-8A5D-4DACBA4E4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6CA-AE6B-4C93-B5FA-39E0EBA7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94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D23-4D62-4131-BA04-AFA0885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44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94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94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AF5-C9D0-4586-8C29-751A11D1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44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44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94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94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94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83D-CE13-4EC8-A71E-C4780825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953-D041-4904-887D-E7294966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0DF-88EE-4EA7-A0B4-4E330059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44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609-CBFA-4878-BFF3-8F1D5E4F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925-A825-4B88-865B-A45772E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71E-E5ED-4959-85CE-444B0CBD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4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94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E3C-3ABF-471A-B0A6-E86B65C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44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94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5D0-FCFF-466F-A265-756C6481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44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94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DFB-7A68-4DCD-A311-38AA1967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norm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666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932360" y="6381720"/>
            <a:ext cx="19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2764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DF5-50A3-4B07-91B7-FF1BAFF7749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Zlp0g9Gcv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802800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2782-F12D-4F1F-B8C9-D4D55EA9FA1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1st-engl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3"/>
          <a:stretch/>
        </p:blipFill>
        <p:spPr>
          <a:xfrm>
            <a:off x="0" y="212760"/>
            <a:ext cx="9144000" cy="693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"/>
          <p:cNvPicPr/>
          <p:nvPr/>
        </p:nvPicPr>
        <p:blipFill>
          <a:blip r:embed="rId4"/>
          <a:stretch/>
        </p:blipFill>
        <p:spPr>
          <a:xfrm>
            <a:off x="2230560" y="2060640"/>
            <a:ext cx="4681440" cy="308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tretch/>
        </p:blipFill>
        <p:spPr>
          <a:xfrm>
            <a:off x="2216160" y="2055960"/>
            <a:ext cx="4708440" cy="3101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539640" y="54277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Arial"/>
              </a:rPr>
              <a:t>Professor Thorsteinn I. Sigfusson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ed7613"/>
                </a:solidFill>
                <a:latin typeface="Arial Black"/>
              </a:rPr>
              <a:t>ICI Incubator Cent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Inexpensive housing (ca. 100 USD per desk per mo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ccess to printers an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Practical and profession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Important support and encour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Motiv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From employees and other entrepren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ed7613"/>
                </a:solidFill>
                <a:latin typeface="Arial Black"/>
              </a:rPr>
              <a:t>Support for Succ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round 250 new “jobs” in the new centers since Octob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Boost for new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Available access to specialized work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100 businesses are now operating in the 9 centers with approximately 300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ed7613"/>
                </a:solidFill>
                <a:latin typeface="Arial Black"/>
              </a:rPr>
              <a:t>Iceland Fab La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 global network of Fab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 small workshop with computer controlled tools with the aim to make „almost everythi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Open all working days for general public, sudents, entrepreneurs and small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Operates in three different pl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stmannaey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Ak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Sauðárkrók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ff6600"/>
                </a:solidFill>
                <a:latin typeface="Arial Black"/>
              </a:rPr>
              <a:t>FabLab Iceland is an important contribution to innov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The Vestmannaeyjar facility led by Frosti Gislason is the hu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7% of the Vestmannaeyjar population is visiting FabLab every month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To have access to The Fab Academy in a remote area like Vestmannaeyjar – with very limited higher education provided locally – is crucial for future develop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32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-264960" y="-38160"/>
            <a:ext cx="951696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ff6600"/>
                </a:solidFill>
                <a:latin typeface="Arial Black"/>
              </a:rPr>
              <a:t>New emerging companies like</a:t>
            </a:r>
            <a:br>
              <a:rPr sz="3200"/>
            </a:br>
            <a:r>
              <a:rPr b="0" lang="is-IS" sz="3200" spc="-1" strike="noStrike">
                <a:solidFill>
                  <a:srgbClr val="ff6600"/>
                </a:solidFill>
                <a:latin typeface="Arial Black"/>
              </a:rPr>
              <a:t>Remake Electric are using FabLab technological appro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Content Placeholder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54320" cy="13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14288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ff6600"/>
                </a:solidFill>
                <a:latin typeface="Arial Black"/>
              </a:rPr>
              <a:t>Multimedia companies like Sigva and SmartMedia use FabLab to make the Folk Museum more interactive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5424480" cy="406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" y="184464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ff6600"/>
                </a:solidFill>
                <a:latin typeface="Arial Black"/>
              </a:rPr>
              <a:t>A new creative artist in Iceland</a:t>
            </a:r>
            <a:br>
              <a:rPr sz="2400"/>
            </a:br>
            <a:r>
              <a:rPr b="0" lang="is-IS" sz="2400" spc="-1" strike="noStrike">
                <a:solidFill>
                  <a:srgbClr val="ff6600"/>
                </a:solidFill>
                <a:latin typeface="Arial Black"/>
              </a:rPr>
              <a:t>VERA is using FabLab approach to automate her unique production of garments from silicone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2369880" cy="3541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55640" y="263700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Arial"/>
              </a:rPr>
              <a:t>VERA Thordardot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Arial"/>
              </a:rPr>
              <a:t>Prize winner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Arial"/>
              </a:rPr>
              <a:t>Instituto Marangoni,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ff6600"/>
                </a:solidFill>
                <a:latin typeface="Arial Black"/>
              </a:rPr>
              <a:t>The new silcone fashion is taking the world by surpri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Content Placeholder 6" descr=""/>
          <p:cNvPicPr/>
          <p:nvPr/>
        </p:nvPicPr>
        <p:blipFill>
          <a:blip r:embed="rId1"/>
          <a:stretch/>
        </p:blipFill>
        <p:spPr>
          <a:xfrm>
            <a:off x="1828800" y="1844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32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31" name="Content Placeholder 5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405560" cy="55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802800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1D1D-F88D-4CC6-803A-1964002F44E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 Black"/>
              </a:rPr>
              <a:t>Innovation Center Icela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novation Center Icelan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in 2007 and operates under the Ministry of Industry and receives revenue from both the public and private s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rnover:  10 MU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s: 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ff6600"/>
                </a:solidFill>
                <a:latin typeface="Arial Black"/>
              </a:rPr>
              <a:t>Lady GaGa fell for VERA´s fashion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Content Placeholder 3" descr=""/>
          <p:cNvPicPr/>
          <p:nvPr/>
        </p:nvPicPr>
        <p:blipFill>
          <a:blip r:embed="rId1"/>
          <a:stretch/>
        </p:blipFill>
        <p:spPr>
          <a:xfrm>
            <a:off x="47520" y="1628640"/>
            <a:ext cx="910440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ff6600"/>
                </a:solidFill>
                <a:latin typeface="Arial Black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FabLab is helping to advance technological awarenes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Seeds have been sawn, knowledge of digital fabrication technologies is gradually increasing,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We know it will lead to increased competitiveness of our 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We are witnessing a new kind of eruption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named FABLAB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802800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3DD8-10EB-46D1-B791-7C03B610841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st-engl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0" y="212760"/>
            <a:ext cx="9144000" cy="693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"/>
          <p:cNvPicPr/>
          <p:nvPr/>
        </p:nvPicPr>
        <p:blipFill>
          <a:blip r:embed="rId4"/>
          <a:stretch/>
        </p:blipFill>
        <p:spPr>
          <a:xfrm>
            <a:off x="2230560" y="2060640"/>
            <a:ext cx="4681440" cy="308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"/>
          <p:cNvPicPr/>
          <p:nvPr/>
        </p:nvPicPr>
        <p:blipFill>
          <a:blip r:embed="rId5"/>
          <a:stretch/>
        </p:blipFill>
        <p:spPr>
          <a:xfrm>
            <a:off x="2216160" y="2055960"/>
            <a:ext cx="4708440" cy="31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802800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3CC-B181-4C24-8495-D8539305311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ff6600"/>
                </a:solidFill>
                <a:latin typeface="Arial Black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mission of the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trengthen the competitive position of Icelandic business and increase the quality of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iffuse knowledge and give support to entrepreneurs, growth companies and innovative enterp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cel in technology research, product development, analysis and tes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802800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E552-8629-4F12-98F6-F02AF93853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 Black"/>
              </a:rPr>
              <a:t>Core Val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logo symbolises the core values of the Innovation Center Iceland, which ar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ing se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ship and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vity and i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ology and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d7613"/>
                </a:solidFill>
                <a:latin typeface="Arial Black"/>
              </a:rPr>
              <a:t>Technology Research and Consult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142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ading R&amp;D and business support institute in Ic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R&amp;D, technology transfer, education, support for entrepreneurs and SMEs and consulting in order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rease innovation, productivity and competitiven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02800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001B-4F51-469A-A14F-58D797B845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61960" y="933480"/>
            <a:ext cx="7732800" cy="509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2571840" y="4203720"/>
            <a:ext cx="500040" cy="4888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3"/>
          <p:cNvGrpSpPr/>
          <p:nvPr/>
        </p:nvGrpSpPr>
        <p:grpSpPr>
          <a:xfrm>
            <a:off x="2562120" y="5459400"/>
            <a:ext cx="2214720" cy="694440"/>
            <a:chOff x="2562120" y="5459400"/>
            <a:chExt cx="2214720" cy="694440"/>
          </a:xfrm>
        </p:grpSpPr>
        <p:sp>
          <p:nvSpPr>
            <p:cNvPr id="72" name="TextBox 44"/>
            <p:cNvSpPr/>
            <p:nvPr/>
          </p:nvSpPr>
          <p:spPr>
            <a:xfrm>
              <a:off x="2562120" y="581652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s-IS" sz="1600" spc="-1" strike="noStrike">
                  <a:solidFill>
                    <a:srgbClr val="800000"/>
                  </a:solidFill>
                  <a:latin typeface="Arial"/>
                </a:rPr>
                <a:t>Vestmannaeyjar 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0" descr=""/>
            <p:cNvPicPr/>
            <p:nvPr/>
          </p:nvPicPr>
          <p:blipFill>
            <a:blip r:embed="rId3"/>
            <a:stretch/>
          </p:blipFill>
          <p:spPr>
            <a:xfrm>
              <a:off x="3348000" y="5459400"/>
              <a:ext cx="390600" cy="41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54"/>
          <p:cNvGrpSpPr/>
          <p:nvPr/>
        </p:nvGrpSpPr>
        <p:grpSpPr>
          <a:xfrm>
            <a:off x="6224760" y="3929040"/>
            <a:ext cx="2214360" cy="704160"/>
            <a:chOff x="6224760" y="3929040"/>
            <a:chExt cx="2214360" cy="704160"/>
          </a:xfrm>
        </p:grpSpPr>
        <p:pic>
          <p:nvPicPr>
            <p:cNvPr id="75" name="Picture 7" descr=""/>
            <p:cNvPicPr/>
            <p:nvPr/>
          </p:nvPicPr>
          <p:blipFill>
            <a:blip r:embed="rId4"/>
            <a:stretch/>
          </p:blipFill>
          <p:spPr>
            <a:xfrm>
              <a:off x="6500880" y="3929040"/>
              <a:ext cx="44748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47"/>
            <p:cNvSpPr/>
            <p:nvPr/>
          </p:nvSpPr>
          <p:spPr>
            <a:xfrm>
              <a:off x="6224760" y="4295880"/>
              <a:ext cx="221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s-IS" sz="1600" spc="-1" strike="noStrike">
                  <a:solidFill>
                    <a:srgbClr val="800000"/>
                  </a:solidFill>
                  <a:latin typeface="Arial"/>
                </a:rPr>
                <a:t>Hornafjörður 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46"/>
          <p:cNvSpPr/>
          <p:nvPr/>
        </p:nvSpPr>
        <p:spPr>
          <a:xfrm>
            <a:off x="2143080" y="464328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600" spc="-1" strike="noStrike">
                <a:solidFill>
                  <a:srgbClr val="800000"/>
                </a:solidFill>
                <a:latin typeface="Arial"/>
              </a:rPr>
              <a:t>Reykjav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6"/>
          <p:cNvGrpSpPr/>
          <p:nvPr/>
        </p:nvGrpSpPr>
        <p:grpSpPr>
          <a:xfrm>
            <a:off x="4429080" y="2435400"/>
            <a:ext cx="2214720" cy="937440"/>
            <a:chOff x="4429080" y="2435400"/>
            <a:chExt cx="2214720" cy="937440"/>
          </a:xfrm>
        </p:grpSpPr>
        <p:pic>
          <p:nvPicPr>
            <p:cNvPr id="79" name="Picture 8" descr=""/>
            <p:cNvPicPr/>
            <p:nvPr/>
          </p:nvPicPr>
          <p:blipFill>
            <a:blip r:embed="rId5"/>
            <a:stretch/>
          </p:blipFill>
          <p:spPr>
            <a:xfrm>
              <a:off x="5000400" y="2435400"/>
              <a:ext cx="42840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43"/>
            <p:cNvSpPr/>
            <p:nvPr/>
          </p:nvSpPr>
          <p:spPr>
            <a:xfrm>
              <a:off x="4429080" y="2792160"/>
              <a:ext cx="221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s-IS" sz="1600" spc="-1" strike="noStrike">
                  <a:solidFill>
                    <a:srgbClr val="800000"/>
                  </a:solidFill>
                  <a:latin typeface="Arial"/>
                </a:rPr>
                <a:t>Akureyri 2002         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58"/>
          <p:cNvGrpSpPr/>
          <p:nvPr/>
        </p:nvGrpSpPr>
        <p:grpSpPr>
          <a:xfrm>
            <a:off x="1143000" y="1643040"/>
            <a:ext cx="2214720" cy="837360"/>
            <a:chOff x="1143000" y="1643040"/>
            <a:chExt cx="2214720" cy="837360"/>
          </a:xfrm>
        </p:grpSpPr>
        <p:pic>
          <p:nvPicPr>
            <p:cNvPr id="82" name="Picture 11" descr=""/>
            <p:cNvPicPr/>
            <p:nvPr/>
          </p:nvPicPr>
          <p:blipFill>
            <a:blip r:embed="rId6"/>
            <a:stretch/>
          </p:blipFill>
          <p:spPr>
            <a:xfrm>
              <a:off x="1571400" y="1643040"/>
              <a:ext cx="423720" cy="4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45"/>
            <p:cNvSpPr/>
            <p:nvPr/>
          </p:nvSpPr>
          <p:spPr>
            <a:xfrm>
              <a:off x="1143000" y="214308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s-IS" sz="1600" spc="-1" strike="noStrike">
                  <a:solidFill>
                    <a:srgbClr val="800000"/>
                  </a:solidFill>
                  <a:latin typeface="Arial"/>
                </a:rPr>
                <a:t>Ísafjörður 20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63560" y="3241440"/>
            <a:ext cx="866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200" spc="-1" strike="noStrike">
                <a:solidFill>
                  <a:srgbClr val="ed7613"/>
                </a:solidFill>
                <a:latin typeface="Arial Black"/>
              </a:rPr>
              <a:t>Currently </a:t>
            </a:r>
            <a:br>
              <a:rPr sz="3200"/>
            </a:br>
            <a:r>
              <a:rPr b="1" lang="is-IS" sz="3200" spc="-1" strike="noStrike">
                <a:solidFill>
                  <a:srgbClr val="ed7613"/>
                </a:solidFill>
                <a:latin typeface="Arial Black"/>
              </a:rPr>
              <a:t>3 Fab Lab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02264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6"/>
          <p:cNvSpPr/>
          <p:nvPr/>
        </p:nvSpPr>
        <p:spPr>
          <a:xfrm>
            <a:off x="8001000" y="1417680"/>
            <a:ext cx="78588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7"/>
          <p:cNvGrpSpPr/>
          <p:nvPr/>
        </p:nvGrpSpPr>
        <p:grpSpPr>
          <a:xfrm>
            <a:off x="5240160" y="1676520"/>
            <a:ext cx="2214720" cy="969480"/>
            <a:chOff x="5240160" y="1676520"/>
            <a:chExt cx="2214720" cy="969480"/>
          </a:xfrm>
        </p:grpSpPr>
        <p:pic>
          <p:nvPicPr>
            <p:cNvPr id="88" name="Picture 8" descr=""/>
            <p:cNvPicPr/>
            <p:nvPr/>
          </p:nvPicPr>
          <p:blipFill>
            <a:blip r:embed="rId7"/>
            <a:stretch/>
          </p:blipFill>
          <p:spPr>
            <a:xfrm>
              <a:off x="5391000" y="1676520"/>
              <a:ext cx="42840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43"/>
            <p:cNvSpPr/>
            <p:nvPr/>
          </p:nvSpPr>
          <p:spPr>
            <a:xfrm>
              <a:off x="5240160" y="2065320"/>
              <a:ext cx="221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s-IS" sz="1600" spc="-1" strike="noStrike">
                  <a:solidFill>
                    <a:srgbClr val="00b050"/>
                  </a:solidFill>
                  <a:latin typeface="Arial"/>
                </a:rPr>
                <a:t>Húsavík 2009         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7"/>
          <p:cNvGrpSpPr/>
          <p:nvPr/>
        </p:nvGrpSpPr>
        <p:grpSpPr>
          <a:xfrm>
            <a:off x="3086280" y="2090880"/>
            <a:ext cx="2214360" cy="1149480"/>
            <a:chOff x="3086280" y="2090880"/>
            <a:chExt cx="2214360" cy="1149480"/>
          </a:xfrm>
        </p:grpSpPr>
        <p:pic>
          <p:nvPicPr>
            <p:cNvPr id="91" name="Picture 8" descr=""/>
            <p:cNvPicPr/>
            <p:nvPr/>
          </p:nvPicPr>
          <p:blipFill>
            <a:blip r:embed="rId8"/>
            <a:stretch/>
          </p:blipFill>
          <p:spPr>
            <a:xfrm>
              <a:off x="3943440" y="2090880"/>
              <a:ext cx="42840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43"/>
            <p:cNvSpPr/>
            <p:nvPr/>
          </p:nvSpPr>
          <p:spPr>
            <a:xfrm>
              <a:off x="3086280" y="2416320"/>
              <a:ext cx="221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s-IS" sz="1600" spc="-1" strike="noStrike">
                  <a:solidFill>
                    <a:srgbClr val="00b050"/>
                  </a:solidFill>
                  <a:latin typeface="Arial"/>
                </a:rPr>
                <a:t>Sauðárkrók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s-IS" sz="1600" spc="-1" strike="noStrike">
                  <a:solidFill>
                    <a:srgbClr val="00b050"/>
                  </a:solidFill>
                  <a:latin typeface="Arial"/>
                </a:rPr>
                <a:t>             </a:t>
              </a:r>
              <a:r>
                <a:rPr b="0" lang="is-IS" sz="1600" spc="-1" strike="noStrike">
                  <a:solidFill>
                    <a:srgbClr val="00b050"/>
                  </a:solidFill>
                  <a:latin typeface="Arial"/>
                </a:rPr>
                <a:t>2009         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8" descr=""/>
          <p:cNvPicPr/>
          <p:nvPr/>
        </p:nvPicPr>
        <p:blipFill>
          <a:blip r:embed="rId9"/>
          <a:stretch/>
        </p:blipFill>
        <p:spPr>
          <a:xfrm>
            <a:off x="7286760" y="2286000"/>
            <a:ext cx="428400" cy="4287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3"/>
          <p:cNvSpPr/>
          <p:nvPr/>
        </p:nvSpPr>
        <p:spPr>
          <a:xfrm>
            <a:off x="6581880" y="26528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600" spc="-1" strike="noStrike">
                <a:solidFill>
                  <a:srgbClr val="00b050"/>
                </a:solidFill>
                <a:latin typeface="Arial"/>
              </a:rPr>
              <a:t>Egilsstaðir 2009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77720" y="907920"/>
            <a:ext cx="811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</a:rPr>
              <a:t>Director: Þorsteinn I. Sigfusson, Professor and holder of the Global Energy International Prize 2007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0"/>
          <a:stretch/>
        </p:blipFill>
        <p:spPr>
          <a:xfrm>
            <a:off x="3490920" y="1284120"/>
            <a:ext cx="1285920" cy="127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"/>
          <p:cNvPicPr/>
          <p:nvPr/>
        </p:nvPicPr>
        <p:blipFill>
          <a:blip r:embed="rId11"/>
          <a:stretch/>
        </p:blipFill>
        <p:spPr>
          <a:xfrm>
            <a:off x="2847960" y="5033880"/>
            <a:ext cx="1285920" cy="1270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"/>
          <p:cNvPicPr/>
          <p:nvPr/>
        </p:nvPicPr>
        <p:blipFill>
          <a:blip r:embed="rId12"/>
          <a:stretch/>
        </p:blipFill>
        <p:spPr>
          <a:xfrm>
            <a:off x="1992240" y="3660840"/>
            <a:ext cx="1285920" cy="1270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630360" y="-17640"/>
            <a:ext cx="866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200" spc="-1" strike="noStrike">
                <a:solidFill>
                  <a:srgbClr val="ed7613"/>
                </a:solidFill>
                <a:latin typeface="Arial Black"/>
              </a:rPr>
              <a:t>Innovation Center Iceland</a:t>
            </a:r>
            <a:br>
              <a:rPr sz="3200"/>
            </a:br>
            <a:r>
              <a:rPr b="1" lang="is-IS" sz="3200" spc="-1" strike="noStrike">
                <a:solidFill>
                  <a:srgbClr val="ed7613"/>
                </a:solidFill>
                <a:latin typeface="Arial Black"/>
              </a:rPr>
              <a:t>8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ed7613"/>
                </a:solidFill>
                <a:latin typeface="Arial Black"/>
              </a:rPr>
              <a:t>Entrepreneurs and SME servic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9680" y="1571760"/>
            <a:ext cx="7844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of information and guidance for entrepreneurs and SM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e support interview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calls and email ex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programs and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hops and courses for the general public and S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02800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D67-86FF-4ECC-9429-B3E461A86C4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ed7613"/>
                </a:solidFill>
                <a:latin typeface="Arial Black"/>
              </a:rPr>
              <a:t>Entrepreneurs and SME servic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Policy advice on support for innovation and improved operating conditions for S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 internet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ations on management, marketing,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The host for Enterprise Europ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Boost growth and jobs through small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Bring togeth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Powerful databases and knowledge sh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802800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815E-1BDF-46AB-AB38-C140FFD091C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ed7613"/>
                </a:solidFill>
                <a:latin typeface="Arial Black"/>
              </a:rPr>
              <a:t>ICI Incubator Cent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14240" y="157176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nd facilities for start-up companies working on innovative business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years experience at the original center in the Reykjavik head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focus on incubator cen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ust one year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new cent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o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 Center Iceland now opera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ubators in co-oper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8028000" y="6381720"/>
            <a:ext cx="93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2C94-B05A-4488-A026-623301092AD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9:49:27Z</dcterms:created>
  <dc:creator>Berglind Hallgrímsdóttir</dc:creator>
  <dc:description/>
  <dc:language>en-US</dc:language>
  <cp:lastModifiedBy>Frosti Gíslason</cp:lastModifiedBy>
  <dcterms:modified xsi:type="dcterms:W3CDTF">2011-08-18T17:41:14Z</dcterms:modified>
  <cp:revision>143</cp:revision>
  <dc:subject/>
  <dc:title> </dc:title>
</cp:coreProperties>
</file>