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1BA-E9E1-48DE-83A1-552CDF7A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742-D538-4CB1-99F8-05B72749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AF9-ECF4-4642-97E9-C3AB5250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C0E-5F2C-4E73-AB33-2F4F16A9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3664-BAAC-48E9-8FBD-BE4471EC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18F6-A350-4ED6-972E-6B6E3875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F9A-C5B9-44FD-964E-E4020861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DF2-84E1-4B27-91A8-A4B9577F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7D1-F341-46C1-8DC3-2ECABCAB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880-D6FE-435C-8550-97A493AF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C9EE-7EA8-4E1F-951C-105144EF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EE0-3AB1-41BB-8325-CF955E38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32DA3-53A9-4005-BF50-52A1343757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CC6AA-A73B-4248-B032-1E648B0F8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Fab7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03:13:24Z</dcterms:created>
  <dc:creator>Nicolas</dc:creator>
  <dc:description/>
  <dc:language>en-US</dc:language>
  <cp:lastModifiedBy>Nicolas</cp:lastModifiedBy>
  <dcterms:modified xsi:type="dcterms:W3CDTF">2011-08-03T03:18:47Z</dcterms:modified>
  <cp:revision>1</cp:revision>
  <dc:subject/>
  <dc:title>Slide 1</dc:title>
</cp:coreProperties>
</file>