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7FF-8571-4BF7-B0B9-46B963D5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03C-9EB3-47BF-9C5E-9BEFF7C5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8A7-788D-4C6E-9379-E365F589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29C-3FB2-46DB-BEB6-C591EEF8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7A58-F56C-4FC5-B4CC-60474C5A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FEEE-BA42-4D02-A752-05B88BDD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7B2F-288A-444E-92B7-32FDDB9A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5F57-C23E-4E53-B676-87F60078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A942-CBD2-48F9-80A0-373D6FBA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58CD-5908-452C-AD69-7EC00930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22B7-21EE-4B3B-8534-40F5C41C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C79-0E2C-43F5-B9CC-6ADD496A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6E26-226A-4012-B410-D0CC7A4B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F925-54E0-4FFE-A072-EF3ADE30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69CF-159B-416E-92D8-47D5D43F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B00E-BF6F-425C-9517-AEC9580D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3D5F-14ED-49AD-81BB-C0931899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45C-853A-4130-98E7-8D032D97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649-5D76-4F98-86CC-2F2B3169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BBB-3C33-43F6-97A3-65C1EB18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4FF-A72A-488E-A15E-CC028280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E04-3B5A-47CC-9FFF-5CB3A43B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18E-D3B8-4EB5-9CF2-5BD213B9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D2D-EDCA-4A57-9FCE-C30C2D2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8E1-5F64-4C3C-AD06-5DB60C126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A3A7-7121-4993-A697-A6F026CE1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Delhi Fablab</a:t>
            </a:r>
            <a:br>
              <a:rPr sz="5400"/>
            </a:b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The better half Fablab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hananjay V. Gad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ociate Professor, ECE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SIT, New Del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dvgadr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Activities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e with potential partners towards creation of Fab Foundation 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new proto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 new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 book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tting the future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New Projects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line Wikipedia – Touch LCD based prototype on a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ty ARM protobo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M32 based version with TV interface is plan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peduino (Arduino clone) with several Shiel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M32 based ADK (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M32 based Arduino footprint (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New Products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eduino and Birthday Candles sh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D 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048120" cy="199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828800" y="5235480"/>
            <a:ext cx="62769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Book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y AVR Microcontroller for the Evil Genius – Dhananjay V. Gadre and Nehul Malhotra. McGraw Hill International/TAB Books. January 2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235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For the Next Year…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llabo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ooks (Arduino, ARM)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8512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9d9ff"/>
                </a:solidFill>
                <a:latin typeface="Arial Black"/>
              </a:rPr>
              <a:t>And as they would say around here…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d9d9ff"/>
                </a:solidFill>
                <a:latin typeface="Arial Black"/>
              </a:rPr>
              <a:t>Mucho Gracias…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04:53:15Z</dcterms:created>
  <dc:creator>dvg</dc:creator>
  <dc:description/>
  <dc:language>en-US</dc:language>
  <cp:lastModifiedBy>dvg</cp:lastModifiedBy>
  <dcterms:modified xsi:type="dcterms:W3CDTF">2011-08-15T10:51:25Z</dcterms:modified>
  <cp:revision>10</cp:revision>
  <dc:subject/>
  <dc:title>Delhi Fablab The better half Fablab</dc:title>
</cp:coreProperties>
</file>