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697-C54A-4537-9F9B-9EDE185F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8DC-069C-404A-B084-2118A1DC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458-F644-480D-870B-AD0915CF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3C7-2D34-4CAC-8E0B-A512F3B2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A2F-D91F-4105-A1EC-4E2A511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6D2-32AD-47DA-A3BC-0B3BB648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AB3-1CA7-4A27-822F-4B7F097F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9F3-052B-4750-ACE0-2D19974A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D79-2E59-4FE1-98B0-753312E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D9B-1A66-484B-A17C-C57B96A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303-FF86-4801-A34A-4DDE731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97A-AFB4-42E3-8F1B-BE92711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6C1-422A-4248-936F-C88C839B298B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ARO FABLAB KENYA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askerville Old Face"/>
              </a:rPr>
              <a:t>TECHNOLOGY FOR COMMUNITY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FABLAB Wi-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227.JPG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IMG_0332.JPG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IMG_0191.JPG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7" descr="IMG_0190.JPG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askerville Old Face"/>
              </a:rPr>
              <a:t>SOLAR COO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6" descr="IMG_0464.JPG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7" descr="IMG_0461.JPG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8" descr="IMG_0463.JPG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9" descr="IMG_0496.JPG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6" descr="Home model.JPG"/>
          <p:cNvPicPr/>
          <p:nvPr/>
        </p:nvPicPr>
        <p:blipFill>
          <a:blip r:embed="rId1"/>
          <a:stretch/>
        </p:blipFill>
        <p:spPr>
          <a:xfrm>
            <a:off x="762120" y="1371600"/>
            <a:ext cx="3171600" cy="24145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7" descr="Car.JPG"/>
          <p:cNvPicPr/>
          <p:nvPr/>
        </p:nvPicPr>
        <p:blipFill>
          <a:blip r:embed="rId2"/>
          <a:stretch/>
        </p:blipFill>
        <p:spPr>
          <a:xfrm>
            <a:off x="4724280" y="1371600"/>
            <a:ext cx="3400560" cy="24145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8" descr="Laser work.JPG"/>
          <p:cNvPicPr/>
          <p:nvPr/>
        </p:nvPicPr>
        <p:blipFill>
          <a:blip r:embed="rId3"/>
          <a:stretch/>
        </p:blipFill>
        <p:spPr>
          <a:xfrm>
            <a:off x="762120" y="3938760"/>
            <a:ext cx="317340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9" descr="Fab Biz.JPG"/>
          <p:cNvPicPr/>
          <p:nvPr/>
        </p:nvPicPr>
        <p:blipFill>
          <a:blip r:embed="rId4"/>
          <a:stretch/>
        </p:blipFill>
        <p:spPr>
          <a:xfrm>
            <a:off x="4724280" y="3938760"/>
            <a:ext cx="3402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1295280" y="2362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INSIDE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11" descr="IMG_0981.JPG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12" descr="218.JPG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13" descr="195.JPG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14" descr="IMG_0931.JPG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To benefit the local community by providing simple technological solutions for their daily challeng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To bring access to new technology and knowledge to schools and educational institutions in the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To promote creativity among local people and support small-scale enterprises, especially with respect to renewable energy and water harves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OBJECTIV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 Old Face"/>
              </a:rPr>
              <a:t>To properly dispose waste materials from homes including re-use (recycling) of some waste materials like iron sheets and metal pieces collected from the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OLAR POWE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OLAR RECHARGEABLE LED L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OLAR INCUBATOR FOR HATCHING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DISTRIBUTION OF INTERNET TO SCHOOLS USING THE FABLAB Wi-Fi IN B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OLAR COO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SOLAR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IMG_0327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5" descr="IMG_033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LED L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MG_114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115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MG_1152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330.JPG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SCRAP METAL LED 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IMG_125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MG_131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IMG_1316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9" descr="IMG_0934.JPG"/>
          <p:cNvPicPr/>
          <p:nvPr/>
        </p:nvPicPr>
        <p:blipFill>
          <a:blip r:embed="rId4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skerville Old Face"/>
              </a:rPr>
              <a:t>BROODER (EGG HATCH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IMG_141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IMG_142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IMG_151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IMG_152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4:32:25Z</dcterms:created>
  <dc:creator>Tom's</dc:creator>
  <dc:description/>
  <dc:language>en-US</dc:language>
  <cp:lastModifiedBy>user</cp:lastModifiedBy>
  <dcterms:modified xsi:type="dcterms:W3CDTF">2011-08-16T11:32:49Z</dcterms:modified>
  <cp:revision>41</cp:revision>
  <dc:subject/>
  <dc:title>ARO FABLAB KENYA WEST</dc:title>
</cp:coreProperties>
</file>