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AD4-A13A-4A26-A276-63922D27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640080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6799680"/>
            <a:ext cx="640080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04A-2E81-41F0-B31B-76677D13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679968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679968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550-63B3-426B-9A2F-4F733069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579132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579132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679968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679968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679968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919-4F0C-4D9F-97E4-B1576031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8C9A-99FF-4117-89B0-EF4C0A91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1930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13B2-8F31-489A-8C84-BC0D54FE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640080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8837-A212-4D42-B699-2FB284BB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12336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5791320"/>
            <a:ext cx="312336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36A8-34BF-4163-B940-3A775787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85F5-3467-4493-86FF-97CB1B32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352680"/>
            <a:ext cx="7772400" cy="8478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09AC-0D3D-4288-8640-0C0B3BB7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5791320"/>
            <a:ext cx="312336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679968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BE10-3493-4CBE-A966-C79BD9AD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1930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A3B-F6D7-4DE2-8EF1-1C8AC265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12336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679968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8742-C6BB-4607-898C-578BC662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6799680"/>
            <a:ext cx="640080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CC02-7FA5-47FD-91F2-28B04E59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640080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6799680"/>
            <a:ext cx="640080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34D4-C9DD-4F99-A59E-657EED08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679968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679968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53CA-3F5D-4D56-A3F9-9457C25A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579132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579132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679968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679968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6799680"/>
            <a:ext cx="20606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E6A5-119F-4AAB-B66A-91315D73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640080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BFB-362B-498A-AEED-40F0F696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12336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5791320"/>
            <a:ext cx="312336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E1F-A724-4E80-A439-D2BA3514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A92-C36A-4DCE-BF24-A1E8FACC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352680"/>
            <a:ext cx="7772400" cy="8478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350-9B87-4E70-9F13-8C200E5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5791320"/>
            <a:ext cx="312336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679968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009-ED72-460A-AC73-25696FCE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12336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679968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352-2058-4BA7-94D8-0DBF433D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5791320"/>
            <a:ext cx="31233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6799680"/>
            <a:ext cx="640080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474-D69E-4FB2-ADF6-6D861B7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64168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8331120"/>
            <a:ext cx="1905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833112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8331120"/>
            <a:ext cx="1905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EA1A-60E3-44BB-832A-ACEA0770BF4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8331120"/>
            <a:ext cx="1905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833112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8331120"/>
            <a:ext cx="1905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BE69-5432-4067-9FE8-48D5617E46C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2139480"/>
            <a:ext cx="82292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15444" r="0" b="13970"/>
          <a:stretch/>
        </p:blipFill>
        <p:spPr>
          <a:xfrm>
            <a:off x="1676520" y="1676520"/>
            <a:ext cx="358128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16668" b="17245"/>
          <a:stretch/>
        </p:blipFill>
        <p:spPr>
          <a:xfrm>
            <a:off x="5410080" y="167652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rcRect l="3999" t="0" r="0" b="0"/>
          <a:stretch/>
        </p:blipFill>
        <p:spPr>
          <a:xfrm>
            <a:off x="1600200" y="426708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rcRect l="0" t="7319" r="0" b="19475"/>
          <a:stretch/>
        </p:blipFill>
        <p:spPr>
          <a:xfrm>
            <a:off x="5410080" y="4267080"/>
            <a:ext cx="343080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rcRect l="13727" t="0" r="0" b="5952"/>
          <a:stretch/>
        </p:blipFill>
        <p:spPr>
          <a:xfrm>
            <a:off x="5410080" y="6705720"/>
            <a:ext cx="335304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11121" r="3999" b="13843"/>
          <a:stretch/>
        </p:blipFill>
        <p:spPr>
          <a:xfrm>
            <a:off x="1600200" y="670572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057400" y="60948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dcd44"/>
                </a:solidFill>
                <a:latin typeface="Myriad Web Pro"/>
              </a:rPr>
              <a:t>FAB</a:t>
            </a:r>
            <a:r>
              <a:rPr b="0" lang="en-US" sz="6000" spc="-1" strike="noStrike">
                <a:solidFill>
                  <a:srgbClr val="ffffff"/>
                </a:solidFill>
                <a:latin typeface="Myriad Web Pro"/>
              </a:rPr>
              <a:t> </a:t>
            </a:r>
            <a:r>
              <a:rPr b="0" lang="en-US" sz="6000" spc="-1" strike="noStrike">
                <a:solidFill>
                  <a:srgbClr val="0dc2ff"/>
                </a:solidFill>
                <a:latin typeface="Myriad Web Pro"/>
              </a:rPr>
              <a:t>LAB</a:t>
            </a:r>
            <a:r>
              <a:rPr b="0" lang="en-US" sz="6000" spc="-1" strike="noStrike">
                <a:solidFill>
                  <a:srgbClr val="ffffff"/>
                </a:solidFill>
                <a:latin typeface="Myriad Web Pro"/>
              </a:rPr>
              <a:t> </a:t>
            </a:r>
            <a:r>
              <a:rPr b="0" lang="en-US" sz="6000" spc="-1" strike="noStrike">
                <a:solidFill>
                  <a:srgbClr val="ff1812"/>
                </a:solidFill>
                <a:latin typeface="Myriad Web Pro"/>
              </a:rPr>
              <a:t>D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80880" y="380880"/>
            <a:ext cx="1214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19:12:49Z</dcterms:created>
  <dc:creator>PD Klein</dc:creator>
  <dc:description/>
  <dc:language>en-US</dc:language>
  <cp:lastModifiedBy>PD Klein</cp:lastModifiedBy>
  <dcterms:modified xsi:type="dcterms:W3CDTF">2011-08-11T20:03:53Z</dcterms:modified>
  <cp:revision>5</cp:revision>
  <dc:subject/>
  <dc:title>PowerPoint Presentation</dc:title>
</cp:coreProperties>
</file>