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699D-C1BC-434D-AB1A-1D96F5A08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nsas city maker f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D48-85E4-4865-AA00-4CB5DE1D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D8C-DE1B-4552-B095-AF254C95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E26-9305-4209-9010-628FB13C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48D-844B-408A-8383-47DC29C2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DD8-A11F-4EE2-B947-06F5CE6F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284-CF5B-4EA5-8C23-58FA2E21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AB5-7209-44C1-BCC6-15161E51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687-BAA8-441F-87E2-7A55EFC2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DC7-D0E0-4D8E-B042-4CEE205D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926-4A71-4981-9E86-008F2FE7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E2D-4F7B-4DD1-AB50-5CEF00CB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016-41FE-4260-BD44-31094AA6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BD4-341D-4FC6-9F1D-62E9A6838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1004760"/>
            <a:ext cx="3733920" cy="971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27160" y="53481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lorainccc.edu/f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214776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43400" y="38340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ademics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er Credit and non-credi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 fabrication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zed by various disciplin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ross campus (e.g. phys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and tested sever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 &amp; Geometry based fab la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s for 120 tenth gra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local inventor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preneurs, and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ter fab lab inspi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Outreach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ower under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d installation assista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raining for several la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ed build Cleveland’s mobi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b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0:17:52Z</dcterms:created>
  <dc:creator>rzitek</dc:creator>
  <dc:description/>
  <dc:language>en-US</dc:language>
  <cp:lastModifiedBy>rzitek</cp:lastModifiedBy>
  <dcterms:modified xsi:type="dcterms:W3CDTF">2011-08-15T05:59:05Z</dcterms:modified>
  <cp:revision>12</cp:revision>
  <dc:subject/>
  <dc:title>Slide 1</dc:title>
</cp:coreProperties>
</file>