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dt" idx="2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Candara"/>
              </a:rPr>
              <a:t>Click to move the slide</a:t>
            </a: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ftr" idx="2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 type="sldNum" idx="2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C532-8574-4A61-BBB2-7DE79F2E9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148D-C47F-4442-B218-2B3DBC4927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B4F4-EB7C-4017-984B-6FC7A869A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DAB6-2471-4F77-BD50-EB08872A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FCB9-730F-4077-9592-82C1C4B57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CEA8-6C12-4C4E-9FDE-1B78539E9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E9A4-9804-4E7A-A53E-BD6683034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AF76-89DD-4E6F-A321-B33E6F42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5579E-17C9-4A67-AB07-B7615F10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697F-B2A8-4B50-BFE0-879BA63A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5096-8F29-4459-A179-F34C03AD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4A92-E7CA-4248-8299-074C0C2F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A45B-C130-4264-9B30-837BC8B8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2541-BD1F-4425-8036-2E55E70C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065F-C3C9-4F46-A45C-FD61D869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68574-9F68-492C-B9C8-3EE96F8C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9EBA-CAD4-4A86-A0E0-26F2169C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26080-EF60-4660-AFD2-E3A60B01E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1CE2-07D8-41F2-8B37-43D9B79D6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6AD4E2-F92A-48F0-A3B5-91D79A41EA4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2BB1EF-3CD5-4B67-9C89-88CB0B81724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A3854C-F1EB-43DA-87AD-95D7168B9B4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44CD22-AD33-4375-82BA-046AC1582DA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384541-76BE-41FB-A07E-8A5DC7547A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581F-2D38-49A7-86BD-58792439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6AB758-600B-4355-A277-55ACC1B0322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5D958B-E5E5-4BAC-ACE8-79334B70D55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432DFB-4883-480A-BCDC-75924C21FCC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2C2FDE-FACA-4F29-A13C-DF8FFDF5247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9FD5AC-9EFA-42AB-8054-99F69FC9054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4B5CA3-8219-4604-8BD4-9A356264DCC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A4F2CC-AA2F-41D6-ACFE-2B613035139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564B02-2947-44DC-876C-907EA0808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5251F5-4570-4334-8CF7-9AA71C7A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D18ABD-9997-4882-ABE9-68DBFF06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7A74-35D2-4C80-A044-4128A26A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41785F-B8DD-4AED-926C-A63DE056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37F9C4-2187-4601-B7E7-4435C4BE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A8AF13-8BC1-4394-875F-D13ADB4C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F387B1-37F5-4603-928F-3B893561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2651D9-AC2E-482A-9C3B-5CF9BBB0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E9D192-6E31-4CB4-B1CE-A26BB5BF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D6A3FD-8CDF-4928-B0CF-618B818F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CE9A8F-593A-4191-979C-362E06ADD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3A01A3-75F9-4F56-BB0F-BA73E7146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8F55F-D36B-453B-9C97-39E27104E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340F-4E4C-4951-92D6-6D30A7AE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14D6B-D2BD-4396-AFAE-BB78346B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1065C-BAEA-4C84-BB91-7FAEE655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D18BF-58AB-4F00-85FA-D5A2BD4D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FDDAD-6876-48C1-A4D0-997AD2F2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F1E26-8F79-4207-9D7B-A6347F8C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5FC17-5E58-4BF4-9184-676A92CF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8653E-4197-4C2B-8A44-7DD7AFEA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F25EC-6B6E-4E91-B860-445A5EB4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37ACB-2596-40AB-A3C9-78B3B7B3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684D8-AD66-44F2-AD0B-28670C683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718F-1BB1-43F5-8410-648934B6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8AD6B-3024-4BE3-BAFE-F4974A040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C506B-A45E-4B7F-9B22-343200C23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ED3F8-2FFA-4808-8C30-AB51956C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63801-41D2-4504-B8C5-FA741B87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0D5C5-6203-4230-847F-32FAEDC7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3CFDF-36D6-4E3B-918E-2CC9924E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556D3-E3A5-4E29-9B43-C85402D6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A0261-1421-4FC6-BECA-EB6DB18B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0664C-917E-457B-89AB-FA086A2F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34037-A729-4212-BB81-2EA5DA30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931A-E2FE-41B9-A6A9-681B99E7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892F7-7BB3-4A33-936A-A2C7EB56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0EF46-C50B-4EA0-A15E-6CE576424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37DC6-0AE2-4D90-9629-3795B3042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DAFFA-DEEC-49E4-B288-BC9B2BE1A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BF469-4B02-401E-86D5-00042B6A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E09A6-1404-437E-9C56-E732AC5A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76740-B727-4E21-95D1-569EE6F8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87CC5-E5E9-415A-BB51-D5BD7E44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3F88C-8EA0-4985-96AD-064F736C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B9E5B-A586-4549-A543-4CB61B41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AC95-2779-47CE-9362-183C80E7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9D018-2619-40D0-91FA-911BE41E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53F1F-2094-4F7F-8846-055FC440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A537A-B479-45AA-AF99-5D58F57E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BC621-9479-4F4C-9579-B0EBA67BC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0B516-08F6-44B5-9D13-278204864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E316-E90F-45EE-ABA5-0DBCC7F1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Candara"/>
              </a:rPr>
              <a:t>Click to edit the title text format</a:t>
            </a: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e1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ff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73EF-D24B-44C9-A03C-FD76DCDEDAE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00206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00206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00206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00206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00206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traight Connector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002060">
                <a:alpha val="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traight Connector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00a44a">
                <a:alpha val="9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traight Connector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003192">
                <a:alpha val="6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traight Connector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traight Connector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053e8d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Oval 20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val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053e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Oval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0a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Oval 2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val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00a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Candara"/>
              </a:rPr>
              <a:t>Click to edit the title text format</a:t>
            </a: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e1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ff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E094-CACF-41FD-9042-C1B5EA2B870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22"/>
          <p:cNvSpPr/>
          <p:nvPr/>
        </p:nvSpPr>
        <p:spPr>
          <a:xfrm>
            <a:off x="8153280" y="5715000"/>
            <a:ext cx="53352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13" descr="fab_circle.jpg"/>
          <p:cNvPicPr/>
          <p:nvPr/>
        </p:nvPicPr>
        <p:blipFill>
          <a:blip r:embed="rId2"/>
          <a:stretch/>
        </p:blipFill>
        <p:spPr>
          <a:xfrm>
            <a:off x="8077320" y="6108840"/>
            <a:ext cx="596880" cy="596880"/>
          </a:xfrm>
          <a:prstGeom prst="rect">
            <a:avLst/>
          </a:prstGeom>
          <a:ln w="0">
            <a:noFill/>
          </a:ln>
        </p:spPr>
      </p:pic>
      <p:sp>
        <p:nvSpPr>
          <p:cNvPr id="112" name="Straight Connector 10"/>
          <p:cNvSpPr/>
          <p:nvPr/>
        </p:nvSpPr>
        <p:spPr>
          <a:xfrm>
            <a:off x="457200" y="1219320"/>
            <a:ext cx="7924680" cy="0"/>
          </a:xfrm>
          <a:prstGeom prst="line">
            <a:avLst/>
          </a:prstGeom>
          <a:ln w="31680">
            <a:solidFill>
              <a:srgbClr val="c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053e8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traight Connector 18"/>
          <p:cNvSpPr/>
          <p:nvPr/>
        </p:nvSpPr>
        <p:spPr>
          <a:xfrm>
            <a:off x="92160" y="0"/>
            <a:ext cx="0" cy="6858000"/>
          </a:xfrm>
          <a:prstGeom prst="line">
            <a:avLst/>
          </a:prstGeom>
          <a:ln w="57240">
            <a:solidFill>
              <a:srgbClr val="00a44a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traight Connector 17"/>
          <p:cNvSpPr/>
          <p:nvPr/>
        </p:nvSpPr>
        <p:spPr>
          <a:xfrm>
            <a:off x="119160" y="0"/>
            <a:ext cx="0" cy="6858000"/>
          </a:xfrm>
          <a:prstGeom prst="line">
            <a:avLst/>
          </a:prstGeom>
          <a:ln w="9360">
            <a:solidFill>
              <a:srgbClr val="ff00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19"/>
          <p:cNvSpPr/>
          <p:nvPr/>
        </p:nvSpPr>
        <p:spPr>
          <a:xfrm>
            <a:off x="8763120" y="0"/>
            <a:ext cx="380880" cy="6858000"/>
          </a:xfrm>
          <a:prstGeom prst="rect">
            <a:avLst/>
          </a:prstGeom>
          <a:solidFill>
            <a:srgbClr val="053e8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traight Connector 2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00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traight Connector 20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76320">
            <a:solidFill>
              <a:srgbClr val="00a44a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Candara"/>
              </a:rPr>
              <a:t>Click to edit the title text format</a:t>
            </a: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e1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ff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7"/>
          </p:nvPr>
        </p:nvSpPr>
        <p:spPr>
          <a:xfrm>
            <a:off x="8076960" y="6119280"/>
            <a:ext cx="60948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53e8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86C2-4626-4FF0-9E7F-D37D612362E7}" type="slidenum">
              <a:rPr b="1" lang="en-US" sz="1200" spc="-1" strike="noStrike">
                <a:solidFill>
                  <a:srgbClr val="053e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faa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cbc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cbc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7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traight Connector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faa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traight Connector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7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traight Connector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f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traight Connector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faa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traight Connector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f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faa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Oval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Oval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Oval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Oval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Oval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traight Connector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f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192"/>
                </a:solidFill>
                <a:latin typeface="Candara"/>
              </a:rPr>
              <a:t>Click to edit the title text format</a:t>
            </a:r>
            <a:endParaRPr b="0" lang="en-US" sz="3000" spc="-1" strike="noStrike">
              <a:solidFill>
                <a:srgbClr val="003192"/>
              </a:solidFill>
              <a:latin typeface="Candar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e1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ff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8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9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0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6FF1-E110-43EE-99F8-E988658ECA5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8" descr="fab_circle.jpg"/>
          <p:cNvPicPr/>
          <p:nvPr/>
        </p:nvPicPr>
        <p:blipFill>
          <a:blip r:embed="rId2"/>
          <a:stretch/>
        </p:blipFill>
        <p:spPr>
          <a:xfrm>
            <a:off x="8129520" y="5695920"/>
            <a:ext cx="596880" cy="5986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Candara"/>
              </a:rPr>
              <a:t>Click to edit the title text format</a:t>
            </a: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e1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ff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sldNum" idx="1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AB7E-68FB-4253-8410-197DA51A2891}" type="slidenum">
              <a:rPr b="1" lang="en-US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ftr" idx="1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traight Connector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traight Connector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f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traight Connector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traight Connector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traight Connector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Oval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Candara"/>
              </a:rPr>
              <a:t>Click to edit the title text format</a:t>
            </a: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e1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ff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sldNum" idx="1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BD2A-F02D-4B51-88D1-3CF9C009FCD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1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traight Connector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Oval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traight Connector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traight Connector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traight Connector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f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traight Connector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Candara"/>
              </a:rPr>
              <a:t>Click to edit the title text format</a:t>
            </a:r>
            <a:endParaRPr b="0" lang="en-US" sz="3000" spc="-1" strike="noStrike">
              <a:solidFill>
                <a:srgbClr val="002060"/>
              </a:solidFill>
              <a:latin typeface="Candar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e1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ff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sldNum" idx="1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9E75-2BC2-45BB-B61D-2FAEE21844E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ftr" idx="1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usfln.wordpress.com/about/" TargetMode="External"/><Relationship Id="rId3" Type="http://schemas.openxmlformats.org/officeDocument/2006/relationships/hyperlink" Target="http://usfln.wordpress.com/about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www.bvcaps.org/" TargetMode="External"/><Relationship Id="rId6" Type="http://schemas.openxmlformats.org/officeDocument/2006/relationships/image" Target="../media/image2.png"/><Relationship Id="rId7" Type="http://schemas.openxmlformats.org/officeDocument/2006/relationships/hyperlink" Target="http://www.matecnetworks.org/" TargetMode="External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hyperlink" Target="http://www.fablabtulsa.org/" TargetMode="External"/><Relationship Id="rId15" Type="http://schemas.openxmlformats.org/officeDocument/2006/relationships/image" Target="../media/image2.png"/><Relationship Id="rId16" Type="http://schemas.openxmlformats.org/officeDocument/2006/relationships/image" Target="../media/image3.jpeg"/><Relationship Id="rId17" Type="http://schemas.openxmlformats.org/officeDocument/2006/relationships/slideLayout" Target="../slideLayouts/slideLayout25.xml"/><Relationship Id="rId1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usfln.org/docs/Guide%20request%20Form.pdf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usfln.files.wordpress.com/2011/05/webinar_may20_notesguide.pdf" TargetMode="External"/><Relationship Id="rId5" Type="http://schemas.openxmlformats.org/officeDocument/2006/relationships/image" Target="../media/image2.png"/><Relationship Id="rId6" Type="http://schemas.openxmlformats.org/officeDocument/2006/relationships/hyperlink" Target="file:///../Local%20Settings/Temp/usfln.wordpress.com/2011/05/25/webinar-recording-now-online" TargetMode="External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3.jpeg"/><Relationship Id="rId1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456840" y="12949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53e8d"/>
                </a:solidFill>
                <a:uFillTx/>
                <a:latin typeface="Candara"/>
              </a:rPr>
              <a:t>USFLN Mi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United States Fab Lab Network (USFLN) promotes responsible collaboration in digital fabrication.  It evolved in November 2009 from the regional Midwest Fab Lab Network (MFLN, formed in December 2006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mission of the USFLN, in the spirit of The (MIT) Fab Charter, is to support digital fabrication in academics, business, and community outreach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99"/>
              </a:spcBef>
              <a:buClr>
                <a:srgbClr val="00a44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 academics, the USFLN encourages Fab Labs to engage students and teachers in Science, Technology, Engineering, and Mathematics (STEM), as well as other disciplin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99"/>
              </a:spcBef>
              <a:buClr>
                <a:srgbClr val="00a44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 business, it promotes invention, entrepreneurship, and skills needed for a 21st-century global economy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99"/>
              </a:spcBef>
              <a:buClr>
                <a:srgbClr val="00a44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 community outreach, it makes resources available to empower underserved and non-traditional population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USFLN fosters innovation and creativity that contribute to the nation'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ll-being.  Membership is open to any person and/or organization that follows The (MIT) Fab Chart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pdated: January 27, 20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4"/>
          <p:cNvSpPr/>
          <p:nvPr/>
        </p:nvSpPr>
        <p:spPr>
          <a:xfrm>
            <a:off x="8077320" y="6119640"/>
            <a:ext cx="6094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608F-EDFC-41C6-8908-089CC2CAA756}" type="slidenum">
              <a:rPr b="1" lang="en-US" sz="1200" spc="-1" strike="noStrike">
                <a:solidFill>
                  <a:srgbClr val="053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8" name="Picture 6" descr="USFLN_logo_August.jpg"/>
          <p:cNvPicPr/>
          <p:nvPr/>
        </p:nvPicPr>
        <p:blipFill>
          <a:blip r:embed="rId4"/>
          <a:stretch/>
        </p:blipFill>
        <p:spPr>
          <a:xfrm>
            <a:off x="533520" y="76320"/>
            <a:ext cx="335592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57200" y="12189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53e8d"/>
                </a:solidFill>
                <a:uFillTx/>
                <a:latin typeface="Candara"/>
              </a:rPr>
              <a:t>Recent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3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SFLN Mission revised &amp; Membership Guidelines drafted, 1/2011. Available online: </a:t>
            </a:r>
            <a:r>
              <a:rPr b="0" lang="en-US" sz="1200" spc="-1" strike="noStrike" u="sng">
                <a:solidFill>
                  <a:srgbClr val="c00000"/>
                </a:solidFill>
                <a:uFillTx/>
                <a:latin typeface="Calibri"/>
                <a:hlinkClick r:id="rId2"/>
              </a:rPr>
              <a:t>usfln.wordpress.com</a:t>
            </a:r>
            <a:r>
              <a:rPr b="0" lang="en-US" sz="1200" spc="-1" strike="noStrike" u="sng">
                <a:solidFill>
                  <a:srgbClr val="c00000"/>
                </a:solidFill>
                <a:uFillTx/>
                <a:latin typeface="Calibri"/>
                <a:hlinkClick r:id="rId3"/>
              </a:rPr>
              <a:t>/ab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Annual Symposium, January 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99"/>
              </a:spcBef>
              <a:buClr>
                <a:srgbClr val="00a44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-and-a-half-day symposium held in Kansas City, Kansas.  Hosted by Blue Valley CAPS (Center for Advanced Professional Studies) – </a:t>
            </a:r>
            <a:r>
              <a:rPr b="0" lang="en-US" sz="1200" spc="-1" strike="noStrike" u="sng">
                <a:solidFill>
                  <a:srgbClr val="c00000"/>
                </a:solidFill>
                <a:uFillTx/>
                <a:latin typeface="Calibri"/>
                <a:hlinkClick r:id="rId5"/>
              </a:rPr>
              <a:t>www.bvcaps.or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99"/>
              </a:spcBef>
              <a:buClr>
                <a:srgbClr val="00a44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ations &amp; speakers were broadcast via MIT MCU/Polyc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3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(Pilot) Webinar: Fab Lab Lifecycle (Planning &amp; Justification), May 2011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99"/>
              </a:spcBef>
              <a:buClr>
                <a:srgbClr val="00a44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webinar in a two-part series. Hosted by MATEC – </a:t>
            </a:r>
            <a:r>
              <a:rPr b="0" lang="en-US" sz="1200" spc="-1" strike="noStrike" u="sng">
                <a:solidFill>
                  <a:srgbClr val="c00000"/>
                </a:solidFill>
                <a:uFillTx/>
                <a:latin typeface="Calibri"/>
                <a:hlinkClick r:id="rId7"/>
              </a:rPr>
              <a:t>www.matecnetworks.or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99"/>
              </a:spcBef>
              <a:buClr>
                <a:srgbClr val="00a44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binar guide and full webinar available onli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3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ansas City Maker Faire, June 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99"/>
              </a:spcBef>
              <a:buClr>
                <a:srgbClr val="00a44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FLN tent with members from Fab Labs across the US: Champaign-Urbana Community Fab Lab (Illinois), Lorain County Community College (Ohio), M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High School Mobile Fab Lab (Ohio), Chicago Museum of Science &amp; Industry (Illinois), BV CAPS (Kansas), Metropolitan Community College (Missiouri), and Community College of Baltimore County (Marylan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99"/>
              </a:spcBef>
              <a:buClr>
                <a:srgbClr val="00a44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ted by Dale Dougherty (O’Reilly Media and MAKE magazine), and via polycom by Neil Gershenfeld &amp; Sherry Lassi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99"/>
              </a:spcBef>
              <a:buClr>
                <a:srgbClr val="00a44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sponsorship by Kauffman Foundation and 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3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dependent consultant hired to revise mission, vision, &amp; develop 5-year strategic plan to determine best ways to serve USFLN members.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53e8d"/>
                </a:solidFill>
                <a:uFillTx/>
                <a:latin typeface="Candara"/>
              </a:rPr>
              <a:t>A Few Upcoming Pl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3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ebsite revision – currently underway, to be launched end of August 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3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gital Fabrication Learning Community project, 7/2011 – 6/201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3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Webinar: Fab Lab Lifecycle (Development and Sustainability) , Sept 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3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USFLN Symposium 2012: April 10</a:t>
            </a:r>
            <a:r>
              <a:rPr b="1" lang="en-US" sz="1400" spc="-1" strike="noStrike" u="sng" baseline="30000">
                <a:solidFill>
                  <a:srgbClr val="000000"/>
                </a:solidFill>
                <a:uFillTx/>
                <a:latin typeface="Calibri"/>
              </a:rPr>
              <a:t>th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 – 12</a:t>
            </a:r>
            <a:r>
              <a:rPr b="1" lang="en-US" sz="1400" spc="-1" strike="noStrike" u="sng" baseline="30000">
                <a:solidFill>
                  <a:srgbClr val="000000"/>
                </a:solidFill>
                <a:uFillTx/>
                <a:latin typeface="Calibri"/>
              </a:rPr>
              <a:t>th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 at Fab Lab Tulsa (Oklahoma)!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400" spc="-1" strike="noStrike" u="sng">
                <a:solidFill>
                  <a:srgbClr val="c00000"/>
                </a:solidFill>
                <a:uFillTx/>
                <a:latin typeface="Calibri"/>
                <a:hlinkClick r:id="rId14"/>
              </a:rPr>
              <a:t>fablabtulsa.or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4"/>
          <p:cNvSpPr/>
          <p:nvPr/>
        </p:nvSpPr>
        <p:spPr>
          <a:xfrm>
            <a:off x="8077320" y="6119640"/>
            <a:ext cx="6094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4368-CDD6-4D9B-8EDA-AADABC939DE0}" type="slidenum">
              <a:rPr b="1" lang="en-US" sz="1200" spc="-1" strike="noStrike">
                <a:solidFill>
                  <a:srgbClr val="053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Picture 6" descr="USFLN_logo_August.jpg"/>
          <p:cNvPicPr/>
          <p:nvPr/>
        </p:nvPicPr>
        <p:blipFill>
          <a:blip r:embed="rId16"/>
          <a:stretch/>
        </p:blipFill>
        <p:spPr>
          <a:xfrm>
            <a:off x="533520" y="106200"/>
            <a:ext cx="335592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6840" y="12949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53e8d"/>
                </a:solidFill>
                <a:uFillTx/>
                <a:latin typeface="Candara"/>
              </a:rPr>
              <a:t>Products Avail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ree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planning guides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, developed as part of the Midwest Digital Fabrication Partnership grant from the National Science Foundation: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00a44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Initial Planning Guid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00a44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Fab Lab Introduction Guid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00a44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Fab Lab Instruction Guid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00a44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vailable, at no cost, by request: </a:t>
            </a:r>
            <a:r>
              <a:rPr b="1" lang="en-US" sz="1300" spc="-1" strike="noStrike" u="sng">
                <a:solidFill>
                  <a:srgbClr val="c00000"/>
                </a:solidFill>
                <a:uFillTx/>
                <a:latin typeface="Calibri"/>
                <a:hlinkClick r:id="rId2"/>
              </a:rPr>
              <a:t>www.usfln.org/docs/Guide%20request%20Form.pdf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Webinar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Discussion Guid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300" spc="-1" strike="noStrike" u="sng">
                <a:solidFill>
                  <a:srgbClr val="c00000"/>
                </a:solidFill>
                <a:uFillTx/>
                <a:latin typeface="Calibri"/>
                <a:hlinkClick r:id="rId4"/>
              </a:rPr>
              <a:t>usfln.files.wordpress.com/2011/05/webinar_may20_notesguide.pdf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ab Lab Lifecycle (Planning &amp; Justification)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webinar recording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: </a:t>
            </a:r>
            <a:br>
              <a:rPr sz="1700"/>
            </a:b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llow instructions at this blog post: </a:t>
            </a:r>
            <a:r>
              <a:rPr b="0" lang="en-US" sz="1300" spc="-1" strike="noStrike" u="sng">
                <a:solidFill>
                  <a:srgbClr val="c00000"/>
                </a:solidFill>
                <a:uFillTx/>
                <a:latin typeface="Calibri"/>
                <a:hlinkClick r:id="rId6"/>
              </a:rPr>
              <a:t>usfln.wordpress.com/2011/05/25/webinar-recording-now-onl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Project instructions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vailable at PBWorks: </a:t>
            </a:r>
            <a:r>
              <a:rPr b="0" i="1" lang="en-US" sz="1300" spc="-1" strike="noStrike">
                <a:solidFill>
                  <a:srgbClr val="000000"/>
                </a:solidFill>
                <a:latin typeface="Calibri"/>
              </a:rPr>
              <a:t>fablabprojects.pbworks.com</a:t>
            </a:r>
            <a:br>
              <a:rPr sz="13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ote:  Follow the instructions to submit a request to the administrator in order to gain access.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53e8d"/>
                </a:solidFill>
                <a:uFillTx/>
                <a:latin typeface="Candara"/>
              </a:rPr>
              <a:t>Resour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USFLN website: 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www.usfln.org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USFLN blog/transition site: 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usfln.wordpress.co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USFLN Facebook page: 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www.facebook.com/pages/United-States-Fab-Lab-Network/10974608242100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USFLN on Twitter: 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twitter.com/#usfln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4"/>
          <p:cNvSpPr/>
          <p:nvPr/>
        </p:nvSpPr>
        <p:spPr>
          <a:xfrm>
            <a:off x="8077320" y="6119640"/>
            <a:ext cx="6094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0769-558B-4756-ADC4-CA54DF2FAC5F}" type="slidenum">
              <a:rPr b="1" lang="en-US" sz="1200" spc="-1" strike="noStrike">
                <a:solidFill>
                  <a:srgbClr val="053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4" name="Picture 6" descr="USFLN_logo_August.jpg"/>
          <p:cNvPicPr/>
          <p:nvPr/>
        </p:nvPicPr>
        <p:blipFill>
          <a:blip r:embed="rId12"/>
          <a:stretch/>
        </p:blipFill>
        <p:spPr>
          <a:xfrm>
            <a:off x="533520" y="106200"/>
            <a:ext cx="335592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4:02:42Z</dcterms:created>
  <dc:creator>Carol King</dc:creator>
  <dc:description/>
  <dc:language>en-US</dc:language>
  <cp:lastModifiedBy>rzitek</cp:lastModifiedBy>
  <dcterms:modified xsi:type="dcterms:W3CDTF">2011-08-15T04:49:48Z</dcterms:modified>
  <cp:revision>47</cp:revision>
  <dc:subject/>
  <dc:title>What is a Fab Lab?</dc:title>
</cp:coreProperties>
</file>