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C:\CDSHARE\TASA\CORPORATE IMAGE DOCUMENTATION\PROVINCES\TI PROVINCES\LTI\lti ppt\lti ppt slide master.jpg"/>
          <p:cNvPicPr/>
          <p:nvPr/>
        </p:nvPicPr>
        <p:blipFill>
          <a:blip r:embed="rId2"/>
          <a:srcRect l="0" t="2110" r="0" b="5882"/>
          <a:stretch/>
        </p:blipFill>
        <p:spPr>
          <a:xfrm>
            <a:off x="-1143000" y="0"/>
            <a:ext cx="10820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6" descr="C:\CDSHARE\TASA\CORPORATE IMAGE DOCUMENTATION\PROVINCES\TI PROVINCES\LTI\lti ppt\lti ppt tit;e master 2.jpg"/>
          <p:cNvPicPr/>
          <p:nvPr/>
        </p:nvPicPr>
        <p:blipFill>
          <a:blip r:embed="rId2"/>
          <a:srcRect l="0" t="2160" r="0" b="0"/>
          <a:stretch/>
        </p:blipFill>
        <p:spPr>
          <a:xfrm>
            <a:off x="-1219320" y="0"/>
            <a:ext cx="10591920" cy="68976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6e7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06e7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8f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8f9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f8f9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f8f9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8f97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f8f97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f8f9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8f9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f8f97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f8f97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8f97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f8f97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f8f97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8f97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f8f97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8f8f9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8f97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f8f97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8f8f9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8f97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508720" y="5300640"/>
            <a:ext cx="3779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0000"/>
                </a:solidFill>
                <a:latin typeface="Bernard MT Condensed"/>
              </a:rPr>
              <a:t>Limpopo Fablab</a:t>
            </a:r>
            <a:endParaRPr b="1" lang="en-US" sz="3200" spc="-1" strike="noStrike">
              <a:solidFill>
                <a:srgbClr val="8f8f9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0000"/>
                </a:solidFill>
                <a:latin typeface="Bernard MT Condensed"/>
              </a:rPr>
              <a:t>Represented by:</a:t>
            </a:r>
            <a:endParaRPr b="1" lang="en-US" sz="2000" spc="-1" strike="noStrike">
              <a:solidFill>
                <a:srgbClr val="8f8f9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0000"/>
                </a:solidFill>
                <a:latin typeface="Bernard MT Condensed"/>
              </a:rPr>
              <a:t>Mr David Mdungazi</a:t>
            </a:r>
            <a:endParaRPr b="1" lang="en-US" sz="2000" spc="-1" strike="noStrike">
              <a:solidFill>
                <a:srgbClr val="8f8f9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0000"/>
                </a:solidFill>
                <a:latin typeface="Bernard MT Condensed"/>
              </a:rPr>
              <a:t>Ms Noksy Letsoalo</a:t>
            </a:r>
            <a:endParaRPr b="1" lang="en-US" sz="20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6721560" y="646200"/>
            <a:ext cx="22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100" spc="-1" strike="noStrike">
                <a:solidFill>
                  <a:srgbClr val="ffffff"/>
                </a:solidFill>
                <a:latin typeface="Times New Roman"/>
              </a:rPr>
              <a:t>Limpopo Fabrication Laboratory</a:t>
            </a:r>
            <a:endParaRPr b="1" lang="en-US" sz="11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Noksy L\Pictures\Work\Rons Photos\Mokopane 02 August 2011\Temp\Mokpane02a-08.tif"/>
          <p:cNvPicPr/>
          <p:nvPr/>
        </p:nvPicPr>
        <p:blipFill>
          <a:blip r:embed="rId1"/>
          <a:stretch/>
        </p:blipFill>
        <p:spPr>
          <a:xfrm>
            <a:off x="2170080" y="328680"/>
            <a:ext cx="7182000" cy="4060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Noksy L\Pictures\Work\Fablab Launch 14th Feb\DSCN5458.JPG"/>
          <p:cNvPicPr/>
          <p:nvPr/>
        </p:nvPicPr>
        <p:blipFill>
          <a:blip r:embed="rId2"/>
          <a:stretch/>
        </p:blipFill>
        <p:spPr>
          <a:xfrm>
            <a:off x="5718240" y="2341440"/>
            <a:ext cx="3432240" cy="332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Noksy L\Pictures\Work\FabKidz Sessions\01082011468.jpg"/>
          <p:cNvPicPr/>
          <p:nvPr/>
        </p:nvPicPr>
        <p:blipFill>
          <a:blip r:embed="rId3"/>
          <a:stretch/>
        </p:blipFill>
        <p:spPr>
          <a:xfrm>
            <a:off x="2548080" y="2341440"/>
            <a:ext cx="3146400" cy="411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-165240" y="4948200"/>
            <a:ext cx="5715000" cy="990720"/>
          </a:xfrm>
          <a:prstGeom prst="rect">
            <a:avLst/>
          </a:prstGeom>
          <a:solidFill>
            <a:srgbClr val="e5d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-228600" y="5105520"/>
            <a:ext cx="315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Arial Narrow"/>
              </a:rPr>
              <a:t>THANK YOU</a:t>
            </a:r>
            <a:endParaRPr b="1" lang="en-US" sz="4800" spc="-1" strike="noStrike">
              <a:solidFill>
                <a:srgbClr val="8f8f97"/>
              </a:solidFill>
              <a:latin typeface="Times New Roman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6721560" y="646200"/>
            <a:ext cx="22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100" spc="-1" strike="noStrike">
                <a:solidFill>
                  <a:srgbClr val="ffffff"/>
                </a:solidFill>
                <a:latin typeface="Times New Roman"/>
              </a:rPr>
              <a:t>Limpopo Fabrication Laboratory</a:t>
            </a:r>
            <a:endParaRPr b="1" lang="en-US" sz="1100" spc="-1" strike="noStrike">
              <a:solidFill>
                <a:srgbClr val="8f8f97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9:29:09Z</dcterms:created>
  <dc:creator>Dallas Sparg</dc:creator>
  <dc:description/>
  <dc:language>en-US</dc:language>
  <cp:lastModifiedBy>LinkSheraton_2</cp:lastModifiedBy>
  <dcterms:modified xsi:type="dcterms:W3CDTF">2011-08-16T02:56:14Z</dcterms:modified>
  <cp:revision>128</cp:revision>
  <dc:subject/>
  <dc:title>PowerPoint Presentation</dc:title>
</cp:coreProperties>
</file>