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2496-A8CF-43B2-A7AA-D33990C9B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9B7F-67A1-427E-B1E3-6E5A58221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374C-1022-4606-B530-0506F277D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CC78-BF85-4410-A52F-FCCC6AAB4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F13D-38AB-4B86-9831-D4A11D29B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D1D6-C806-4974-A2C3-1101EC33C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FC92-4CB0-4100-B43D-857672A43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B2DF-5381-423E-88DA-232A91F8E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45BC-C653-4578-AE51-7AD3AEF96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945-2731-4DA6-83AF-3FA7D09E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145-279F-419D-B79F-151F5D1B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656-7A36-4D18-99E5-3E252EFB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D5E-7F65-4BBD-848E-6055B0C2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24C-7936-4AC3-A3D9-31B81EF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906-F84C-459C-9D1D-097601E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EE7-6EAC-4F83-AF1C-664C3385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937-1116-4F20-A876-15AD132B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2D1-0AD6-47B9-923A-F321F641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EDB-5BE0-41EE-AE56-F8BE3A7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62E-D27A-4F20-8FC7-09C2CAF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F0B-093B-4293-88B0-B5F4858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4FE-1485-4A8E-B4C4-89A3A796D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8" descr="_x000e_ppt_temp_2.jpg                                                 0003AA2C_x0006_40 gig                         B5E1B1D7:"/>
          <p:cNvPicPr/>
          <p:nvPr/>
        </p:nvPicPr>
        <p:blipFill>
          <a:blip r:embed="rId1"/>
          <a:srcRect l="0" t="0" r="87017" b="828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14200" y="689040"/>
            <a:ext cx="877572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In Pursuit of Finnegan’s DAS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600920" y="4533840"/>
            <a:ext cx="596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ohsA  yhtroomanhsi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&#9;title.jpg                                                      0003AA2C_x0006_40 gig                         B5E1B1D7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arallelogram 7"/>
          <p:cNvSpPr/>
          <p:nvPr/>
        </p:nvSpPr>
        <p:spPr>
          <a:xfrm>
            <a:off x="3068640" y="1566720"/>
            <a:ext cx="1684440" cy="408240"/>
          </a:xfrm>
          <a:prstGeom prst="parallelogram">
            <a:avLst>
              <a:gd name="adj" fmla="val 3944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49120" y="3336840"/>
            <a:ext cx="87757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Oval 8"/>
          <p:cNvGrpSpPr/>
          <p:nvPr/>
        </p:nvGrpSpPr>
        <p:grpSpPr>
          <a:xfrm>
            <a:off x="4956120" y="1620720"/>
            <a:ext cx="122400" cy="79560"/>
            <a:chOff x="4956120" y="1620720"/>
            <a:chExt cx="122400" cy="79560"/>
          </a:xfrm>
        </p:grpSpPr>
        <p:pic>
          <p:nvPicPr>
            <p:cNvPr id="58" name="Oval 8" descr=""/>
            <p:cNvPicPr/>
            <p:nvPr/>
          </p:nvPicPr>
          <p:blipFill>
            <a:blip r:embed="rId2"/>
            <a:stretch/>
          </p:blipFill>
          <p:spPr>
            <a:xfrm>
              <a:off x="4956120" y="1620720"/>
              <a:ext cx="12240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978440" y="1639800"/>
              <a:ext cx="777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Rectangle 6"/>
          <p:cNvSpPr/>
          <p:nvPr/>
        </p:nvSpPr>
        <p:spPr>
          <a:xfrm>
            <a:off x="3181320" y="1528920"/>
            <a:ext cx="15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DA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42920" y="2855880"/>
            <a:ext cx="8775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Concep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_x000e_ppt_temp_2.jpg                                                 0003AA2C_x0006_40 gig                         B5E1B1D7:"/>
          <p:cNvPicPr/>
          <p:nvPr/>
        </p:nvPicPr>
        <p:blipFill>
          <a:blip r:embed="rId1"/>
          <a:srcRect l="0" t="0" r="87017" b="828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293840" y="922320"/>
            <a:ext cx="7527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DASER is possi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a matter of the correct frame of 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29"/>
          <p:cNvGrpSpPr/>
          <p:nvPr/>
        </p:nvGrpSpPr>
        <p:grpSpPr>
          <a:xfrm>
            <a:off x="1504800" y="4692600"/>
            <a:ext cx="5799240" cy="1895040"/>
            <a:chOff x="1504800" y="4692600"/>
            <a:chExt cx="5799240" cy="1895040"/>
          </a:xfrm>
        </p:grpSpPr>
        <p:grpSp>
          <p:nvGrpSpPr>
            <p:cNvPr id="67" name="Right Arrow 13"/>
            <p:cNvGrpSpPr/>
            <p:nvPr/>
          </p:nvGrpSpPr>
          <p:grpSpPr>
            <a:xfrm>
              <a:off x="1504800" y="4692600"/>
              <a:ext cx="5799240" cy="1895040"/>
              <a:chOff x="1504800" y="4692600"/>
              <a:chExt cx="5799240" cy="1895040"/>
            </a:xfrm>
          </p:grpSpPr>
          <p:pic>
            <p:nvPicPr>
              <p:cNvPr id="68" name="Right Arrow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4800" y="4692600"/>
                <a:ext cx="5799240" cy="18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20797800">
                <a:off x="1562760" y="5429160"/>
                <a:ext cx="544320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" name="Picture 2" descr=""/>
            <p:cNvPicPr/>
            <p:nvPr/>
          </p:nvPicPr>
          <p:blipFill>
            <a:blip r:embed="rId3"/>
            <a:stretch/>
          </p:blipFill>
          <p:spPr>
            <a:xfrm>
              <a:off x="6303240" y="4965840"/>
              <a:ext cx="618480" cy="5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Straight Connector 16"/>
            <p:cNvSpPr/>
            <p:nvPr/>
          </p:nvSpPr>
          <p:spPr>
            <a:xfrm>
              <a:off x="2996640" y="564624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18"/>
            <p:cNvSpPr/>
            <p:nvPr/>
          </p:nvSpPr>
          <p:spPr>
            <a:xfrm>
              <a:off x="3132360" y="563436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19"/>
            <p:cNvSpPr/>
            <p:nvPr/>
          </p:nvSpPr>
          <p:spPr>
            <a:xfrm>
              <a:off x="2744640" y="570564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20"/>
            <p:cNvSpPr/>
            <p:nvPr/>
          </p:nvSpPr>
          <p:spPr>
            <a:xfrm>
              <a:off x="2880360" y="567432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21"/>
            <p:cNvSpPr/>
            <p:nvPr/>
          </p:nvSpPr>
          <p:spPr>
            <a:xfrm>
              <a:off x="2475720" y="576000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22"/>
            <p:cNvSpPr/>
            <p:nvPr/>
          </p:nvSpPr>
          <p:spPr>
            <a:xfrm>
              <a:off x="2611440" y="573624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23"/>
            <p:cNvSpPr/>
            <p:nvPr/>
          </p:nvSpPr>
          <p:spPr>
            <a:xfrm>
              <a:off x="2199960" y="581400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4"/>
            <p:cNvSpPr/>
            <p:nvPr/>
          </p:nvSpPr>
          <p:spPr>
            <a:xfrm>
              <a:off x="2335680" y="578268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25"/>
            <p:cNvSpPr/>
            <p:nvPr/>
          </p:nvSpPr>
          <p:spPr>
            <a:xfrm>
              <a:off x="2058480" y="584280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26"/>
            <p:cNvSpPr/>
            <p:nvPr/>
          </p:nvSpPr>
          <p:spPr>
            <a:xfrm>
              <a:off x="1782720" y="590220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27"/>
            <p:cNvSpPr/>
            <p:nvPr/>
          </p:nvSpPr>
          <p:spPr>
            <a:xfrm>
              <a:off x="1918800" y="587088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28"/>
            <p:cNvSpPr/>
            <p:nvPr/>
          </p:nvSpPr>
          <p:spPr>
            <a:xfrm>
              <a:off x="1668960" y="5922720"/>
              <a:ext cx="17388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_x000e_ppt_temp_2.jpg                                                 0003AA2C_x0006_40 gig                         B5E1B1D7:"/>
          <p:cNvPicPr/>
          <p:nvPr/>
        </p:nvPicPr>
        <p:blipFill>
          <a:blip r:embed="rId1"/>
          <a:srcRect l="0" t="0" r="87017" b="828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3"/>
          <p:cNvSpPr/>
          <p:nvPr/>
        </p:nvSpPr>
        <p:spPr>
          <a:xfrm>
            <a:off x="866880" y="5508720"/>
            <a:ext cx="889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92240" y="1484280"/>
            <a:ext cx="8775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DASER Point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7 0.00556 C -0.01597 0.01111 -0.02569 0.0169 -0.0335 0.02917 C -0.04132 0.04144 -0.04843 0.05833 -0.05295 0.0787 C -0.05746 0.09907 -0.06979 0.13565 -0.06093 0.15185 C -0.05208 0.16806 -0.01493 0.17801 0.00035 0.17546 C 0.01563 0.17292 0.0217 0.15463 0.03108 0.13681 C 0.04045 0.11898 0.04844 0.08264 0.05677 0.06782 C 0.06511 0.05301 0.07118 0.04676 0.08108 0.04861 C 0.09098 0.05046 0.10955 0.06945 0.1165 0.0787 C 0.12344 0.08796 0.11979 0.09213 0.12292 0.1044 C 0.12604 0.11667 0.12743 0.14213 0.13577 0.15185 C 0.1441 0.16157 0.15955 0.17292 0.17292 0.1625 C 0.18629 0.15208 0.20729 0.11759 0.2165 0.08935 C 0.2257 0.06111 0.22778 0.01991 0.22778 -0.00741 C 0.22778 -0.03472 0.22431 -0.03333 0.2165 -0.07407 C 0.20868 -0.11481 0.20469 -0.21319 0.18108 -0.25255 C 0.15747 -0.2919 0.09653 -0.26088 0.07448 -0.31065 C 0.05243 -0.36042 0.0066 -0.50555 0.04879 -0.55139 C 0.09098 -0.59722 0.24879 -0.58403 0.32778 -0.58588 C 0.40677 -0.58773 0.46059 -0.59282 0.52292 -0.56227 C 0.58525 -0.53171 0.65643 -0.43912 0.70191 -0.40301 C 0.7474 -0.3669 0.78924 -0.36736 0.79549 -0.34491 C 0.80174 -0.32245 0.79219 -0.28287 0.73907 -0.26759 C 0.68594 -0.25231 0.53993 -0.25463 0.47622 -0.25255 C 0.4125 -0.25046 0.39792 -0.25532 0.35677 -0.25463 C 0.31563 -0.25393 0.24948 -0.2743 0.22934 -0.24815 C 0.2092 -0.22199 0.22986 -0.14421 0.23577 -0.09768 C 0.24167 -0.05116 0.26007 0.00347 0.26493 0.03148 C 0.26979 0.05949 0.26927 0.0544 0.26493 0.07014 C 0.26059 0.08588 0.24341 0.11088 0.23907 0.12593 C 0.23473 0.14097 0.23577 0.15139 0.23907 0.16042 C 0.24236 0.16945 0.23716 0.17917 0.25834 0.17986 C 0.27952 0.18056 0.35417 0.17384 0.3665 0.16482 C 0.37882 0.15579 0.34306 0.14097 0.33264 0.12593 C 0.32223 0.11088 0.30695 0.09144 0.30365 0.07431 C 0.30035 0.05718 0.30035 0.03056 0.3132 0.02269 C 0.32604 0.01482 0.36632 0.02199 0.38108 0.02708 C 0.39584 0.03218 0.40434 0.0456 0.40191 0.05278 C 0.39948 0.05995 0.37535 0.06551 0.3665 0.07014 C 0.35764 0.07477 0.34983 0.07292 0.34879 0.08079 C 0.34775 0.08866 0.35209 0.10278 0.36007 0.11736 C 0.36806 0.13195 0.38143 0.16366 0.39705 0.16898 C 0.41268 0.17431 0.44931 0.15625 0.45365 0.14954 C 0.45799 0.14282 0.43507 0.13264 0.42292 0.12824 C 0.41077 0.12384 0.38924 0.12986 0.38108 0.12384 C 0.37292 0.11782 0.3665 0.10301 0.37448 0.09167 C 0.38247 0.08032 0.41372 0.0662 0.42934 0.05509 C 0.44497 0.04398 0.45573 0.02431 0.46806 0.025 C 0.48038 0.0257 0.50157 0.04421 0.50365 0.05926 C 0.50573 0.07431 0.48316 0.09838 0.48108 0.11528 C 0.479 0.13218 0.48386 0.15718 0.49063 0.16042 C 0.4974 0.16366 0.5165 0.15162 0.52136 0.13449 C 0.52622 0.11736 0.51372 0.07546 0.51962 0.05718 C 0.52552 0.03889 0.55104 0.01759 0.55677 0.025 C 0.5625 0.03241 0.55608 0.0831 0.55365 0.10232 C 0.55122 0.12153 0.53993 0.12894 0.54236 0.14097 C 0.54479 0.15301 0.55764 0.17963 0.56806 0.17546 C 0.57848 0.1713 0.59236 0.13796 0.60521 0.11528 C 0.61806 0.09259 0.62848 0.04931 0.64549 0.04005 C 0.6625 0.03079 0.70434 0.0507 0.70677 0.05926 C 0.7092 0.06782 0.67466 0.0794 0.66007 0.09167 C 0.64549 0.10394 0.62413 0.11852 0.61962 0.13241 C 0.61511 0.1463 0.62518 0.17292 0.63264 0.17546 C 0.64011 0.17801 0.66111 0.15718 0.66493 0.14745 C 0.66875 0.13773 0.66198 0.12755 0.65521 0.11736 E">
                                      <p:cBhvr>
                                        <p:cTn id="6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_x000e_ppt_temp_2.jpg                                                 0003AA2C_x0006_40 gig                         B5E1B1D7:"/>
          <p:cNvPicPr/>
          <p:nvPr/>
        </p:nvPicPr>
        <p:blipFill>
          <a:blip r:embed="rId1"/>
          <a:srcRect l="0" t="0" r="87017" b="828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79280" y="157320"/>
            <a:ext cx="877572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DASER Proble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412920" y="2462040"/>
            <a:ext cx="86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ed a much faster computer to do the (DASER) op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t need more optics to make a faster compu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&#9;title.jpg                                                      0003AA2C_x0006_40 gig                         B5E1B1D7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arallelogram 7"/>
          <p:cNvSpPr/>
          <p:nvPr/>
        </p:nvSpPr>
        <p:spPr>
          <a:xfrm>
            <a:off x="3068640" y="1566720"/>
            <a:ext cx="1684440" cy="408240"/>
          </a:xfrm>
          <a:prstGeom prst="parallelogram">
            <a:avLst>
              <a:gd name="adj" fmla="val 3944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49120" y="3336840"/>
            <a:ext cx="87757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Oval 8"/>
          <p:cNvGrpSpPr/>
          <p:nvPr/>
        </p:nvGrpSpPr>
        <p:grpSpPr>
          <a:xfrm>
            <a:off x="4956120" y="1620720"/>
            <a:ext cx="122400" cy="79560"/>
            <a:chOff x="4956120" y="1620720"/>
            <a:chExt cx="122400" cy="79560"/>
          </a:xfrm>
        </p:grpSpPr>
        <p:pic>
          <p:nvPicPr>
            <p:cNvPr id="95" name="Oval 8" descr=""/>
            <p:cNvPicPr/>
            <p:nvPr/>
          </p:nvPicPr>
          <p:blipFill>
            <a:blip r:embed="rId2"/>
            <a:stretch/>
          </p:blipFill>
          <p:spPr>
            <a:xfrm>
              <a:off x="4956120" y="1620720"/>
              <a:ext cx="12240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978440" y="1639800"/>
              <a:ext cx="777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ectangle 6"/>
          <p:cNvSpPr/>
          <p:nvPr/>
        </p:nvSpPr>
        <p:spPr>
          <a:xfrm>
            <a:off x="3181320" y="1528920"/>
            <a:ext cx="15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DA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42920" y="2855880"/>
            <a:ext cx="8775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he Budg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&amp; The Schedu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_x000e_ppt_temp_2.jpg                                                 0003AA2C_x0006_40 gig                         B5E1B1D7:"/>
          <p:cNvPicPr/>
          <p:nvPr/>
        </p:nvPicPr>
        <p:blipFill>
          <a:blip r:embed="rId1"/>
          <a:srcRect l="0" t="0" r="87017" b="828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62000" y="1189080"/>
            <a:ext cx="877572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</a:rPr>
              <a:t>Thanking the Sponsors: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</a:rPr>
              <a:t>Holospex Inc. _ Optic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</a:rPr>
              <a:t>IEEE _ Gain materia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&#9;title.jpg                                                      0003AA2C_x0006_40 gig                         B5E1B1D7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arallelogram 7"/>
          <p:cNvSpPr/>
          <p:nvPr/>
        </p:nvSpPr>
        <p:spPr>
          <a:xfrm>
            <a:off x="3068640" y="1566720"/>
            <a:ext cx="1684440" cy="408240"/>
          </a:xfrm>
          <a:prstGeom prst="parallelogram">
            <a:avLst>
              <a:gd name="adj" fmla="val 3944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49120" y="3336840"/>
            <a:ext cx="87757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Oval 8"/>
          <p:cNvGrpSpPr/>
          <p:nvPr/>
        </p:nvGrpSpPr>
        <p:grpSpPr>
          <a:xfrm>
            <a:off x="4956120" y="1620720"/>
            <a:ext cx="122400" cy="79560"/>
            <a:chOff x="4956120" y="1620720"/>
            <a:chExt cx="122400" cy="79560"/>
          </a:xfrm>
        </p:grpSpPr>
        <p:pic>
          <p:nvPicPr>
            <p:cNvPr id="107" name="Oval 8" descr=""/>
            <p:cNvPicPr/>
            <p:nvPr/>
          </p:nvPicPr>
          <p:blipFill>
            <a:blip r:embed="rId2"/>
            <a:stretch/>
          </p:blipFill>
          <p:spPr>
            <a:xfrm>
              <a:off x="4956120" y="1620720"/>
              <a:ext cx="12240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978440" y="1639800"/>
              <a:ext cx="777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Rectangle 6"/>
          <p:cNvSpPr/>
          <p:nvPr/>
        </p:nvSpPr>
        <p:spPr>
          <a:xfrm>
            <a:off x="3181320" y="1528920"/>
            <a:ext cx="15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DA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1337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fidential - Do Not Loo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42920" y="2855880"/>
            <a:ext cx="8775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omputing in Optics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9:05:05Z</dcterms:created>
  <dc:creator>ashok krishnamoorthy</dc:creator>
  <dc:description/>
  <dc:language>en-US</dc:language>
  <cp:lastModifiedBy>ashok krishnamoorthy</cp:lastModifiedBy>
  <dcterms:modified xsi:type="dcterms:W3CDTF">2013-03-02T23:02:41Z</dcterms:modified>
  <cp:revision>14</cp:revision>
  <dc:subject/>
  <dc:title>Slide 1</dc:title>
</cp:coreProperties>
</file>